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F48-7C11-4909-A8A1-FE25EAC22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F0E-EC02-42D9-B355-D24AB6E85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B20-B773-4FBE-9A05-5A13D492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974-2650-474E-8BC8-61506FF3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7A6-B5EA-4502-BB3E-57925419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496-5BD9-4B81-BF3E-77CC70E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9CA-0638-4702-9415-E44671EC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C4D-8D1C-4F83-8A6A-A14B11E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98F-0956-42A0-89A5-FA35813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91A-F5B1-4E6F-AB04-78BD6A1B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BEF-1F60-48D3-BE5F-8CE49DD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FAB-06B3-4E90-8F6D-22BB66D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30B-BB74-42CD-BF29-58FD2D1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E87-83B8-4667-A4C9-7771160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FEA-D618-4987-A8FD-9A87BF790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google.com.ua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905120" y="1905120"/>
            <a:ext cx="595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елика буква в назвах міст, сіл, річок, вулиц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59560" y="1411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країнська м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914400" y="2362320"/>
            <a:ext cx="686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/www.google.com.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/pedsovet.su/load/321-10-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57320" y="1752480"/>
            <a:ext cx="8838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700" spc="-1" strike="noStrike">
                <a:solidFill>
                  <a:srgbClr val="000000"/>
                </a:solidFill>
                <a:latin typeface="Arial"/>
              </a:rPr>
              <a:t>З великої букви пишуться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4724280"/>
            <a:ext cx="413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ізвища, імені, по - батьк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404040" y="4724280"/>
            <a:ext cx="19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ич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ва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1752480" y="2819520"/>
            <a:ext cx="137160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6248520" y="2819520"/>
            <a:ext cx="838080" cy="167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803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514600" y="457200"/>
            <a:ext cx="43466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700" spc="-1" strike="noStrike">
                <a:solidFill>
                  <a:srgbClr val="000000"/>
                </a:solidFill>
                <a:latin typeface="Arial"/>
              </a:rPr>
              <a:t>Пригадайте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map1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823480" y="22860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ворчий 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8720" y="979560"/>
            <a:ext cx="75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Запишіть ряд слів і назв їх одним сло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2520" y="1905120"/>
            <a:ext cx="7322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вген, Мар'яна, Олеся, Гнат – ц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евченко, Франко, Забіла – ц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еменович, Іванівна, Степанович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ірка, Орлик, Гавчик, Нявчик – ц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7392600" y="190512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і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706800" y="289548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прізв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588360" y="4343400"/>
            <a:ext cx="25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по - батьк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943240" y="5486400"/>
            <a:ext cx="28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клички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2502360" y="146160"/>
            <a:ext cx="424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идактична 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 знаю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190600" y="1047600"/>
            <a:ext cx="4762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2190600" y="1047600"/>
            <a:ext cx="4762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8677"/>
          <p:cNvPicPr/>
          <p:nvPr/>
        </p:nvPicPr>
        <p:blipFill>
          <a:blip r:embed="rId2"/>
          <a:stretch/>
        </p:blipFill>
        <p:spPr>
          <a:xfrm>
            <a:off x="2590920" y="1600200"/>
            <a:ext cx="3181320" cy="22273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2190600" y="1047600"/>
            <a:ext cx="47628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20080808143955"/>
          <p:cNvPicPr/>
          <p:nvPr/>
        </p:nvPicPr>
        <p:blipFill>
          <a:blip r:embed="rId3"/>
          <a:stretch/>
        </p:blipFill>
        <p:spPr>
          <a:xfrm>
            <a:off x="0" y="1066680"/>
            <a:ext cx="2471760" cy="275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729789"/>
          <p:cNvPicPr/>
          <p:nvPr/>
        </p:nvPicPr>
        <p:blipFill>
          <a:blip r:embed="rId4"/>
          <a:stretch/>
        </p:blipFill>
        <p:spPr>
          <a:xfrm>
            <a:off x="5867280" y="1219320"/>
            <a:ext cx="3276720" cy="2590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8"/>
          <p:cNvSpPr/>
          <p:nvPr/>
        </p:nvSpPr>
        <p:spPr>
          <a:xfrm>
            <a:off x="687960" y="37339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507480" y="37339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7012440" y="3686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2062440" y="4343400"/>
            <a:ext cx="5080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обака – Шарик, Барс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Котик – Рижик, Мур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Корова – Берізка, Ряб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94880" y="380880"/>
            <a:ext cx="39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ворч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4120" y="1219320"/>
            <a:ext cx="441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собак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коров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кобил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кози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лисиці (хто?)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8880" y="114300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цуц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59960" y="22860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8520" y="33526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о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258880" y="441972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з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258880" y="5486400"/>
            <a:ext cx="16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ис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зви міст, сіл, річок, пишуться з великої бу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0_4cb4e_1e89b1ad_orig"/>
          <p:cNvPicPr/>
          <p:nvPr/>
        </p:nvPicPr>
        <p:blipFill>
          <a:blip r:embed="rId2"/>
          <a:stretch/>
        </p:blipFill>
        <p:spPr>
          <a:xfrm>
            <a:off x="5181480" y="16765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photo-5985"/>
          <p:cNvPicPr/>
          <p:nvPr/>
        </p:nvPicPr>
        <p:blipFill>
          <a:blip r:embed="rId3"/>
          <a:stretch/>
        </p:blipFill>
        <p:spPr>
          <a:xfrm>
            <a:off x="304920" y="1676520"/>
            <a:ext cx="4038480" cy="268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9753658f410753786d6f2242a8e09a8b97b2dedb_32"/>
          <p:cNvPicPr/>
          <p:nvPr/>
        </p:nvPicPr>
        <p:blipFill>
          <a:blip r:embed="rId4"/>
          <a:stretch/>
        </p:blipFill>
        <p:spPr>
          <a:xfrm>
            <a:off x="3048120" y="41911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908360" y="228600"/>
            <a:ext cx="61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ра “Знайди зайве слово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72120" y="1665360"/>
            <a:ext cx="139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ні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ес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9040" y="42670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80320" y="1676520"/>
            <a:ext cx="23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іла Цер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ар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79240" y="426708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404040" y="1600200"/>
            <a:ext cx="216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астівс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огін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уй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478920" y="419112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264692534_slgg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41360" y="396720"/>
            <a:ext cx="87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'єднай частини висловів, щоб утворилися правильні твердж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17280" y="441972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16920" y="365760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15840" y="2819520"/>
            <a:ext cx="11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і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17640" y="19051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улиц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254480" y="181764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193640" y="274320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ур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270320" y="358128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257000" y="440856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огдана Хмельниць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438280" y="2209680"/>
            <a:ext cx="175284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 flipV="1">
            <a:off x="2057400" y="2971440"/>
            <a:ext cx="213372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V="1">
            <a:off x="1981080" y="2133360"/>
            <a:ext cx="2133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 flipV="1">
            <a:off x="2209680" y="3886200"/>
            <a:ext cx="1981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6-11-05T16:20:24Z</dcterms:modified>
  <cp:revision>4</cp:revision>
  <dc:subject/>
  <dc:title>Велика бук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