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301-5ACD-4486-ACA5-C2669D7E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939-F9A8-44E0-B822-B16E19E0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628-E38C-4D41-BD06-9B76BF8B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6C6-C0CE-4873-B031-624148F2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847-FE46-42AF-8258-A471F658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7F6-324C-47B0-92DC-9E445A57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917-3C09-40AF-8E51-79B64D96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E6E-A87A-4D7F-8D13-849E23F9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E1E-0FFB-4CB4-8133-AD9FE136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8A5-FF7C-4596-B191-D2695DC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9F0-2A6B-4A3C-811B-2E92D90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463-F9B2-4D48-8AD4-670B79B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660F-55B6-41F2-A6C3-827F5805B6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Презентація з досвіду </a:t>
            </a:r>
            <a:br>
              <a:rPr sz="6000"/>
            </a:b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роботи вчителя </a:t>
            </a:r>
            <a:br>
              <a:rPr sz="6000"/>
            </a:b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початкових класів </a:t>
            </a:r>
            <a:br>
              <a:rPr sz="6000"/>
            </a:br>
            <a:r>
              <a:rPr b="1" lang="uk-UA" sz="6000" spc="-1" strike="noStrike">
                <a:solidFill>
                  <a:srgbClr val="660066"/>
                </a:solidFill>
                <a:latin typeface="Monotype Corsiva"/>
              </a:rPr>
              <a:t>Житушкіної А.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Тема,над якою працює вчит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Monotype Corsiva"/>
              </a:rPr>
              <a:t>Формування життєвих компетентностей на уроках  української  мови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30a0"/>
                </a:solidFill>
                <a:latin typeface="Times New Roman"/>
              </a:rPr>
              <a:t>Компетентнісний підхід у навчанні й вихованні дітей молодшого шкільного ві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380880" y="1295280"/>
            <a:ext cx="3200400" cy="1600200"/>
          </a:xfrm>
          <a:prstGeom prst="rect">
            <a:avLst/>
          </a:prstGeom>
          <a:solidFill>
            <a:srgbClr val="ffff66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лючові компетентності (міжпредметні, універсальні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5105520" y="1371600"/>
            <a:ext cx="3047760" cy="1600200"/>
          </a:xfrm>
          <a:prstGeom prst="rect">
            <a:avLst/>
          </a:prstGeom>
          <a:solidFill>
            <a:srgbClr val="ffff66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едметні компетент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2057400" y="3200400"/>
            <a:ext cx="4952880" cy="2971800"/>
          </a:xfrm>
          <a:prstGeom prst="rect">
            <a:avLst/>
          </a:prstGeom>
          <a:solidFill>
            <a:srgbClr val="ffff66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н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м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вички                                         Зда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освід                                             успіш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влення                                      ді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собистніс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8"/>
          <p:cNvCxnSpPr/>
          <p:nvPr/>
        </p:nvCxnSpPr>
        <p:spPr>
          <a:xfrm>
            <a:off x="4114800" y="4572000"/>
            <a:ext cx="991440" cy="216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arrow" w="med"/>
          </a:ln>
        </p:spPr>
      </p:cxnSp>
      <p:cxnSp>
        <p:nvCxnSpPr>
          <p:cNvPr id="85" name="Прямая со стрелкой 10"/>
          <p:cNvCxnSpPr>
            <a:stCxn id="81" idx="2"/>
          </p:cNvCxnSpPr>
          <p:nvPr/>
        </p:nvCxnSpPr>
        <p:spPr>
          <a:xfrm>
            <a:off x="1980000" y="2895120"/>
            <a:ext cx="381960" cy="22932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arrow" w="med"/>
          </a:ln>
        </p:spPr>
      </p:cxnSp>
      <p:cxnSp>
        <p:nvCxnSpPr>
          <p:cNvPr id="86" name="Прямая со стрелкой 14"/>
          <p:cNvCxnSpPr/>
          <p:nvPr/>
        </p:nvCxnSpPr>
        <p:spPr>
          <a:xfrm flipH="1">
            <a:off x="6476400" y="2970720"/>
            <a:ext cx="533880" cy="153000"/>
          </a:xfrm>
          <a:prstGeom prst="straightConnector1">
            <a:avLst/>
          </a:prstGeom>
          <a:ln w="9360">
            <a:solidFill>
              <a:srgbClr val="d3441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Завдання моєї робо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http://allreferat.com.ua/content/mal2/%D0%96%D0%B8%D1%82%D1%82%D1%94%D0%B2%D1%96%20%D0%BA%D0%BE%D0%BC%D0%BF%D0%B5%D1%82%D0%B5%D0%BD%D1%82%D0%BD%D0%BE%D1%81%D1%82%D1%96.jpg"/>
          <p:cNvPicPr/>
          <p:nvPr/>
        </p:nvPicPr>
        <p:blipFill>
          <a:blip r:embed="rId1"/>
          <a:stretch/>
        </p:blipFill>
        <p:spPr>
          <a:xfrm>
            <a:off x="838080" y="1905120"/>
            <a:ext cx="784872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Методи навчанн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1219320" y="1523880"/>
            <a:ext cx="2895480" cy="205740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дуктивн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ивчений мовний матеріал застосовується в мовленнєвій практиці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5334120" y="1676520"/>
            <a:ext cx="3047760" cy="190476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7"/>
          <p:cNvSpPr/>
          <p:nvPr/>
        </p:nvSpPr>
        <p:spPr>
          <a:xfrm>
            <a:off x="5410080" y="3809880"/>
            <a:ext cx="2971800" cy="190512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4"/>
          <p:cNvSpPr/>
          <p:nvPr/>
        </p:nvSpPr>
        <p:spPr>
          <a:xfrm>
            <a:off x="1371600" y="4038480"/>
            <a:ext cx="3048120" cy="1828800"/>
          </a:xfrm>
          <a:prstGeom prst="ellipse">
            <a:avLst/>
          </a:pr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1828800" y="4267080"/>
            <a:ext cx="2133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 усвідомлює проблему і знаходить шляхи її вирішенн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5562720" y="1981080"/>
            <a:ext cx="27432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вристичні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б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астково-пошуков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ремі елементи нових знань учень знаходить завдяки розв'язанню пізнавальних завдан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5410080" y="4114800"/>
            <a:ext cx="28195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активн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ктивна взаємодія всіх учнів, під час якої кожний школяр осмислює свою діяльність, відчуває свою успішніс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Прийоми та вправ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хема 3" descr=""/>
          <p:cNvPicPr/>
          <p:nvPr/>
        </p:nvPicPr>
        <p:blipFill>
          <a:blip r:embed="rId1"/>
          <a:stretch/>
        </p:blipFill>
        <p:spPr>
          <a:xfrm>
            <a:off x="450720" y="1609560"/>
            <a:ext cx="82425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Monotype Corsiva"/>
              </a:rPr>
              <a:t>Розділ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Візитна карт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3880" y="41148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Вчитель І категор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Стаж роботи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13 рок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12952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Вчитель початкових клас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Чугуївськ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загальноосвітньої шк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i="1" lang="uk-UA" sz="2800" spc="-1" strike="noStrike">
                <a:solidFill>
                  <a:srgbClr val="000000"/>
                </a:solidFill>
                <a:latin typeface="Monotype Corsiva"/>
              </a:rPr>
              <a:t>І-ІІІ ступенів №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Така дісталась вже нам ро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Є в ній і радість, та є й турбо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Є вічний пошук, безсонні ночі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Та гріють душу дитячі оч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Н. П. Уткі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Житушкіна Аліна Володимирі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905120" y="193824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Життєве кредо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8840" y="10666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Мети досягає т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хто її праг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648320" y="17524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Педагогічне кредо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1760" y="3733920"/>
            <a:ext cx="74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Мій життєвий принцип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105520" y="23623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ожливо примусити людину щось зробити – треба допомогти  їй  захотіти зробити 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2057400" y="4483080"/>
            <a:ext cx="609588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Ніколи не зупиняюсь на досягнут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«Стався до людей так, як хочеш, щоб ставил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Monotype Corsiva"/>
              </a:rPr>
              <a:t>до тебе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Monotype Corsiva"/>
              </a:rPr>
              <a:t>Розділ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28191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Осві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660066"/>
                </a:solidFill>
                <a:latin typeface="Monotype Corsiva"/>
              </a:rPr>
              <a:t>Вища педагогіч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2189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Харківський  державний педагогічний університ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ім . Г.С.Сковород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Харківський педагогічний колед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33520" y="2514600"/>
            <a:ext cx="4724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660066"/>
                </a:solidFill>
                <a:uFillTx/>
                <a:latin typeface="Monotype Corsiva"/>
              </a:rPr>
              <a:t>Факультет:</a:t>
            </a:r>
            <a:r>
              <a:rPr b="1" lang="uk-UA" sz="2400" spc="-1" strike="noStrike">
                <a:solidFill>
                  <a:srgbClr val="660066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початкове навчанн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990720" y="3581280"/>
            <a:ext cx="396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660066"/>
                </a:solidFill>
                <a:uFillTx/>
                <a:latin typeface="Monotype Corsiva"/>
              </a:rPr>
              <a:t>Віддлення:</a:t>
            </a: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денне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990720" y="4724280"/>
            <a:ext cx="4114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 u="sng">
                <a:solidFill>
                  <a:srgbClr val="660066"/>
                </a:solidFill>
                <a:uFillTx/>
                <a:latin typeface="Monotype Corsiva"/>
              </a:rPr>
              <a:t>Спеціальність</a:t>
            </a:r>
            <a:r>
              <a:rPr b="1" lang="uk-UA" sz="2800" spc="-1" strike="noStrike">
                <a:solidFill>
                  <a:srgbClr val="660066"/>
                </a:solidFill>
                <a:latin typeface="Monotype Corsiva"/>
              </a:rPr>
              <a:t>:</a:t>
            </a: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Monotype Corsiva"/>
              </a:rPr>
              <a:t>початкове нав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G:\Учитель року\Житушкина\диплом2.jpg"/>
          <p:cNvPicPr/>
          <p:nvPr/>
        </p:nvPicPr>
        <p:blipFill>
          <a:blip r:embed="rId1"/>
          <a:srcRect l="15956" t="4255" r="16439" b="60808"/>
          <a:stretch/>
        </p:blipFill>
        <p:spPr>
          <a:xfrm>
            <a:off x="4114800" y="26668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G:\Учитель року\Житушкина\диплом2.jpg"/>
          <p:cNvPicPr/>
          <p:nvPr/>
        </p:nvPicPr>
        <p:blipFill>
          <a:blip r:embed="rId2"/>
          <a:srcRect l="14113" t="45461" r="16427" b="20871"/>
          <a:stretch/>
        </p:blipFill>
        <p:spPr>
          <a:xfrm>
            <a:off x="5334120" y="4419720"/>
            <a:ext cx="312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Курсова підготовка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G:\Учитель року\Житушкина\посвідчення.jpg"/>
          <p:cNvPicPr/>
          <p:nvPr/>
        </p:nvPicPr>
        <p:blipFill>
          <a:blip r:embed="rId1"/>
          <a:srcRect l="6690" t="2303" r="5107" b="53107"/>
          <a:stretch/>
        </p:blipFill>
        <p:spPr>
          <a:xfrm>
            <a:off x="4583160" y="1687680"/>
            <a:ext cx="2046240" cy="166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G:\Учитель року\Житушкина\сертифікати.jpg"/>
          <p:cNvPicPr/>
          <p:nvPr/>
        </p:nvPicPr>
        <p:blipFill>
          <a:blip r:embed="rId2"/>
          <a:stretch/>
        </p:blipFill>
        <p:spPr>
          <a:xfrm>
            <a:off x="609480" y="1371600"/>
            <a:ext cx="198144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G:\Учитель року\Житушкина\сертифікати2.jpg"/>
          <p:cNvPicPr/>
          <p:nvPr/>
        </p:nvPicPr>
        <p:blipFill>
          <a:blip r:embed="rId3"/>
          <a:stretch/>
        </p:blipFill>
        <p:spPr>
          <a:xfrm>
            <a:off x="4572000" y="137160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:\Учитель року\Житушкина\сертифікати3.jpg"/>
          <p:cNvPicPr/>
          <p:nvPr/>
        </p:nvPicPr>
        <p:blipFill>
          <a:blip r:embed="rId4"/>
          <a:srcRect l="48895" t="0" r="0" b="0"/>
          <a:stretch/>
        </p:blipFill>
        <p:spPr>
          <a:xfrm>
            <a:off x="6705720" y="137160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G:\Учитель року\Житушкина\сертифікати3.jpg"/>
          <p:cNvPicPr/>
          <p:nvPr/>
        </p:nvPicPr>
        <p:blipFill>
          <a:blip r:embed="rId5"/>
          <a:srcRect l="0" t="51112" r="0" b="0"/>
          <a:stretch/>
        </p:blipFill>
        <p:spPr>
          <a:xfrm>
            <a:off x="1905120" y="42670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:\Учитель року\Житушкина\сертифікат 6.jpg"/>
          <p:cNvPicPr/>
          <p:nvPr/>
        </p:nvPicPr>
        <p:blipFill>
          <a:blip r:embed="rId6"/>
          <a:srcRect l="7606" t="4449" r="0" b="5562"/>
          <a:stretch/>
        </p:blipFill>
        <p:spPr>
          <a:xfrm>
            <a:off x="2666880" y="137160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G:\Учитель року\Житушкина\посвідчення.jpg"/>
          <p:cNvPicPr/>
          <p:nvPr/>
        </p:nvPicPr>
        <p:blipFill>
          <a:blip r:embed="rId7"/>
          <a:srcRect l="4150" t="0" r="2625" b="51112"/>
          <a:stretch/>
        </p:blipFill>
        <p:spPr>
          <a:xfrm>
            <a:off x="5105520" y="42670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Monotype Corsiva"/>
              </a:rPr>
              <a:t>Грамо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G:\Учитель року\Житушкина\11.jpg"/>
          <p:cNvPicPr/>
          <p:nvPr/>
        </p:nvPicPr>
        <p:blipFill>
          <a:blip r:embed="rId1"/>
          <a:stretch/>
        </p:blipFill>
        <p:spPr>
          <a:xfrm>
            <a:off x="830160" y="1600200"/>
            <a:ext cx="329256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G:\Учитель року\Житушкина\13.jpg"/>
          <p:cNvPicPr/>
          <p:nvPr/>
        </p:nvPicPr>
        <p:blipFill>
          <a:blip r:embed="rId2"/>
          <a:stretch/>
        </p:blipFill>
        <p:spPr>
          <a:xfrm>
            <a:off x="5021280" y="1600200"/>
            <a:ext cx="329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Monotype Corsiva"/>
              </a:rPr>
              <a:t>Розділ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Monotype Corsiva"/>
              </a:rPr>
              <a:t>Методична скринь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/>
  <dc:description/>
  <dc:language>en-US</dc:language>
  <cp:lastModifiedBy>RePack by Diakov</cp:lastModifiedBy>
  <dcterms:modified xsi:type="dcterms:W3CDTF">2016-11-09T17:04:43Z</dcterms:modified>
  <cp:revision>48</cp:revision>
  <dc:subject/>
  <dc:title>Презентація з досвіду  роботи вчителя  початкових класів  Бондаренко Н.М.</dc:title>
</cp:coreProperties>
</file>