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531-B6A5-4855-BA06-27767C87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92A-6A46-4D1D-B0FB-4E10F8CA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12C-BA5D-4375-98B9-FAD4E366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7FE-0AC2-43E4-BBEE-92F0FA7E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1E3-0E78-4A0A-A932-391C6315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88C-9909-4FD6-915F-2652BABF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422-E067-49AB-BC28-D295AA89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417-96F8-40AE-9E91-6847DA59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FF4-6659-4EC9-9AE9-93D65DE0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3E2-A3CC-4861-8518-A35D741F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3BD-43EC-47C3-8D49-BB2F604F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D51-B056-4CC5-96E9-716BF241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64A7-025B-4178-807A-8CC827FD0C82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КОНЦЕПЦІЯ ЗАКОНОПРОЕКТУ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«ПРО ОСВІТ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йназарова О.О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упник начальника управління освіти і науки Департаменту науки і освіти Х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7. УПРАВЛІННЯ СИСТЕМОЮ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А. Формування державної політики у сфері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В. Повноваження Кабінету Міністрів України у сфері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С. Повноваження центрального органу виконавчої влади з формування та забезпечення реалізації державної політики у сфері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овноваження місцевих органів виконавчої вл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овноваження органів влади Автономної Республіки Крим, обласних рад, Київської та Севастопольської міських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овноваження районних рад, міських рад (міст обласного підпорядкуван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овноваження районних у містах рад, міських рад (міст районного підпорядкування), сільських, селищних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Правовий статус громадських органів з питань осві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ціональна комісія регулювання освіти, Експертний інститут, експертні комісі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ержавна інспекці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Громадське самоврядування у сфері осві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тя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ержавно-приватне партнер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тя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оціальне партне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Асоціації закладів осві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ЗАБЕЗПЕЧЕННЯ ЯКОСТІ ОСВІ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Ліцензування та стандарти освітньої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В. Освітні про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С. Акредитація освітніх прог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Моніторинг якості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E. Незалежне оцінювання результатів навчання і кваліфікац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F. Сертифікація педагогічних праців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ЗДІЛ 9. ОСВІТА І КВАЛІФІКА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Національна система кваліфікацій (поняття та зв'язок з освіто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Національна рамка кваліфікаці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 Державний реєстр освітніх кваліфікаці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ДІЛ 10. МАТЕРІАЛЬНЕ ТА СОЦІАЛЬНО-ПОБУТОВЕ ЗАБЕЗПЕЧЕННЯ ПЕДАГОГІЧНИХ І НАУКОВО-ПЕДАГОГІЧНИХ ПРАЦІВНИКІ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А. Державні гарантії педагогічним і науково-педагогічним праців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В. Оплата праці педагогічних і науково-педагогічних праців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С. Соціальні гарантії педагогічних і науково-педагогічних працівників на випадок втрати працездат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D. Матеріальне заохочення і соціально-побутові пільги і педагогічних і науково-педагогічних працівників, які працюють у сільській місцевості і селищах міського ти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. ДОШКІЛЬНА ОСВІ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Мета і завдання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Дошкільний ві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истема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инципи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Форми здобуття дошкільної осв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Державний стандарт дошкіль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G. Освітні програми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безпечення якості дошкіль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клади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Автономія закладу дошкіль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ЗАГАЛЬНА СЕРЕДНЯ ОСВІ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А. Мета і завдання загальної середньої осві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Структура і тривалість повної загальної середньої осві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С. Форми здобуття повної загальної середньої осві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Державний стандарт загальної середнь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Освітні програми повної загальної середньої осві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безпечення якості загальної середнь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Ліцензування освітньої діяльності у сфері загальної середньої осві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Акредитація освітніх програм загальної середнь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клади загальної середнь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Автономія закладу загальної середньої осві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фесійна орієнтація у закладах середньої осві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С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 ОСВІ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Мета і завдання професій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труктура професій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Форми здобуття професійної осві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тандарти професій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безпечення якості професій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Ліцензування освітньої діяльності у сфері професійної осв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Акредитація освітніх програм професій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клади професій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Автономія закладу професій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часть роботодавців, їх організацій та о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днань у розвитку професійн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. ВИЩА ОСВІТА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Мета і завдання вищ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Рівні вищ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С. Форми здобуття вищ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Державні стандарти вищ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безпечення якості вищ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Ліцензування освітньої діяльності у сфері вищої осв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Акредитація освітніх програм вищої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клади вищ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Автономія закладу вищ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Наукова діяльність закладів вищ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15. ОСВІТА (НАВЧАННЯ) ОСІБ З ОСОБЛИВИМИ ОСВІТНІМИ ПОТРЕБА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Забезпечення доступу до освіти особам з особливими потре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Інтеграція осіб з обмеженнями життєдіяльності в загальноосвітній простір та інклюзивне навч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пеціальні заклади освіти для осіб з особливими потре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Організація освіти засуджених та осіб, узятих під варт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окрема – у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есійно-технічних закладах соціальної адаптації при установах виконання покара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Особливості реалізації освітніх програм та діяльності закладів освіти, що працюють  в інтересах оборони, національної безпеки,  забезпечення законності і правопоряд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Особливості організації духовної осв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16. ОСВІТА УПРОДОВЖ ЖИТТ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Державна політика для забезпечення освітніх потреб особ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даткова осві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Позашкільна осві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С. Мета і завдання позашкіль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Форми здобуття позашкіль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безпечення якості позашкіль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клад позашкіль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Позашкільна освіта в закладах загальної середнь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Післядипломна освіта. Мета і завдання позашкіль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Форми здобуття післядиплом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безпечення якості післядиплом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Заклад післядиплом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Післядипломна освіта у закладах вищої і професійної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Освіта доросл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Ліцензування освітньої діяльності у сфері додаткової освіти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Акредитація освітніх програм додаткової освіти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ЛІЗ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РОБЛЕМ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ОСВІ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якісних показників масової освіти, перш за все середньої та вищої, при збереженні відносно високого рівня профільної освіти в частині навчальних заклад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рив системи освіти від потреб ринку прац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конкурентоздатності освіти у європейському та світовому освітньому простор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17. НАУКОВЕ І МЕТОДИЧНЕ ЗАБЕЗПЕЧЕННЯ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Завдання наукового і методичного забезпечення осві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Здійснення наукового і методичного забезпечення осві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Участь діячів науки в освітньому процесі      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Наукова та інноваційна діяльність у системі вищої освіти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Фінансування наукових досліджень у сфері та для сфери освіти 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ІНФРАСТРУКТУРА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А. Інформаційні ресурси для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В. Бібліотеки для системи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С. Інформаційні системи в осві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D. Освітня стати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F. Дослідження системи освіти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G. Забезпечення права приватності в осві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ЕКОНОМІКА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А. Джерела фінансування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В. Державне фінансування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С. Благодійні організації в системі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D. Матеріальна база закладу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Фінансова автономія закладу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МІЖНАРОДНЕ СПІВРОБІТНИЦТВО В СИСТЕМІ ОСВІ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А. Стимулювання міжнародного співробітництва закладів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В. Участь у міжнародних обстеженнях якості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С. Міжнародні обміни для осіб, що навчаю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D. Міжнародні обміни для осіб, що навчаю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Міжнародні обміни для наукових працівни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ття F. Участь закладів освіти у міжнародних програ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ОШКІЛЬНА ОСВІ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тою дошкільної освіти є виховання, фізичний, інтелектуальний та психоемоційний розвиток дитини, набуття певних життєвих компетентностей.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Але дошкільна освіта не повинна виконувати завдання, які входять до освітніх програм початкової осві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ошкільна освіта здобувається до віку 6-7 років. Дитина віком 7 років має здобувати початкову освіту.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Передбачити норму: дитина має йти до початкової школи 1-го вересня після виповнення їй 6 років. Дошкільна освіта має здобуватися за місцем проживання дитини у закладі освіти, в сім’ї або шляхом надання освітніх послуг педагогами -  суб’єктами підприємницької діяльності у сфері осві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ГАЛЬНА СЕРЕДНЯ ОСВІ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Diagram 12"/>
          <p:cNvGrpSpPr/>
          <p:nvPr/>
        </p:nvGrpSpPr>
        <p:grpSpPr>
          <a:xfrm>
            <a:off x="-88200" y="2133360"/>
            <a:ext cx="9018360" cy="3698640"/>
            <a:chOff x="-88200" y="2133360"/>
            <a:chExt cx="9018360" cy="3698640"/>
          </a:xfrm>
        </p:grpSpPr>
        <p:sp>
          <p:nvSpPr>
            <p:cNvPr id="91" name="_s1028"/>
            <p:cNvSpPr/>
            <p:nvPr/>
          </p:nvSpPr>
          <p:spPr>
            <a:xfrm flipV="1">
              <a:off x="-87840" y="5091480"/>
              <a:ext cx="9018360" cy="739800"/>
            </a:xfrm>
            <a:custGeom>
              <a:avLst/>
              <a:gdLst>
                <a:gd name="textAreaLeft" fmla="*/ 1231560 w 9018360"/>
                <a:gd name="textAreaRight" fmla="*/ 7786800 w 9018360"/>
                <a:gd name="textAreaTop" fmla="*/ 100800 h 739800"/>
                <a:gd name="textAreaBottom" fmla="*/ 63900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ошкільна осві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29"/>
            <p:cNvSpPr/>
            <p:nvPr/>
          </p:nvSpPr>
          <p:spPr>
            <a:xfrm flipV="1">
              <a:off x="812880" y="4351680"/>
              <a:ext cx="7215120" cy="739800"/>
            </a:xfrm>
            <a:custGeom>
              <a:avLst/>
              <a:gdLst>
                <a:gd name="textAreaLeft" fmla="*/ 1085400 w 7215120"/>
                <a:gd name="textAreaRight" fmla="*/ 6129720 w 7215120"/>
                <a:gd name="textAreaTop" fmla="*/ 111240 h 739800"/>
                <a:gd name="textAreaBottom" fmla="*/ 62856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чаткова осві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0"/>
            <p:cNvSpPr/>
            <p:nvPr/>
          </p:nvSpPr>
          <p:spPr>
            <a:xfrm flipV="1">
              <a:off x="1714680" y="3611880"/>
              <a:ext cx="5411520" cy="739800"/>
            </a:xfrm>
            <a:custGeom>
              <a:avLst/>
              <a:gdLst>
                <a:gd name="textAreaLeft" fmla="*/ 939240 w 5411520"/>
                <a:gd name="textAreaRight" fmla="*/ 4472280 w 5411520"/>
                <a:gd name="textAreaTop" fmla="*/ 128160 h 739800"/>
                <a:gd name="textAreaBottom" fmla="*/ 61164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азова середня осві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1"/>
            <p:cNvSpPr/>
            <p:nvPr/>
          </p:nvSpPr>
          <p:spPr>
            <a:xfrm flipV="1">
              <a:off x="2617200" y="2873160"/>
              <a:ext cx="3606840" cy="739440"/>
            </a:xfrm>
            <a:custGeom>
              <a:avLst/>
              <a:gdLst>
                <a:gd name="textAreaLeft" fmla="*/ 793080 w 3606840"/>
                <a:gd name="textAreaRight" fmla="*/ 2813760 w 3606840"/>
                <a:gd name="textAreaTop" fmla="*/ 162360 h 739440"/>
                <a:gd name="textAreaBottom" fmla="*/ 577080 h 73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вна загаль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ередня осві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2"/>
            <p:cNvSpPr/>
            <p:nvPr/>
          </p:nvSpPr>
          <p:spPr>
            <a:xfrm flipV="1">
              <a:off x="3519000" y="2133000"/>
              <a:ext cx="1803240" cy="739800"/>
            </a:xfrm>
            <a:custGeom>
              <a:avLst/>
              <a:gdLst>
                <a:gd name="textAreaLeft" fmla="*/ 646920 w 1803240"/>
                <a:gd name="textAreaRight" fmla="*/ 1156320 w 1803240"/>
                <a:gd name="textAreaTop" fmla="*/ 265320 h 739800"/>
                <a:gd name="textAreaBottom" fmla="*/ 47448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Organization Chart 6"/>
          <p:cNvGrpSpPr/>
          <p:nvPr/>
        </p:nvGrpSpPr>
        <p:grpSpPr>
          <a:xfrm>
            <a:off x="0" y="0"/>
            <a:ext cx="9142560" cy="6856920"/>
            <a:chOff x="0" y="0"/>
            <a:chExt cx="9142560" cy="6856920"/>
          </a:xfrm>
        </p:grpSpPr>
        <p:cxnSp>
          <p:nvCxnSpPr>
            <p:cNvPr id="97" name="_s2052"/>
            <p:cNvCxnSpPr>
              <a:stCxn id="98" idx="2"/>
              <a:endCxn id="99" idx="3"/>
            </p:cNvCxnSpPr>
            <p:nvPr/>
          </p:nvCxnSpPr>
          <p:spPr>
            <a:xfrm rot="10800000">
              <a:off x="2691720" y="1245960"/>
              <a:ext cx="965160" cy="5052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00" name="_s2053"/>
            <p:cNvCxnSpPr>
              <a:stCxn id="101" idx="2"/>
              <a:endCxn id="99" idx="3"/>
            </p:cNvCxnSpPr>
            <p:nvPr/>
          </p:nvCxnSpPr>
          <p:spPr>
            <a:xfrm rot="10800000">
              <a:off x="2691720" y="1245960"/>
              <a:ext cx="965160" cy="318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02" name="_s2054"/>
            <p:cNvCxnSpPr>
              <a:stCxn id="103" idx="2"/>
              <a:endCxn id="99" idx="3"/>
            </p:cNvCxnSpPr>
            <p:nvPr/>
          </p:nvCxnSpPr>
          <p:spPr>
            <a:xfrm rot="10800000">
              <a:off x="2691720" y="1245960"/>
              <a:ext cx="965160" cy="13122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99" name="_s2055"/>
            <p:cNvSpPr/>
            <p:nvPr/>
          </p:nvSpPr>
          <p:spPr>
            <a:xfrm>
              <a:off x="0" y="0"/>
              <a:ext cx="5485680" cy="1246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Повна загальн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ередня осві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56"/>
            <p:cNvSpPr/>
            <p:nvPr/>
          </p:nvSpPr>
          <p:spPr>
            <a:xfrm>
              <a:off x="3656880" y="1869840"/>
              <a:ext cx="5485680" cy="1246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кадемічний ти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57"/>
            <p:cNvSpPr/>
            <p:nvPr/>
          </p:nvSpPr>
          <p:spPr>
            <a:xfrm>
              <a:off x="3656880" y="3740040"/>
              <a:ext cx="5485680" cy="1246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валіфікований робітник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8"/>
            <p:cNvSpPr/>
            <p:nvPr/>
          </p:nvSpPr>
          <p:spPr>
            <a:xfrm>
              <a:off x="3656880" y="5610240"/>
              <a:ext cx="5485680" cy="1246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Молодший спеціаліс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ми завданнями позашкільної освіти є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доволення потреб особистості у творчій самореалізації, розвитку інтересів, здібностей та обдарува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либлення знань, виявлення, підтримка та розвиток обдарованих і талановитих особист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ння системи ціннісних орієнтаці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ення професійного самовизначення, підготовка до активної професійної та громадської життєдія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я вільного часу, забезпечення змістовного дозвіл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філактика правопорушень, бездоглядності та безпритульност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шти отримувача послуг або інших джерел не заборонених законодав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РОФЕСІЙНА ОСВІ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о на здобуття професійної освіти за кошти Державного чи місцевих бюджетів надається особі лише один раз. Можливе повторне надання такого права службою зайнятості у разі втрати робочого місц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жливий конкурсний порядок доступу осіб до професійної освіти, в т.ч. за результатами загальнодержавного кваліфікаційного оцінювання. Таке оцінювання може бути передбачено розділом про середню осві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ПРАВЛІННЯ СИСТЕМОЮ ОСВІТ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ерховна Рада України: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визначення освітньої політи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Кабінет Міністрів України: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затвердження державних стандартів освіти, реалізація державної політики у сфері осві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Міністерство: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управління системою вищої та професійної освіти. Організація розробки державних стандартів освіти, реалізація державної політики у сфері осві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Національне агентство забезпечення якості вищої освіти: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Повноваження відповідно до закону «Про вищу освіту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Експертний інститут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: розробка державних стандартів освіти (крім вищої),  експертна допомога МОНУ в питаннях змісту осві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Територіальні громади (село, селище, місто)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відповідають за забезпечення дошкільної та початкової  осві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Районні ради, міські ради міст обласного значення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відповідають за забезпечення базової середньої  осві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Обласні ради, РМ АРК, міські ради Києва і Севастополя: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відповідають за забезпечення повної загальної середньої  осві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МЕТА І ЗАВДАННЯ РЕФОРМУВАННЯ ОСВІТНЬОГО ЗАКОНОДАВ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ення конституційного права громадян на якісну освіту на всіх рівнях; створення умов для освіти особи упродовж жит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езпечення високої якості освіти на основі об’єктивного моніторингу результатів освітньої діяльності і справедливої конкуренції в системі осві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ення належного з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зку між ринком праці та системою професійної та вищої осві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ведення структури освіти у відповідність до міжнародних стандар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Розділ 1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ГАЛЬНІ ПОЛОЖЕНН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. Сфера дії Закону. Мета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і термі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. Види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и здобуття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Принципи освітньої діяль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жавна політика у сфері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ва у сфері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Структура системи осв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’єкти правовідносин у сфері освіт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діл 2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О-ПРАВОВЕ ЗАБЕЗПЕЧЕННЯ ОСВІТНЬОЇ ДІЯЛЬНОСТІ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А. Законодавство про о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В. Підзаконні нормативно-правові акти в сфері осві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3. СТРУКТУРА ОСВІТИ. ДОКУМЕНТИ ПРО ОСВІТ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Структура освіти. Освітні рівні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Документи про осві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зділ 4. ПРАВО НА ОСВІ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А. Зміст права на осві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В. Право на здобуття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С. Рівність умов доступу до осві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безоплатну осві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дошкільну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середню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позашкільну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професійну (в т.ч. професійно-технічну )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вищу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аво на додаткову освіту (в т.ч. позашкільну, післядипломну, освіту доросли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о на освітню дія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діл 5. ПРАВА І ОБОВ’ЯЗКИ У СФЕРІ ОСВІТ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А. Права і обов’язки осіб, які здобувають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В. Права і обов’язки батьків, законних представників осіб, які здобувають осві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С. Права і обов’язки осіб, які здійснюють освітню діяльність (надають освітні послу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Компетенція, права, обов’язки та відповідальність суб’єктів господарювання, які надають освітні по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Права і обов’язки суб’єктів владних повноваж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атт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Об’єднання суб’єктів підприємницької діяльності, які надають освітні по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зділ 6. ЗАКЛАДИ ОСВІ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А. Державні і комунальні заклади освіти (навчальні заклад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В. Приватні заклади освіти (навчальні заклад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аття С. Взаємодія закладів осві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17:48:09Z</dcterms:created>
  <dc:creator>Елена Байназарова</dc:creator>
  <dc:description/>
  <dc:language>en-US</dc:language>
  <cp:lastModifiedBy>Пользователь</cp:lastModifiedBy>
  <dcterms:modified xsi:type="dcterms:W3CDTF">2015-05-01T08:50:3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