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9D8-9117-43EC-B523-E959CF8E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1A2-B9E9-4D5F-9154-9728D5D7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0DD-BD5D-4BF5-AD5C-017CBE5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94A-67AA-4EF6-9E43-967F5AB0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47B-0CF6-4425-865A-3A93AF0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ACD-CE0F-4049-B232-841BC1AD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146-74E0-49F1-95AA-69C7956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D97-F25D-410A-BBF1-A0308DEE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0C3-DF9D-40A4-9ADB-BFA23218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6B1-38C1-4C92-B301-BA6494B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456-0075-45C0-84F9-0D92967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7B3-9E75-4335-B66E-9159D55A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D2EE-93CD-4C50-8D79-912308DCA45E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ОНЦЕПЦІЯ ЗАКОНОПРОЕКТУ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«ПРО ОСВІТ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йназарова О.О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упник начальника управління освіти і науки Департаменту науки і освіти 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7. УПРАВЛІННЯ СИСТЕМОЮ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А. Формування державної політик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В. Повноваження Кабінету Міністрів Україн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С. Повноваження центрального органу виконавчої влади з формування та забезпечення реалізації державної політик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місцевих органів виконавчої в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органів влади Автономної Республіки Крим, обласних рад, Київської та Севастопольської міських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районних рад, міських рад (міст обласного підпорядкува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районних у містах рад, міських рад (міст районного підпорядкування), сільських, селищних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равовий статус громадських органів з питань осві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ціональна комісія регулювання освіти, Експертний інститут, експертні комісі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ржавна інспекц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Громадське самоврядування у сфері осві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т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ержавно-приватне партне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т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ціальне партне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Асоціації закладів осві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ЗАБЕЗПЕЧЕННЯ ЯКОСТІ ОСВ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Ліцензування та стандарти освітнь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Освітні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Акредитація освітніх пр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Моніторинг якост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E. Незалежне оцінювання результатів навчання і кваліфікац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F. Сертифікація педагогічних праців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9. ОСВІТА І КВАЛІФІК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Національна система кваліфікацій (поняття та зв'язок з освіто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Національна рамка кваліфіка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Державний реєстр освітніх кваліфіка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ДІЛ 10. МАТЕРІАЛЬНЕ ТА СОЦІАЛЬНО-ПОБУТОВЕ ЗАБЕЗПЕЧЕННЯ ПЕДАГОГІЧНИХ І НАУКОВО-ПЕДАГОГІЧНИХ ПРАЦІВНИ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А. Державні гарантії педагогічним і науково-педагогічним праців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Оплата праці педагогічних і науково-педагогічних праців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Соціальні гарантії педагогічних і науково-педагогічних працівників на випадок втрати працездат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D. Матеріальне заохочення і соціально-побутові пільги і педагогічних і науково-педагогічних працівників, які працюють у сільській місцевості і селищах міського ти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 ДОШКІЛЬНА ОСВІ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ошкільний ві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истема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инцип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Форми здобуття дошкільн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ержавний стандарт дошкіль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G. Освітні програм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дошкіль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лад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ЗАГАЛЬНА СЕРЕДНЯ ОСВІ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А. Мета і завдання загальної середнь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Структура і тривалість повної загальної середньої осві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С. Форми здобуття повної загальної середньої осві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Державний стандарт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вітні програми повної загальної середнь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загальної середньої осві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и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втономія закладу загальної середньої осві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фесійна орієнтація у закладах середньої осві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С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 ОСВІ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руктура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Форми здобуття професійної осві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андарти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професійн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клади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асть роботодавців, їх організацій та 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днань у розвитку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. ВИЩА ОСВІТА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Рівні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Форми здобуття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ержавні стандарти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вищ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клади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аукова діяльність закладів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5. ОСВІТА (НАВЧАННЯ) ОСІБ З ОСОБЛИВИМИ ОСВІТНІМИ ПОТРЕБ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доступу до освіти особам з особливими потре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Інтеграція осіб з обмеженнями життєдіяльності в загальноосвітній простір та інклюзивне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пеціальні заклади освіти для осіб з особливими потре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рганізація освіти засуджених та осіб, узятих під варт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окрема – у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технічних закладах соціальної адаптації при установах виконання покар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собливості реалізації освітніх програм та діяльності закладів освіти, що працюють  в інтересах оборони, національної безпеки,  забезпечення законності і правопоря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собливості організації духов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6. ОСВІТА УПРОДОВЖ ЖИТТ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Державна політика для забезпечення освітніх потреб особ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даткова осві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озашкільна осві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С. Мета і завданн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Форми здобутт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озашкільна освіта в закладах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іслядипломна освіта. Мета і завданн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Форми здобуття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іслядипломна освіта у закладах вищої і професій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віта доросл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додаткової освіт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додаткової освіт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ІЗ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РОБЛЕ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ОСВІ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якісних показників масової освіти, перш за все середньої та вищої, при збереженні відносно високого рівня профільної освіти в частині навчальних заклад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рив системи освіти від потреб ринку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конкурентоздатності освіти у європейському та світовому освітньому прост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7. НАУКОВЕ І МЕТОДИЧНЕ ЗАБЕЗПЕЧЕННЯ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Завдання наукового і методичного забезпечення 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Здійснення наукового і методичного забезпечення осві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Участь діячів науки в освітньому процесі      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Наукова та інноваційна діяльність у системі вищої осві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Фінансування наукових досліджень у сфері та для сфери освіти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ІНФРАСТРУКТУРА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Інформаційні ресурси дл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Бібліотеки для системи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Інформаційні системи в о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D. Освітня стат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F. Дослідження системи освіт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G. Забезпечення права приватності в о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ЕКОНОМІКА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Джерела фінансуванн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Державне фінансуванн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Благодійні організації в системі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D. Матеріальна база закладу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Фінансова автономія закладу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МІЖНАРОДНЕ СПІВРОБІТНИЦТВО В СИСТЕМІ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А. Стимулювання міжнародного співробітництва закладів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Участь у міжнародних обстеженнях якост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Міжнародні обміни для осіб, що навчаю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D. Міжнародні обміни для осіб, що навчаю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Міжнародні обміни для наукових праців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F. Участь закладів освіти у міжнародних програ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ШКІЛЬНА ОСВІ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тою дошкільної освіти є виховання, фізичний, інтелектуальний та психоемоційний розвиток дитини, набуття певних життєвих компетентностей.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Але дошкільна освіта не повинна виконувати завдання, які входять до освітніх програм початкової осві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ошкільна освіта здобувається до віку 6-7 років. Дитина віком 7 років має здобувати початкову освіту.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Передбачити норму: дитина має йти до початкової школи 1-го вересня після виповнення їй 6 років. Дошкільна освіта має здобуватися за місцем проживання дитини у закладі освіти, в сім’ї або шляхом надання освітніх послуг педагогами -  суб’єктами підприємницької діяльності у сфері осві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А СЕРЕДНЯ ОСВІ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Diagram 12"/>
          <p:cNvGrpSpPr/>
          <p:nvPr/>
        </p:nvGrpSpPr>
        <p:grpSpPr>
          <a:xfrm>
            <a:off x="-88200" y="2133360"/>
            <a:ext cx="9018360" cy="3698640"/>
            <a:chOff x="-88200" y="2133360"/>
            <a:chExt cx="9018360" cy="3698640"/>
          </a:xfrm>
        </p:grpSpPr>
        <p:sp>
          <p:nvSpPr>
            <p:cNvPr id="91" name="_s1028"/>
            <p:cNvSpPr/>
            <p:nvPr/>
          </p:nvSpPr>
          <p:spPr>
            <a:xfrm flipV="1">
              <a:off x="-87840" y="5091480"/>
              <a:ext cx="9018360" cy="739800"/>
            </a:xfrm>
            <a:custGeom>
              <a:avLst/>
              <a:gdLst>
                <a:gd name="textAreaLeft" fmla="*/ 1231560 w 9018360"/>
                <a:gd name="textAreaRight" fmla="*/ 7786800 w 901836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ошкільна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 flipV="1">
              <a:off x="812880" y="4351680"/>
              <a:ext cx="7215120" cy="739800"/>
            </a:xfrm>
            <a:custGeom>
              <a:avLst/>
              <a:gdLst>
                <a:gd name="textAreaLeft" fmla="*/ 1085400 w 7215120"/>
                <a:gd name="textAreaRight" fmla="*/ 6129720 w 721512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чаткова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 flipV="1">
              <a:off x="1714680" y="3611880"/>
              <a:ext cx="5411520" cy="739800"/>
            </a:xfrm>
            <a:custGeom>
              <a:avLst/>
              <a:gdLst>
                <a:gd name="textAreaLeft" fmla="*/ 939240 w 5411520"/>
                <a:gd name="textAreaRight" fmla="*/ 4472280 w 541152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азова середня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 flipV="1">
              <a:off x="2617200" y="2873160"/>
              <a:ext cx="3606840" cy="739440"/>
            </a:xfrm>
            <a:custGeom>
              <a:avLst/>
              <a:gdLst>
                <a:gd name="textAreaLeft" fmla="*/ 793080 w 3606840"/>
                <a:gd name="textAreaRight" fmla="*/ 2813760 w 3606840"/>
                <a:gd name="textAreaTop" fmla="*/ 162360 h 739440"/>
                <a:gd name="textAreaBottom" fmla="*/ 57708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на загаль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редня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3519000" y="2133000"/>
              <a:ext cx="1803240" cy="739800"/>
            </a:xfrm>
            <a:custGeom>
              <a:avLst/>
              <a:gdLst>
                <a:gd name="textAreaLeft" fmla="*/ 646920 w 1803240"/>
                <a:gd name="textAreaRight" fmla="*/ 1156320 w 1803240"/>
                <a:gd name="textAreaTop" fmla="*/ 265320 h 739800"/>
                <a:gd name="textAreaBottom" fmla="*/ 4744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Organization Chart 6"/>
          <p:cNvGrpSpPr/>
          <p:nvPr/>
        </p:nvGrpSpPr>
        <p:grpSpPr>
          <a:xfrm>
            <a:off x="0" y="0"/>
            <a:ext cx="9142560" cy="6856920"/>
            <a:chOff x="0" y="0"/>
            <a:chExt cx="9142560" cy="6856920"/>
          </a:xfrm>
        </p:grpSpPr>
        <p:cxnSp>
          <p:nvCxnSpPr>
            <p:cNvPr id="97" name="_s2052"/>
            <p:cNvCxnSpPr>
              <a:stCxn id="98" idx="2"/>
              <a:endCxn id="99" idx="3"/>
            </p:cNvCxnSpPr>
            <p:nvPr/>
          </p:nvCxnSpPr>
          <p:spPr>
            <a:xfrm rot="10800000">
              <a:off x="2691720" y="1245960"/>
              <a:ext cx="965160" cy="5052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0" name="_s2053"/>
            <p:cNvCxnSpPr>
              <a:stCxn id="101" idx="2"/>
              <a:endCxn id="99" idx="3"/>
            </p:cNvCxnSpPr>
            <p:nvPr/>
          </p:nvCxnSpPr>
          <p:spPr>
            <a:xfrm rot="10800000">
              <a:off x="2691720" y="1245960"/>
              <a:ext cx="965160" cy="318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2" name="_s2054"/>
            <p:cNvCxnSpPr>
              <a:stCxn id="103" idx="2"/>
              <a:endCxn id="99" idx="3"/>
            </p:cNvCxnSpPr>
            <p:nvPr/>
          </p:nvCxnSpPr>
          <p:spPr>
            <a:xfrm rot="10800000">
              <a:off x="2691720" y="1245960"/>
              <a:ext cx="965160" cy="1312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9" name="_s2055"/>
            <p:cNvSpPr/>
            <p:nvPr/>
          </p:nvSpPr>
          <p:spPr>
            <a:xfrm>
              <a:off x="0" y="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овна загаль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едня осві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3656880" y="18698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кадемічний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7"/>
            <p:cNvSpPr/>
            <p:nvPr/>
          </p:nvSpPr>
          <p:spPr>
            <a:xfrm>
              <a:off x="3656880" y="37400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валіфікований робітник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8"/>
            <p:cNvSpPr/>
            <p:nvPr/>
          </p:nvSpPr>
          <p:spPr>
            <a:xfrm>
              <a:off x="3656880" y="56102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Молодший спеціаліс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ми завданнями позашкільної освіти є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оволення потреб особистості у творчій самореалізації, розвитку інтересів, здібностей та обдарува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блення знань, виявлення, підтримка та розвиток обдарованих і талановитих особист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системи ціннісних орієнтаці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професійного самовизначення, підготовка до активної професійної та громадської життє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вільного часу, забезпечення змістовного дозвіл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ілактика правопорушень, бездоглядності та безпритуль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шти отримувача послуг або інших джерел не заборонених законодав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ОФЕСІЙНА ОСВІ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 на здобуття професійної освіти за кошти Державного чи місцевих бюджетів надається особі лише один раз. Можливе повторне надання такого права службою зайнятості у разі втрати робочого місц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жливий конкурсний порядок доступу осіб до професійної освіти, в т.ч. за результатами загальнодержавного кваліфікаційного оцінювання. Таке оцінювання може бути передбачено розділом про середню осві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НЯ СИСТЕМОЮ ОСВІ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ерховна Рада України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изначення освітньої політи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Кабінет Міністрів України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затвердження державних стандартів освіти, реалізація державної політики у сфері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іністерство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управління системою вищої та професійної освіти. Організація розробки державних стандартів освіти, реалізація державної політики у сфері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Національне агентство забезпечення якості вищої освіти: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овноваження відповідно до закону «Про вищу освіту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Експертний інститут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: розробка державних стандартів освіти (крім вищої),  експертна допомога МОНУ в питаннях змісту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ериторіальні громади (село, селище, місто)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дошкільної та початков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айонні ради, міські ради міст обласного значе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базової середнь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бласні ради, РМ АРК, міські ради Києва і Севастополя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повної загальної середнь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ЕТА І ЗАВДАННЯ РЕФОРМУВАННЯ ОСВІТНЬОГО ЗАКОНОДА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ення конституційного права громадян на якісну освіту на всіх рівнях; створення умов для освіти особи упродовж жи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ення високої якості освіти на основі об’єктивного моніторингу результатів освітньої діяльності і справедливої конкуренції в системі осві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ення належного з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ку між ринком праці та системою професійної та вищої осві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ведення структури освіти у відповідність до міжнародних стандар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діл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ГАЛЬНІ ПОЛОЖЕНН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. Сфера дії Закону. Мета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термі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. Види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и здобуття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Принципи освітньої дія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авна політика у сфер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а у сфер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Структура системи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’єкти правовідносин у сфері освіт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ПРАВОВЕ ЗАБЕЗПЕЧЕННЯ ОСВІТНЬОЇ ДІЯЛЬНОСТІ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Законодавство про о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Підзаконні нормативно-правові акти в сфері осв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3. СТРУКТУРА ОСВІТИ. ДОКУМЕНТИ ПРО ОСВІТ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Структура освіти. Освітні рівні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Документи про осві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4. ПРАВО НА ОСВІ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А. Зміст права на осві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В. Право на здобуття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Рівність умов доступу до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безоплатну осві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дошкільн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середню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позашкільн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професійну (в т.ч. професійно-технічну )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вищ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во на додаткову освіту (в т.ч. позашкільну, післядипломну, освіту доросли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освітню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5. ПРАВА І ОБОВ’ЯЗКИ У СФЕРІ ОСВІТ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А. Права і обов’язки осіб, які здобувають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В. Права і обов’язки батьків, законних представників осіб, які здобувають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Права і обов’язки осіб, які здійснюють освітню діяльність (надають освітні послу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Компетенція, права, обов’язки та відповідальність суб’єктів господарювання, які надають освітні по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а і обов’язки суб’єктів владних повноваж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б’єднання суб’єктів підприємницької діяльності, які надають освітні по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діл 6. ЗАКЛАДИ ОСВІ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Державні і комунальні заклади освіти (навчальні закла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Приватні заклади освіти (навчальні закла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Взаємодія закладів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7:48:09Z</dcterms:created>
  <dc:creator>Елена Байназарова</dc:creator>
  <dc:description/>
  <dc:language>en-US</dc:language>
  <cp:lastModifiedBy>Пользователь</cp:lastModifiedBy>
  <dcterms:modified xsi:type="dcterms:W3CDTF">2015-05-01T08:50:3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