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6.jpeg" ContentType="image/jpeg"/>
  <Override PartName="/ppt/media/image3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12.wmf" ContentType="image/x-wmf"/>
  <Override PartName="/ppt/media/image17.wmf" ContentType="image/x-wmf"/>
  <Override PartName="/ppt/media/image22.jpeg" ContentType="image/jpeg"/>
  <Override PartName="/ppt/media/image9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sz="1800" spc="-1" strike="noStrike">
                <a:solidFill>
                  <a:srgbClr val="000000"/>
                </a:solidFill>
                <a:latin typeface="Calibri"/>
              </a:rPr>
              <a:t>МОНІТОРИНГ РІВНЯ ВИХОВАНОСТІ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ИЗЬКИЙ РІВЕНЬ</c:v>
                </c:pt>
              </c:strCache>
            </c:strRef>
          </c:tx>
          <c:spPr>
            <a:solidFill>
              <a:srgbClr val="4672a8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ЕРЕДНІЙ РІВЕНЬ</c:v>
                </c:pt>
              </c:strCache>
            </c:strRef>
          </c:tx>
          <c:spPr>
            <a:solidFill>
              <a:srgbClr val="ab4744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28</c:v>
                </c:pt>
                <c:pt idx="1">
                  <c:v>0.36</c:v>
                </c:pt>
                <c:pt idx="2">
                  <c:v>0.1</c:v>
                </c:pt>
                <c:pt idx="3">
                  <c:v>0</c:v>
                </c:pt>
                <c:pt idx="4">
                  <c:v>0.1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ОСТАТНІЙ РІВЕНЬ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0.63</c:v>
                </c:pt>
                <c:pt idx="1">
                  <c:v>0.44</c:v>
                </c:pt>
                <c:pt idx="2">
                  <c:v>0.29</c:v>
                </c:pt>
                <c:pt idx="3">
                  <c:v>0.58</c:v>
                </c:pt>
                <c:pt idx="4">
                  <c:v>0.6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ВИСОКИЙ РІВЕНЬ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5"/>
                <c:pt idx="0">
                  <c:v>0.28</c:v>
                </c:pt>
                <c:pt idx="1">
                  <c:v>0.2</c:v>
                </c:pt>
                <c:pt idx="2">
                  <c:v>0.61</c:v>
                </c:pt>
                <c:pt idx="3">
                  <c:v>0.42</c:v>
                </c:pt>
                <c:pt idx="4">
                  <c:v>0.22</c:v>
                </c:pt>
              </c:numCache>
            </c:numRef>
          </c:val>
        </c:ser>
        <c:gapWidth val="100"/>
        <c:overlap val="0"/>
        <c:axId val="54246807"/>
        <c:axId val="93943232"/>
      </c:barChart>
      <c:lineChart>
        <c:grouping val="standard"/>
        <c:varyColors val="0"/>
        <c:ser>
          <c:idx val="4"/>
          <c:order val="4"/>
          <c:tx>
            <c:strRef>
              <c:f>label 4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7e0021"/>
            </a:solidFill>
            <a:ln w="28800">
              <a:solidFill>
                <a:srgbClr val="7e0021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5"/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54246807"/>
        <c:axId val="93943232"/>
      </c:lineChart>
      <c:catAx>
        <c:axId val="5424680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943232"/>
        <c:crosses val="autoZero"/>
        <c:auto val="1"/>
        <c:lblAlgn val="ctr"/>
        <c:lblOffset val="100"/>
        <c:noMultiLvlLbl val="0"/>
      </c:catAx>
      <c:valAx>
        <c:axId val="9394323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246807"/>
        <c:crosses val="autoZero"/>
        <c:crossBetween val="between"/>
      </c:valAx>
      <c:spPr>
        <a:noFill/>
        <a:ln w="9360">
          <a:solidFill>
            <a:srgbClr val="878787"/>
          </a:solidFill>
          <a:round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ИЗЬКИЙ РІВЕНЬ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0.15</c:v>
                </c:pt>
                <c:pt idx="1">
                  <c:v>0.04</c:v>
                </c:pt>
                <c:pt idx="2">
                  <c:v>0.33</c:v>
                </c:pt>
                <c:pt idx="3">
                  <c:v>0.06</c:v>
                </c:pt>
                <c:pt idx="4">
                  <c:v>0.15</c:v>
                </c:pt>
                <c:pt idx="5">
                  <c:v>0.36</c:v>
                </c:pt>
                <c:pt idx="6">
                  <c:v>0.28</c:v>
                </c:pt>
                <c:pt idx="7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ЕРЕДНІЙ РІВЕНЬ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0.4</c:v>
                </c:pt>
                <c:pt idx="1">
                  <c:v>0.52</c:v>
                </c:pt>
                <c:pt idx="2">
                  <c:v>0.26</c:v>
                </c:pt>
                <c:pt idx="3">
                  <c:v>0.06</c:v>
                </c:pt>
                <c:pt idx="4">
                  <c:v>0.74</c:v>
                </c:pt>
                <c:pt idx="5">
                  <c:v>0.36</c:v>
                </c:pt>
                <c:pt idx="6">
                  <c:v>0.72</c:v>
                </c:pt>
                <c:pt idx="7">
                  <c:v>0.66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ОСТАТНІЙ РІВЕНЬ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"/>
                <c:pt idx="0">
                  <c:v>0.1</c:v>
                </c:pt>
                <c:pt idx="1">
                  <c:v>0.34</c:v>
                </c:pt>
                <c:pt idx="2">
                  <c:v>0.08</c:v>
                </c:pt>
                <c:pt idx="3">
                  <c:v>0.82</c:v>
                </c:pt>
                <c:pt idx="4">
                  <c:v>0.07</c:v>
                </c:pt>
                <c:pt idx="5">
                  <c:v>0.08</c:v>
                </c:pt>
                <c:pt idx="6">
                  <c:v>0</c:v>
                </c:pt>
                <c:pt idx="7">
                  <c:v>0.4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ВИСОКИЙ РІВЕНЬ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8"/>
                <c:pt idx="0">
                  <c:v>0.35</c:v>
                </c:pt>
                <c:pt idx="1">
                  <c:v>0.1</c:v>
                </c:pt>
                <c:pt idx="2">
                  <c:v>0.13</c:v>
                </c:pt>
                <c:pt idx="3">
                  <c:v>0.06</c:v>
                </c:pt>
                <c:pt idx="4">
                  <c:v>0.04</c:v>
                </c:pt>
                <c:pt idx="5">
                  <c:v>0.2</c:v>
                </c:pt>
                <c:pt idx="6">
                  <c:v>0</c:v>
                </c:pt>
                <c:pt idx="7">
                  <c:v>0</c:v>
                </c:pt>
              </c:numCache>
            </c:numRef>
          </c:val>
        </c:ser>
        <c:gapWidth val="100"/>
        <c:overlap val="0"/>
        <c:axId val="46336820"/>
        <c:axId val="29111742"/>
      </c:barChart>
      <c:catAx>
        <c:axId val="463368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11742"/>
        <c:crosses val="autoZero"/>
        <c:auto val="1"/>
        <c:lblAlgn val="ctr"/>
        <c:lblOffset val="100"/>
        <c:noMultiLvlLbl val="0"/>
      </c:catAx>
      <c:valAx>
        <c:axId val="29111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.0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36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0"/>
            <a:ext cx="2917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9480" y="1233000"/>
            <a:ext cx="4433760" cy="3326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344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9371160"/>
            <a:ext cx="2917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3816360" y="937080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A16E3-D5EC-4CE9-9CC8-B9AC7B057F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9A171-E4B1-4318-BCDD-DB167B16D6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76E60-4DFB-4223-934B-74CEDBD57A2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72525-2790-481C-ACDF-63206AA1A1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15990-7832-498D-BA85-C1368EC1097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8ED92-969B-474A-9F52-57431295710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59D83-E51B-410F-A086-50541567564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F4144-EB43-46B4-B9B5-6BB1914F99C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75C73-2EC6-42ED-BE57-2D5CD4DB706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3310F-013D-4AD6-A9DB-683CDCB1FD6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64318-9B5B-41CC-8A9A-506C8D595D2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46622-361E-48C4-8416-A81FB27FA9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DB91C-054A-41D9-96DE-56E5C0160C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7F8F6-5F35-466A-B632-931726F4401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8F301-D775-4B9B-B296-C407AC76BA5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F7F45-2D41-45CA-B690-F019CB87CDD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0FA4F-37F8-4366-A7F6-079E3A23274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EB788-859B-4081-B1F2-951390348D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C074B-7177-4F6C-8134-4C2701BF7B1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11CF2-D26C-41FF-84FA-6B3D58CC25B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FA2D0-867B-4C29-8982-9D1E353409B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CC747-049C-4A22-BFF2-6C6B10F3584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7C1C1-E0D9-4134-B962-99F3BE5896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5F8EF-8258-49A6-9AC3-1B7EA66A64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F8CFA-2EBD-499A-BA4F-6FDB618AF4C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3147D-6131-441B-8490-E0825F84114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61AFF-8ADC-439B-9F48-27F29EC43D8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FC342-114B-49BA-B071-4FC253402DB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EDC05-7313-4768-8A9E-C88E40B0131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B329D-64FC-402C-9DD9-1106DA87B28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D169-639D-4A35-AFE9-63A2B918FE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B3DB0-C219-4F40-8B6F-B76B8856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BC10-7F8F-4327-BB8D-BE10D6F5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D166-BC7E-4F62-ACF0-D7CF0B3B0D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8D9FD-625E-4759-88B2-72DC0DE57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9A3DC-51E7-40E3-AB1A-7B8EEBA3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A39AF-553F-4863-BCCC-7FB11FF0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FC98A-FC72-4296-9716-862B2381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9BB6A-7A96-49D7-B4FF-8ECFB986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2B189-E5AF-4A5C-A906-8AEC096F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02D70-BAFE-4E3A-9E2E-BBB001CF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C69E-878D-4476-8A01-865F8FDF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AAF6F-E2D6-4C7E-8367-B6337EB9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711BF-58A3-4AD2-B1F8-5CBFDB95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ADE84-D95F-4CB0-BDC4-89857AB7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966C7-C5EF-4862-B73E-5A7C097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08EE0-9A94-4DDB-88C9-196BB098C6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0A16-8C9E-4A33-8620-9BA7362A12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1824-CEBD-4E0E-9483-46872131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1E34-2C20-4913-9074-EF4622AE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22AB-A439-4E1D-AC30-30E4A790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020C-F929-4BEE-8298-335E8129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6792-491A-4E72-973F-C2751E96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7D9C-CF4E-4C5B-86DA-42C6A1EC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DFB5-9876-4800-AC86-95B4CEC3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EDDF-089F-4D4E-94A5-43F384ED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F65B-641F-4C23-8EE0-234D3132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3A20-791F-477A-A2ED-4380A0D5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8156-E1CB-4123-8B9F-D7945C98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DB6C-152D-40D2-B394-C1A05175A9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AFA5-9C03-4249-9129-65FE3AE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4B38-D021-4E6F-9887-94001774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08B5-A2C2-476E-B71E-4E472DE8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EEAE-43A7-4BE0-B1CC-4AD8CDE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17FB-AB94-45AB-AC47-6E1E288F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E326-35B6-431E-A058-778938EF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B959EC-EBAC-45DA-8E67-493B718A0998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-6480" y="5102280"/>
            <a:ext cx="9153720" cy="1758960"/>
            <a:chOff x="-6480" y="5102280"/>
            <a:chExt cx="9153720" cy="1758960"/>
          </a:xfrm>
        </p:grpSpPr>
        <p:pic>
          <p:nvPicPr>
            <p:cNvPr id="52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372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5105520"/>
              <a:ext cx="914076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4"/>
          <p:cNvGrpSpPr/>
          <p:nvPr/>
        </p:nvGrpSpPr>
        <p:grpSpPr>
          <a:xfrm>
            <a:off x="-6480" y="-6480"/>
            <a:ext cx="9153720" cy="5118120"/>
            <a:chOff x="-6480" y="-6480"/>
            <a:chExt cx="9153720" cy="5118120"/>
          </a:xfrm>
        </p:grpSpPr>
        <p:pic>
          <p:nvPicPr>
            <p:cNvPr id="55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076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59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62" name="Picture 12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65" name="Picture 15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Rectangle 1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69" name="Picture 1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3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9D8F2E-CFF3-4827-A2E9-7ACCBBE345F4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13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116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20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07CE7C-6AF1-482D-9D3A-5F5DB9290E13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000080" y="1000080"/>
            <a:ext cx="721512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a6099"/>
                </a:solidFill>
                <a:latin typeface="Arial Narrow"/>
                <a:ea typeface="Tahoma"/>
              </a:rPr>
              <a:t> </a:t>
            </a:r>
            <a:r>
              <a:rPr b="1" i="1" lang="ru-RU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Зв</a:t>
            </a: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іт директ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щодо функціонування 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Чугуївського ліцею№ 7 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у 2020/2021 навчальному році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та пріоритетні завдання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 на 2021/2022 навчальний рі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Директор ліцею   Л.В. Маланін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uk-UA" sz="4000" spc="-1" strike="noStrike">
                <a:solidFill>
                  <a:srgbClr val="ff0000"/>
                </a:solidFill>
                <a:latin typeface="Franklin Gothic Medium Cond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2133720" y="431640"/>
            <a:ext cx="4960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Результати навчальних досягнень за підсумками 2020/2021 н.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60360" y="1073160"/>
          <a:ext cx="8639280" cy="5713560"/>
        </p:xfrm>
        <a:graphic>
          <a:graphicData uri="http://schemas.openxmlformats.org/drawingml/2006/table">
            <a:tbl>
              <a:tblPr/>
              <a:tblGrid>
                <a:gridCol w="846000"/>
                <a:gridCol w="1092240"/>
                <a:gridCol w="1016280"/>
                <a:gridCol w="471240"/>
                <a:gridCol w="498600"/>
                <a:gridCol w="641160"/>
                <a:gridCol w="527040"/>
                <a:gridCol w="493920"/>
                <a:gridCol w="568440"/>
                <a:gridCol w="529920"/>
                <a:gridCol w="1954440"/>
              </a:tblGrid>
              <a:tr h="26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 на початок ро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 на кінець ро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іш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1224000" y="216000"/>
            <a:ext cx="712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Аналіз рейтингування класів за якістю зна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57120" y="785880"/>
          <a:ext cx="8072640" cy="5554440"/>
        </p:xfrm>
        <a:graphic>
          <a:graphicData uri="http://schemas.openxmlformats.org/drawingml/2006/table">
            <a:tbl>
              <a:tblPr/>
              <a:tblGrid>
                <a:gridCol w="357120"/>
                <a:gridCol w="706680"/>
                <a:gridCol w="1684080"/>
                <a:gridCol w="1930680"/>
                <a:gridCol w="1449360"/>
                <a:gridCol w="1944720"/>
              </a:tblGrid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сний керівни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дній ба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 2020/202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ому роц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кість знань у 2020/2021 навчальному роц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йтингове місц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нко Л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ндаренко М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льчукова А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вєтова О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ременко Г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ступа Н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вілова Т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крут А.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енцер О.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оз О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571680" y="5000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ніторинг якості знань учнів 4-х класів з предметів 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20/2021 навчальний р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31680" y="-76320"/>
            <a:ext cx="615312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928800" y="1500120"/>
          <a:ext cx="750096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500120"/>
                    <a:ext cx="750096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5"/>
          <p:cNvSpPr/>
          <p:nvPr/>
        </p:nvSpPr>
        <p:spPr>
          <a:xfrm>
            <a:off x="31680" y="-76320"/>
            <a:ext cx="616284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285840" y="785880"/>
          <a:ext cx="8429400" cy="54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85880"/>
                    <a:ext cx="84294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8"/>
          <p:cNvSpPr/>
          <p:nvPr/>
        </p:nvSpPr>
        <p:spPr>
          <a:xfrm>
            <a:off x="0" y="47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1728720" y="287280"/>
            <a:ext cx="6335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допрофільного навч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20720" y="1066680"/>
          <a:ext cx="8136000" cy="4005360"/>
        </p:xfrm>
        <a:graphic>
          <a:graphicData uri="http://schemas.openxmlformats.org/drawingml/2006/table">
            <a:tbl>
              <a:tblPr/>
              <a:tblGrid>
                <a:gridCol w="1504800"/>
                <a:gridCol w="1306800"/>
                <a:gridCol w="1274760"/>
                <a:gridCol w="1307880"/>
                <a:gridCol w="1273320"/>
                <a:gridCol w="1468440"/>
              </a:tblGrid>
              <a:tr h="87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9 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рофільні кла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хоп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200320" y="360360"/>
            <a:ext cx="482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профільного навч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20760" y="1131840"/>
          <a:ext cx="7280280" cy="3971880"/>
        </p:xfrm>
        <a:graphic>
          <a:graphicData uri="http://schemas.openxmlformats.org/drawingml/2006/table">
            <a:tbl>
              <a:tblPr/>
              <a:tblGrid>
                <a:gridCol w="1268280"/>
                <a:gridCol w="1194120"/>
                <a:gridCol w="1163520"/>
                <a:gridCol w="1216080"/>
                <a:gridCol w="1182600"/>
                <a:gridCol w="1255680"/>
              </a:tblGrid>
              <a:tr h="60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льна кількі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– 11 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льні кла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охоп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85840" y="785880"/>
            <a:ext cx="8858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ані щодо продовження навчання та працевлашт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ипускників 9-х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7280" y="1627200"/>
          <a:ext cx="8642520" cy="4879800"/>
        </p:xfrm>
        <a:graphic>
          <a:graphicData uri="http://schemas.openxmlformats.org/drawingml/2006/table">
            <a:tbl>
              <a:tblPr/>
              <a:tblGrid>
                <a:gridCol w="1257480"/>
                <a:gridCol w="1207800"/>
                <a:gridCol w="801720"/>
                <a:gridCol w="685800"/>
                <a:gridCol w="428760"/>
                <a:gridCol w="647640"/>
                <a:gridCol w="1035000"/>
                <a:gridCol w="763560"/>
                <a:gridCol w="18147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 випуск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є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вжують навч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навчає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2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клас денної шко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чірня 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ТН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-І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. ак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217" name="TextBox 3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Контроль за здобуттям повної загальної середньої освіти та подальшого навч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96760" y="216000"/>
            <a:ext cx="743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ані щодо продовження навчання та працевлашт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ипускників 11-х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16000" y="936720"/>
          <a:ext cx="8715240" cy="5830920"/>
        </p:xfrm>
        <a:graphic>
          <a:graphicData uri="http://schemas.openxmlformats.org/drawingml/2006/table">
            <a:tbl>
              <a:tblPr/>
              <a:tblGrid>
                <a:gridCol w="1182600"/>
                <a:gridCol w="527040"/>
                <a:gridCol w="922320"/>
                <a:gridCol w="792000"/>
                <a:gridCol w="790920"/>
                <a:gridCol w="661680"/>
                <a:gridCol w="527040"/>
                <a:gridCol w="395280"/>
                <a:gridCol w="658800"/>
                <a:gridCol w="792360"/>
                <a:gridCol w="1054080"/>
                <a:gridCol w="41112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ипускникі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єтьс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вжують одержувати освіт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навчають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 них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ІІІ-ІV р. акр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І-І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. акр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ТН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цевла-штова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працюють, не навчають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ворі та виїхали за межі област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936720" y="216000"/>
            <a:ext cx="68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Підсумки роботи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інклюзивних кла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936720" y="1295280"/>
            <a:ext cx="77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Відповідно до рекомендацій  ІРЦ та згоди батьків у 2020-2021 н. р. 6 дітей ліцею  навчаються в 4 класах з інклюзивною формою навчання (порушення слуху - 1, порушення інтелектуального розвитку-5) педагогічний супровід яких здійснюють вчителі даних класів та 4 асистентів вчите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20720" y="2522520"/>
            <a:ext cx="83660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В роботі з дітьми особливими освітніми потребами були враховані такі принципи педагогічної діяльності, які орієнтовані на інтереси сім’ї, а сам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1) визнання того, що сім’я є елементом стабільності в житті дитини, в той час як педагоги можуть весь час змінювати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2) ефективне співробітництво педагогів з батьками та іншими фахівц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3) регулярний обмін з батьками повною та неупередженою інформацією стосовно їхніх ді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4) розуміння й урахування потреб дітей під час розробки навчальних та інших прогр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5) розуміння унікальності кожної сім’ї, повага до різних методів навчання та виховання дітей, що застосовуються батьк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6) турбота про те, щоб послуги, які надаються родинам, були комплексними, скоординованими, гнучкими, доступними і відповідали потребам кожної роди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31640" y="4680"/>
            <a:ext cx="8568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оціальний захист учасників освітнього проце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03280" y="509760"/>
          <a:ext cx="8354880" cy="5776920"/>
        </p:xfrm>
        <a:graphic>
          <a:graphicData uri="http://schemas.openxmlformats.org/drawingml/2006/table">
            <a:tbl>
              <a:tblPr/>
              <a:tblGrid>
                <a:gridCol w="3235320"/>
                <a:gridCol w="745920"/>
                <a:gridCol w="997200"/>
                <a:gridCol w="1120680"/>
                <a:gridCol w="1120680"/>
                <a:gridCol w="11350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прямок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ік неповнолітніх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сироти, позбавлені батьківського пікл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8840"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йомна р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напівсир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багатодітної род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ліквідаторів на ЧА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-інвалі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936720" y="298440"/>
            <a:ext cx="7305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6080" algn="ctr">
              <a:lnSpc>
                <a:spcPct val="100000"/>
              </a:lnSpc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Пріоритетними завданнями ліцею було  забезпечення прав молоді на здобуття освіти, виконання Закону України “ Про освіту”, “Про загальну середню освіту”</a:t>
            </a:r>
            <a:br>
              <a:rPr sz="2000"/>
            </a:b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тан і розвиток шкільної мереж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58720" y="2733840"/>
          <a:ext cx="8369280" cy="3636720"/>
        </p:xfrm>
        <a:graphic>
          <a:graphicData uri="http://schemas.openxmlformats.org/drawingml/2006/table">
            <a:tbl>
              <a:tblPr/>
              <a:tblGrid>
                <a:gridCol w="1360440"/>
                <a:gridCol w="1563840"/>
                <a:gridCol w="1668600"/>
                <a:gridCol w="1692000"/>
                <a:gridCol w="2084400"/>
              </a:tblGrid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класі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наповнюва-ні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 algn="ctr">
                        <a:lnSpc>
                          <a:spcPct val="86000"/>
                        </a:lnSpc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пущен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28680" y="498600"/>
          <a:ext cx="8529480" cy="5802120"/>
        </p:xfrm>
        <a:graphic>
          <a:graphicData uri="http://schemas.openxmlformats.org/drawingml/2006/table">
            <a:tbl>
              <a:tblPr/>
              <a:tblGrid>
                <a:gridCol w="3301920"/>
                <a:gridCol w="762120"/>
                <a:gridCol w="1019160"/>
                <a:gridCol w="1144440"/>
                <a:gridCol w="1144800"/>
                <a:gridCol w="115704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іти воїнів АТ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П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малозабезпечених сім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неблагополучні род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девіантною поведінк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одиноких матер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плені безкоштовним гарячим харчуванням за кошти міського бюдж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indent="-10008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ана матеріальна допомога з фонду загальнообов’язкового навч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 0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 2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ані новорічні подарун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соток учнів, що залучені до позакласної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857160" y="642960"/>
            <a:ext cx="78580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1378080" y="144360"/>
            <a:ext cx="6399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харчування учні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03280" y="863640"/>
            <a:ext cx="79912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85880" y="928800"/>
            <a:ext cx="7143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езкоштовне харчування учнів 1-4-х класів –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езкоштовне харчування учнів 5-11-х класів – 1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Харчування за кошти батьків -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ГПД – 100%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5-11 класи - 86%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уфетна продукція –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1143000" y="274680"/>
            <a:ext cx="779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079640" y="201600"/>
            <a:ext cx="7632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Робота з профілактики правопорушень та інших негативних прояві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 учнівському середовищі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60360" y="1368360"/>
            <a:ext cx="8567640" cy="55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У ліцеї створено умови щодо запобігання в учнівському середовищі будь-яких проявів насильства, з метою проведення інформаційно – роз’яснювальної роботи серед дітей із протидії правопорушенням, булінгу, торгівлі людьми, бродяжництву протягом року проведено профілактичні захо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Цикл тренінгових занять «Чому зникають ді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Цикл бесід «Як спілкуватись  з незнайомця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Індивідуальні бесіди з дітьми , які опинились у складних життєвих обставинах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Всеукраїнський урок «Закон – мій дру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Рейд «Ур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Уроки відвертого спілкування «Викресли булін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У закладі освіти створена і діє Рада з питань профілактики правопорушень, на засіданнях якої були розглянуті питання щодо проведення профілактичних рейдів по виявленню неповнолітніх, які ухиляються від навчання, які виховуються в родинах, що опинилися у складних життєвих обставинах, які пропускають заняття без поважних причин, а також питання, пов’язані з профілактикою дисциплінарних порушень та правопоруш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-7920" y="287280"/>
            <a:ext cx="9171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Безпека життєдіяльності та запобігання всім видам дитячого травматизму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16000" y="1295280"/>
            <a:ext cx="90216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85840" y="1397160"/>
          <a:ext cx="8215200" cy="4068720"/>
        </p:xfrm>
        <a:graphic>
          <a:graphicData uri="http://schemas.openxmlformats.org/drawingml/2006/table">
            <a:tbl>
              <a:tblPr/>
              <a:tblGrid>
                <a:gridCol w="1643040"/>
                <a:gridCol w="1095480"/>
                <a:gridCol w="1368360"/>
                <a:gridCol w="1369800"/>
                <a:gridCol w="1370160"/>
                <a:gridCol w="136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6/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7/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8/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9/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20/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2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Травмування під час освітнього процесу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 (0,5 %)              під час перер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 (0,5 %)              під час перер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14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Травмування в побуті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3 (0,9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3 (0,9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428840" y="785880"/>
            <a:ext cx="69292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7928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87280" y="539640"/>
            <a:ext cx="8567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ховна проблема: </a:t>
            </a:r>
            <a:r>
              <a:rPr b="1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Формування особистості учнів на традиціях української історії та культури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13" descr="C:\Windows\system32\config\systemprofile\Desktop\Новая папка\11.jpg"/>
          <p:cNvPicPr/>
          <p:nvPr/>
        </p:nvPicPr>
        <p:blipFill>
          <a:blip r:embed="rId2"/>
          <a:stretch/>
        </p:blipFill>
        <p:spPr>
          <a:xfrm>
            <a:off x="357120" y="2143080"/>
            <a:ext cx="3245040" cy="2428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C:\Windows\system32\config\systemprofile\Desktop\Новая папка\20210618_133718.jpg"/>
          <p:cNvPicPr/>
          <p:nvPr/>
        </p:nvPicPr>
        <p:blipFill>
          <a:blip r:embed="rId3"/>
          <a:stretch/>
        </p:blipFill>
        <p:spPr>
          <a:xfrm>
            <a:off x="5429160" y="2143080"/>
            <a:ext cx="335772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C:\Windows\system32\config\systemprofile\Desktop\Новая папка\день спорту.jpg"/>
          <p:cNvPicPr/>
          <p:nvPr/>
        </p:nvPicPr>
        <p:blipFill>
          <a:blip r:embed="rId4"/>
          <a:stretch/>
        </p:blipFill>
        <p:spPr>
          <a:xfrm>
            <a:off x="2500200" y="4572000"/>
            <a:ext cx="31435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2992320" y="285840"/>
            <a:ext cx="31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Система учнівського самовряду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85840" y="2071800"/>
          <a:ext cx="8215200" cy="2300040"/>
        </p:xfrm>
        <a:graphic>
          <a:graphicData uri="http://schemas.openxmlformats.org/drawingml/2006/table">
            <a:tbl>
              <a:tblPr/>
              <a:tblGrid>
                <a:gridCol w="1785960"/>
                <a:gridCol w="1500120"/>
                <a:gridCol w="1643040"/>
                <a:gridCol w="1643040"/>
                <a:gridCol w="1643040"/>
              </a:tblGrid>
              <a:tr h="923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Президент учнівського парламенту “ Дружба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Голови комісій,центрі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>
                      <a:noFill/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Комісія національного відродж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Дозвілля і спор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Навчально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розпоряд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Прес - цен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Комісія дисципліни і поряд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1"/>
          <p:cNvGraphicFramePr/>
          <p:nvPr/>
        </p:nvGraphicFramePr>
        <p:xfrm>
          <a:off x="936720" y="1079640"/>
          <a:ext cx="7632720" cy="52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9" name="Text Box 2"/>
          <p:cNvSpPr/>
          <p:nvPr/>
        </p:nvSpPr>
        <p:spPr>
          <a:xfrm>
            <a:off x="287280" y="216000"/>
            <a:ext cx="84963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рівня вихованості учнів початкової шко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968400" y="287280"/>
            <a:ext cx="721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рівня вихованості учнів 5- 11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936720" y="1522440"/>
          <a:ext cx="7199280" cy="4309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928800" y="3571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Фінансово - господарська діяль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14200" y="785880"/>
          <a:ext cx="8786880" cy="595620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 кошти батьк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 міського бюдж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лучені кош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п'яти навчальних кабінеті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кухонного посу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ь у мініпроєк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 Заклад рівних можливостей 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коридору малої шк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целярські та господарські това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ний конкурс " Разом в майбутнє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4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стін фойє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покрівлі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" Міцна громада"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єкт соціальної дії за фінансової підтримки Європейської Комісії та Британської Ради у співфінансуванні з органами місцевого самоврядуванн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ий ремонт коридорів, фасаду школи та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ейнери для сміття ( 4 ш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пожежного щи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іна дверей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юзі в фойє закла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ий ремонт харчоблоку, бібліоте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іна штор у їдальні, бібліотец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2286000" y="42876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rebuchet MS"/>
                <a:ea typeface="Arial"/>
              </a:rPr>
              <a:t>Матеріально – технічна б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428760" y="1071720"/>
            <a:ext cx="835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Школа має у своєму розпорядженні 15 сучасних кабінет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Із них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Кабінет інформатики –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Кабінети, обладнані телевізором – 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Бібліотек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Їдальня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едичний кабі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ктова з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портивна з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портивний майданч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398680" y="287280"/>
            <a:ext cx="4432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адрове забезпече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360" y="1008000"/>
          <a:ext cx="8761680" cy="4537080"/>
        </p:xfrm>
        <a:graphic>
          <a:graphicData uri="http://schemas.openxmlformats.org/drawingml/2006/table">
            <a:tbl>
              <a:tblPr/>
              <a:tblGrid>
                <a:gridCol w="938160"/>
                <a:gridCol w="916200"/>
                <a:gridCol w="873000"/>
                <a:gridCol w="925560"/>
                <a:gridCol w="862200"/>
                <a:gridCol w="1495080"/>
                <a:gridCol w="1322640"/>
                <a:gridCol w="142884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дпрацівникі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с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учител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методис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3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071720" y="731880"/>
            <a:ext cx="3286080" cy="2125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5143680" y="714240"/>
            <a:ext cx="3214440" cy="214344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Рисунок 9" descr="C:\Users\Любой\Desktop\20210312_104355.jpg"/>
          <p:cNvPicPr/>
          <p:nvPr/>
        </p:nvPicPr>
        <p:blipFill>
          <a:blip r:embed="rId4"/>
          <a:stretch/>
        </p:blipFill>
        <p:spPr>
          <a:xfrm>
            <a:off x="1143000" y="3214800"/>
            <a:ext cx="3214800" cy="27144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1"/>
          <p:cNvSpPr/>
          <p:nvPr/>
        </p:nvSpPr>
        <p:spPr>
          <a:xfrm>
            <a:off x="5286240" y="371484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новлено ресурсну кімна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3929040" cy="2482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8" descr="C:\Users\Любой\Desktop\20210701_081528.jpg"/>
          <p:cNvPicPr/>
          <p:nvPr/>
        </p:nvPicPr>
        <p:blipFill>
          <a:blip r:embed="rId4"/>
          <a:stretch/>
        </p:blipFill>
        <p:spPr>
          <a:xfrm>
            <a:off x="4786200" y="357120"/>
            <a:ext cx="3500640" cy="2500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C:\Users\Любой\Desktop\20210701_081545.jpg"/>
          <p:cNvPicPr/>
          <p:nvPr/>
        </p:nvPicPr>
        <p:blipFill>
          <a:blip r:embed="rId5"/>
          <a:stretch/>
        </p:blipFill>
        <p:spPr>
          <a:xfrm>
            <a:off x="5214960" y="3571920"/>
            <a:ext cx="3214800" cy="3071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9"/>
          <p:cNvSpPr/>
          <p:nvPr/>
        </p:nvSpPr>
        <p:spPr>
          <a:xfrm>
            <a:off x="1571760" y="292896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Нова українська 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5" descr="20210701_081138.jpg"/>
          <p:cNvPicPr/>
          <p:nvPr/>
        </p:nvPicPr>
        <p:blipFill>
          <a:blip r:embed="rId2"/>
          <a:stretch/>
        </p:blipFill>
        <p:spPr>
          <a:xfrm>
            <a:off x="6000840" y="500040"/>
            <a:ext cx="2714400" cy="22147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" descr="20210701_081635.jpg"/>
          <p:cNvPicPr/>
          <p:nvPr/>
        </p:nvPicPr>
        <p:blipFill>
          <a:blip r:embed="rId3"/>
          <a:stretch/>
        </p:blipFill>
        <p:spPr>
          <a:xfrm>
            <a:off x="142920" y="428760"/>
            <a:ext cx="2857320" cy="23032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7" descr="20210701_081321.jpg"/>
          <p:cNvPicPr/>
          <p:nvPr/>
        </p:nvPicPr>
        <p:blipFill>
          <a:blip r:embed="rId4"/>
          <a:stretch/>
        </p:blipFill>
        <p:spPr>
          <a:xfrm>
            <a:off x="3143160" y="42876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8" descr="20210701_081343.jpg"/>
          <p:cNvPicPr/>
          <p:nvPr/>
        </p:nvPicPr>
        <p:blipFill>
          <a:blip r:embed="rId5"/>
          <a:stretch/>
        </p:blipFill>
        <p:spPr>
          <a:xfrm>
            <a:off x="6215040" y="4071960"/>
            <a:ext cx="2357640" cy="25131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9" descr="20210701_081240.jpg"/>
          <p:cNvPicPr/>
          <p:nvPr/>
        </p:nvPicPr>
        <p:blipFill>
          <a:blip r:embed="rId6"/>
          <a:stretch/>
        </p:blipFill>
        <p:spPr>
          <a:xfrm>
            <a:off x="3500280" y="4071960"/>
            <a:ext cx="2143440" cy="25718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0"/>
          <p:cNvSpPr/>
          <p:nvPr/>
        </p:nvSpPr>
        <p:spPr>
          <a:xfrm>
            <a:off x="500040" y="3143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Оновлено матеріально - технічну базу закл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https://www.chuguev-osvita.org.ua/wp-content/uploads/2021/06/1.jpg"/>
          <p:cNvPicPr/>
          <p:nvPr/>
        </p:nvPicPr>
        <p:blipFill>
          <a:blip r:embed="rId7"/>
          <a:stretch/>
        </p:blipFill>
        <p:spPr>
          <a:xfrm>
            <a:off x="214200" y="400068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357120" y="142920"/>
            <a:ext cx="857736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7928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79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079640" y="1428840"/>
            <a:ext cx="67071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Модернізація початкової освіти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Розвиток інклюзивної освіти 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Школа - родина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«Культура добросусідства як інструмент формування соціальної компетентності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" Заклад освіти - толерантне середовище, СТОП БУЛІНГ"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Виховний простір Харківщини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Моніторинг якості освіти в Харківському регіоні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93920" y="431640"/>
            <a:ext cx="636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Активізація творчої діяльності колективу,участь у проект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503280" y="287280"/>
            <a:ext cx="842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Шляхи вдосконалення якості освітньої діяльності та якості освіти на 2021/2022 навчальний р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31640" y="936720"/>
            <a:ext cx="8498160" cy="54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1. Забезпечити реалізацію завдань концепції «Нова українська школа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2. Запроваджувати нові підходи до освітнього процесу для отримання якісної осві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3. Працювати над розбудовою внутрішньої системи оцінювання якості осві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4. Продовжити роботу над удосконаленням безпечного освітнього середовища, антибулінгової політики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5. Працювати над поповненням обладнання навчальних кабінетів (фізики, хімії, біології, математики, інформатики, англійської мови) новими приладами, технікою, дидактично-роздатковим матеріалом для реалізації освітньої програми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6. Активізувати роботу з педагогічними кадрами щодо підвищення професійної</a:t>
            </a:r>
            <a:br>
              <a:rPr sz="1600"/>
            </a:b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компетентності та самоосвіти вчителів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7. Продовжити реалізацію програми «Обдаровані діти», яка спрямована на створення сприятливих умов для пошуку, підтримки, стимулювання інтелектуально і творчо обдарованих дітей, самореалізації творчої особистості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8. Працювати над підвищенням якості уроку, методикою проведення підготовки до З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9. Залучати органи учнівського самоврядування, батьківську громадськість до моніторингу ефективності діяльності шко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10. Провести капітальний ремонт даху основної покрівлі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1071720" y="28584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Атестація педагогічних працівників у 2021 роц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500040" y="785880"/>
            <a:ext cx="81439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Касьянова Тетяна Іванівна, учитель англійської мови,  кваліфікаційна категорія «спеціаліст І 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Цвєтова Олена Василівна ,учитель англійської мов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кваліфікаційна категорія «спеціаліст І 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Слюта Раїса Андріївна ,асистент вчителя, присвоїно 12 тарифний розряд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Кривенець Ірина Володимирівна, практичний психолог, відповідає раніше присвоєній кваліфікаційній категорії «спеціаліст І категорії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Бондаренко Марина Володимирівна, вихователь групи подовженого дня, відповідає раніше присвоєній кваліфікаційній категорії «спеціаліст ІІ 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Бондаренко Марина Володимирівна, учитель початкових класів, відповідає раніше присвоєній кваліфікаційній категорії «спеціаліст І категорії».</a:t>
            </a:r>
            <a:r>
              <a:rPr b="1" lang="ru-RU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853920" y="1655640"/>
            <a:ext cx="4689720" cy="318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5856120" y="2519280"/>
            <a:ext cx="768600" cy="932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398680" y="216000"/>
            <a:ext cx="44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іковий склад вчите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792000" y="431640"/>
            <a:ext cx="8358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08000" y="2289240"/>
            <a:ext cx="3110040" cy="3109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819680" y="3311640"/>
            <a:ext cx="1301760" cy="752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152360" y="144360"/>
            <a:ext cx="5048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ількісний склад учителів за педагогічним стаж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00040" y="857160"/>
          <a:ext cx="8286840" cy="1428840"/>
        </p:xfrm>
        <a:graphic>
          <a:graphicData uri="http://schemas.openxmlformats.org/drawingml/2006/table">
            <a:tbl>
              <a:tblPr/>
              <a:tblGrid>
                <a:gridCol w="668520"/>
                <a:gridCol w="3824280"/>
                <a:gridCol w="2676240"/>
                <a:gridCol w="11178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Б уч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Б учителя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укового керів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кіна Єлизавета Максимів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крут Алла Миколаївна, учитель української мови й літерату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87" name="Text Box 32"/>
          <p:cNvSpPr/>
          <p:nvPr/>
        </p:nvSpPr>
        <p:spPr>
          <a:xfrm>
            <a:off x="1152360" y="144360"/>
            <a:ext cx="5048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3"/>
          <p:cNvSpPr/>
          <p:nvPr/>
        </p:nvSpPr>
        <p:spPr>
          <a:xfrm>
            <a:off x="360360" y="2151000"/>
            <a:ext cx="87123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3280" y="3643200"/>
          <a:ext cx="8351640" cy="2214720"/>
        </p:xfrm>
        <a:graphic>
          <a:graphicData uri="http://schemas.openxmlformats.org/drawingml/2006/table">
            <a:tbl>
              <a:tblPr/>
              <a:tblGrid>
                <a:gridCol w="652320"/>
                <a:gridCol w="906480"/>
                <a:gridCol w="747720"/>
                <a:gridCol w="906480"/>
                <a:gridCol w="801720"/>
                <a:gridCol w="907920"/>
                <a:gridCol w="801720"/>
                <a:gridCol w="906480"/>
                <a:gridCol w="801720"/>
                <a:gridCol w="919080"/>
              </a:tblGrid>
              <a:tr h="46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/2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/2018 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/2019 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/20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/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-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-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90" name="Прямоугольник 6"/>
          <p:cNvSpPr/>
          <p:nvPr/>
        </p:nvSpPr>
        <p:spPr>
          <a:xfrm>
            <a:off x="2286000" y="2357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участі учнів у Всеукраїнському конкурсі-захисті науково-дослідницьких робіт учнів-членів МАН Украї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2286000" y="142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Секція " Філософія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357120" y="287280"/>
            <a:ext cx="83581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етодична пробле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«Вдосконалення професійного рівня педагогів з метою підвищення результативності освітнього процесу в умовах запровадження Концепції нової української школ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Участь у фестивалі " Добрих практик" освітян Харківщи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8280" y="2143080"/>
          <a:ext cx="8785440" cy="4468680"/>
        </p:xfrm>
        <a:graphic>
          <a:graphicData uri="http://schemas.openxmlformats.org/drawingml/2006/table">
            <a:tbl>
              <a:tblPr/>
              <a:tblGrid>
                <a:gridCol w="1946520"/>
                <a:gridCol w="1420560"/>
                <a:gridCol w="3640320"/>
                <a:gridCol w="1778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Б педаго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іна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досві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ьянова Т.І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Іноземні мов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икористання моделі навчання «Перевернутий клас» на уроках англійської мови в початкових класах під час дистанційного та змішаного навчанн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ьчукова А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Історі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uk-UA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икористання онлайн-дошки Google Jamboard під час дистанційного та змішаного навчання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 О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венець І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пеціальна та інклюзивна освіт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лучення до дистанційної освіти дітей з ментальними порушення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63640" y="360360"/>
            <a:ext cx="7128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инаміка навчальних досягнень учн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619200" y="1440000"/>
            <a:ext cx="4637160" cy="3112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5904000" y="2376360"/>
            <a:ext cx="768240" cy="9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6T06:59:02Z</dcterms:created>
  <dc:creator>Любой</dc:creator>
  <dc:description/>
  <dc:language>en-US</dc:language>
  <cp:lastModifiedBy>Секрктарь</cp:lastModifiedBy>
  <dcterms:modified xsi:type="dcterms:W3CDTF">2021-07-01T07:48:23Z</dcterms:modified>
  <cp:revision>146</cp:revision>
  <dc:subject/>
  <dc:title>Слайд 1</dc:title>
</cp:coreProperties>
</file>