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6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png" ContentType="image/png"/>
  <Override PartName="/ppt/media/image12.wmf" ContentType="image/x-wmf"/>
  <Override PartName="/ppt/media/image17.wmf" ContentType="image/x-wmf"/>
  <Override PartName="/ppt/media/image22.jpeg" ContentType="image/jpeg"/>
  <Override PartName="/ppt/media/image9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МОНІТОРИНГ РІВНЯ ВИХОВАНОСТІ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4672a8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ab4744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28</c:v>
                </c:pt>
                <c:pt idx="1">
                  <c:v>0.36</c:v>
                </c:pt>
                <c:pt idx="2">
                  <c:v>0.1</c:v>
                </c:pt>
                <c:pt idx="3">
                  <c:v>0</c:v>
                </c:pt>
                <c:pt idx="4">
                  <c:v>0.1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  <c:pt idx="0">
                  <c:v>0.63</c:v>
                </c:pt>
                <c:pt idx="1">
                  <c:v>0.44</c:v>
                </c:pt>
                <c:pt idx="2">
                  <c:v>0.29</c:v>
                </c:pt>
                <c:pt idx="3">
                  <c:v>0.58</c:v>
                </c:pt>
                <c:pt idx="4">
                  <c:v>0.6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5"/>
                <c:pt idx="0">
                  <c:v>0.28</c:v>
                </c:pt>
                <c:pt idx="1">
                  <c:v>0.2</c:v>
                </c:pt>
                <c:pt idx="2">
                  <c:v>0.61</c:v>
                </c:pt>
                <c:pt idx="3">
                  <c:v>0.42</c:v>
                </c:pt>
                <c:pt idx="4">
                  <c:v>0.22</c:v>
                </c:pt>
              </c:numCache>
            </c:numRef>
          </c:val>
        </c:ser>
        <c:gapWidth val="100"/>
        <c:overlap val="0"/>
        <c:axId val="30153061"/>
        <c:axId val="33995850"/>
      </c:barChart>
      <c:lineChart>
        <c:grouping val="standard"/>
        <c:varyColors val="0"/>
        <c:ser>
          <c:idx val="4"/>
          <c:order val="4"/>
          <c:tx>
            <c:strRef>
              <c:f>label 4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7e0021"/>
            </a:solidFill>
            <a:ln w="28800">
              <a:solidFill>
                <a:srgbClr val="7e0021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 клас</c:v>
                </c:pt>
                <c:pt idx="1">
                  <c:v>3-А клас</c:v>
                </c:pt>
                <c:pt idx="2">
                  <c:v>3-Б клас</c:v>
                </c:pt>
                <c:pt idx="3">
                  <c:v>4-А клас</c:v>
                </c:pt>
                <c:pt idx="4">
                  <c:v>4-Б клас 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5"/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30153061"/>
        <c:axId val="33995850"/>
      </c:lineChart>
      <c:catAx>
        <c:axId val="3015306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995850"/>
        <c:crosses val="autoZero"/>
        <c:auto val="1"/>
        <c:lblAlgn val="ctr"/>
        <c:lblOffset val="100"/>
        <c:noMultiLvlLbl val="0"/>
      </c:catAx>
      <c:valAx>
        <c:axId val="3399585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153061"/>
        <c:crosses val="autoZero"/>
        <c:crossBetween val="between"/>
      </c:valAx>
      <c:spPr>
        <a:noFill/>
        <a:ln w="9360">
          <a:solidFill>
            <a:srgbClr val="878787"/>
          </a:solidFill>
          <a:round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ИЗЬКИЙ РІВЕНЬ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0.15</c:v>
                </c:pt>
                <c:pt idx="1">
                  <c:v>0.04</c:v>
                </c:pt>
                <c:pt idx="2">
                  <c:v>0.33</c:v>
                </c:pt>
                <c:pt idx="3">
                  <c:v>0.06</c:v>
                </c:pt>
                <c:pt idx="4">
                  <c:v>0.15</c:v>
                </c:pt>
                <c:pt idx="5">
                  <c:v>0.36</c:v>
                </c:pt>
                <c:pt idx="6">
                  <c:v>0.28</c:v>
                </c:pt>
                <c:pt idx="7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ЕРЕДНІЙ РІВЕНЬ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0.4</c:v>
                </c:pt>
                <c:pt idx="1">
                  <c:v>0.52</c:v>
                </c:pt>
                <c:pt idx="2">
                  <c:v>0.26</c:v>
                </c:pt>
                <c:pt idx="3">
                  <c:v>0.06</c:v>
                </c:pt>
                <c:pt idx="4">
                  <c:v>0.74</c:v>
                </c:pt>
                <c:pt idx="5">
                  <c:v>0.36</c:v>
                </c:pt>
                <c:pt idx="6">
                  <c:v>0.72</c:v>
                </c:pt>
                <c:pt idx="7">
                  <c:v>0.66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ОСТАТНІЙ РІВЕНЬ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8"/>
                <c:pt idx="0">
                  <c:v>0.1</c:v>
                </c:pt>
                <c:pt idx="1">
                  <c:v>0.34</c:v>
                </c:pt>
                <c:pt idx="2">
                  <c:v>0.08</c:v>
                </c:pt>
                <c:pt idx="3">
                  <c:v>0.82</c:v>
                </c:pt>
                <c:pt idx="4">
                  <c:v>0.07</c:v>
                </c:pt>
                <c:pt idx="5">
                  <c:v>0.08</c:v>
                </c:pt>
                <c:pt idx="6">
                  <c:v>0</c:v>
                </c:pt>
                <c:pt idx="7">
                  <c:v>0.4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ВИСОКИЙ РІВЕНЬ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5 клас</c:v>
                </c:pt>
                <c:pt idx="1">
                  <c:v>6 клас</c:v>
                </c:pt>
                <c:pt idx="2">
                  <c:v>7-А клас</c:v>
                </c:pt>
                <c:pt idx="3">
                  <c:v>7-Б клас</c:v>
                </c:pt>
                <c:pt idx="4">
                  <c:v>8 клас</c:v>
                </c:pt>
                <c:pt idx="5">
                  <c:v>9 клас </c:v>
                </c:pt>
                <c:pt idx="6">
                  <c:v>10 клас</c:v>
                </c:pt>
                <c:pt idx="7">
                  <c:v>11 клас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8"/>
                <c:pt idx="0">
                  <c:v>0.35</c:v>
                </c:pt>
                <c:pt idx="1">
                  <c:v>0.1</c:v>
                </c:pt>
                <c:pt idx="2">
                  <c:v>0.13</c:v>
                </c:pt>
                <c:pt idx="3">
                  <c:v>0.06</c:v>
                </c:pt>
                <c:pt idx="4">
                  <c:v>0.04</c:v>
                </c:pt>
                <c:pt idx="5">
                  <c:v>0.2</c:v>
                </c:pt>
                <c:pt idx="6">
                  <c:v>0</c:v>
                </c:pt>
                <c:pt idx="7">
                  <c:v>0</c:v>
                </c:pt>
              </c:numCache>
            </c:numRef>
          </c:val>
        </c:ser>
        <c:gapWidth val="100"/>
        <c:overlap val="0"/>
        <c:axId val="79099649"/>
        <c:axId val="73831249"/>
      </c:barChart>
      <c:catAx>
        <c:axId val="7909964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31249"/>
        <c:crosses val="autoZero"/>
        <c:auto val="1"/>
        <c:lblAlgn val="ctr"/>
        <c:lblOffset val="100"/>
        <c:noMultiLvlLbl val="0"/>
      </c:catAx>
      <c:valAx>
        <c:axId val="73831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99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0"/>
            <a:ext cx="2917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9480" y="1233000"/>
            <a:ext cx="4433760" cy="3326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3440" cy="38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9371160"/>
            <a:ext cx="2917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3816360" y="937080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7FF15-3A20-4C8C-8E30-CE44882FD2C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32D4F-35D9-400E-8BE7-FEB4044C7A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7C9BE-FD23-4FAE-9F59-18CD8C50BB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B4177-582F-4131-8E66-5808C48F0E6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1A7D0-EE91-443D-9C2D-9E038D41A09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3592-C128-4173-928B-98DBFCEE56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D49FA-90AC-48D2-95FD-2D18B9D812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2C44B-63A2-49F8-AE0B-368F25C85C6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6DC42-D193-491B-8FB4-E6AA1C3DE9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CE41-AC17-49B6-91BF-6F7373090C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F3181-B40F-422F-95C1-2E29BCF3A4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053A-4817-4255-89B1-7AB3E7398EA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629D3-8778-4EB1-BDBB-12EDB5F8776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636A8-267D-4173-A97D-42C99EA1D78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32C0A-0D2D-43A7-9CE2-96E883A502E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0738C-AA45-4A51-8E27-6A227AB4300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6743F-1CCE-4440-A7FA-38B688519CF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82109-9D05-44D6-9009-F804869F75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8DFA-4F22-446C-9439-3E6A2EF6D66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15C72-B1C7-4A11-B872-EB7EC599BA4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5E175-6442-44FD-B5D7-A9EE368346A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AB94F-AC3E-4AC4-819C-7F69E82BF4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4FBD0-303D-42DE-8741-F0E776F1099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256C0-A1B9-4AB1-A187-100B8AEC64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57EB8-AC5D-47C3-9851-98FDE3AF33E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BBB75-4178-46F6-9663-6FBC74EEF93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7000" cy="332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6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13D94-4083-4FB1-A4FC-A827F0DE5A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D2364-9528-4737-B4E6-F50A5EC6BC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E33F7-A6F6-4288-B671-8924DC41C5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16360" y="937116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35201-08AB-4123-AB2E-0665D52D9A6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9480" y="1233360"/>
            <a:ext cx="4435200" cy="332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4640" y="4747680"/>
            <a:ext cx="53848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54C3-09FF-4070-A2D2-0338ECBE57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3FEC-6D0B-4984-AD8C-511E9BE7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4B02-1D8E-4722-91ED-F5EDF1D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8DD9-651E-4EBA-85BE-1672356B5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A080-BD79-4BDE-911C-5DE15A71B5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7C5E1-EB89-4CAA-ABEF-03C7B7B0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C9F8-AC6D-433E-BDA2-083A1060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932C1-543B-410F-A455-E361314C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D1917-2BF6-4676-BC23-7EC86F72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906AC-4A7F-4326-ACB1-5B9AD1CD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FECF3-E1E7-4A0D-86F5-33E2A3DA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6A28-2B14-4FC4-AA56-164D7EBA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E9678-53DF-4C75-BB04-A9BFC5D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18371-24C1-4AA5-9986-40771D68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AB34-757C-4310-AC65-45F10989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07E09-42A0-4313-94B1-6080D5D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AE5A4-ADED-4F10-9244-747E8969B5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8A6-96B2-44D5-9AD6-0296990BE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755A-B3A1-4551-A9B9-3CA1592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F803-6E24-4C34-A874-6A9412C0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846A-1464-4239-8DE5-E1D65085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8516-F478-4436-9365-A668582A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6769-B2A4-474D-8B55-2FB9ABFF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2E5-E9B1-4D3B-8047-C1681B6F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8F64-2231-4718-BC69-02562E6C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505C-6929-4767-96DC-A7F4CD3F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4A6-FBDC-448B-B99B-05CADC4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4FBE-A84E-41D7-ADB0-BD10DD51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E47B-4C69-4A8C-B66D-0975D35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86AD-4E27-49A4-8978-02590F1E6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A6D8-37B5-496D-BFF6-272EDFE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1786-DD8A-4E93-AFFD-57868276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4974-3382-4EA5-B7CB-FB7DDBFF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ABCB-B177-4F26-B6A7-41804436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31D4-8F1C-4884-A1EE-20AC6A49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7142-1AC2-434E-89D2-6B3DBB92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8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499264-AD87-4971-83F1-210A2B7BD05F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-6480" y="5102280"/>
            <a:ext cx="9153720" cy="1758960"/>
            <a:chOff x="-6480" y="5102280"/>
            <a:chExt cx="9153720" cy="1758960"/>
          </a:xfrm>
        </p:grpSpPr>
        <p:pic>
          <p:nvPicPr>
            <p:cNvPr id="52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372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5105520"/>
              <a:ext cx="914076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4"/>
          <p:cNvGrpSpPr/>
          <p:nvPr/>
        </p:nvGrpSpPr>
        <p:grpSpPr>
          <a:xfrm>
            <a:off x="-6480" y="-6480"/>
            <a:ext cx="9153720" cy="5118120"/>
            <a:chOff x="-6480" y="-6480"/>
            <a:chExt cx="9153720" cy="5118120"/>
          </a:xfrm>
        </p:grpSpPr>
        <p:pic>
          <p:nvPicPr>
            <p:cNvPr id="55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076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Rectangle 7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59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62" name="Picture 12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65" name="Picture 15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Rectangle 1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69" name="Picture 1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0C3220-6F70-4683-ABE8-A9CAAE53C7D6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-6480" y="3859200"/>
            <a:ext cx="9153720" cy="3002040"/>
            <a:chOff x="-6480" y="3859200"/>
            <a:chExt cx="9153720" cy="3002040"/>
          </a:xfrm>
        </p:grpSpPr>
        <p:pic>
          <p:nvPicPr>
            <p:cNvPr id="113" name="Picture 2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372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3"/>
            <p:cNvSpPr/>
            <p:nvPr/>
          </p:nvSpPr>
          <p:spPr>
            <a:xfrm>
              <a:off x="0" y="3867120"/>
              <a:ext cx="914076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4"/>
          <p:cNvGrpSpPr/>
          <p:nvPr/>
        </p:nvGrpSpPr>
        <p:grpSpPr>
          <a:xfrm>
            <a:off x="-6480" y="-6480"/>
            <a:ext cx="9153720" cy="3873600"/>
            <a:chOff x="-6480" y="-6480"/>
            <a:chExt cx="9153720" cy="3873600"/>
          </a:xfrm>
        </p:grpSpPr>
        <p:pic>
          <p:nvPicPr>
            <p:cNvPr id="116" name="Picture 5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372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0" y="0"/>
              <a:ext cx="914076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Rectangle 7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-6480" y="1596960"/>
            <a:ext cx="9153720" cy="5111640"/>
            <a:chOff x="-6480" y="1596960"/>
            <a:chExt cx="9153720" cy="5111640"/>
          </a:xfrm>
        </p:grpSpPr>
        <p:pic>
          <p:nvPicPr>
            <p:cNvPr id="120" name="Picture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3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0"/>
            <p:cNvSpPr/>
            <p:nvPr/>
          </p:nvSpPr>
          <p:spPr>
            <a:xfrm>
              <a:off x="1339920" y="2347920"/>
              <a:ext cx="6460920" cy="36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B80FB2-A072-410E-9AED-236DF04F7C2F}" type="slidenum">
              <a:rPr b="1" lang="ru-RU" sz="1200" spc="-1" strike="noStrike">
                <a:solidFill>
                  <a:srgbClr val="7f7f7f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000080" y="1000080"/>
            <a:ext cx="7215120" cy="72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a6099"/>
                </a:solidFill>
                <a:latin typeface="Arial Narrow"/>
                <a:ea typeface="Tahoma"/>
              </a:rPr>
              <a:t> </a:t>
            </a:r>
            <a:r>
              <a:rPr b="1" i="1" lang="ru-RU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Зв</a:t>
            </a: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іт дирек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щодо функціонування 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Чугуївського ліцею№ 7 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у 2020/2021 навчальному році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та пріоритетні завдання</a:t>
            </a:r>
            <a:br>
              <a:rPr sz="4000"/>
            </a:br>
            <a:r>
              <a:rPr b="1" i="1" lang="uk-UA" sz="4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 на 2021/2022 навчальний рі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Директор ліцею   Л.В. Малані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uk-UA" sz="4000" spc="-1" strike="noStrike">
                <a:solidFill>
                  <a:srgbClr val="ff0000"/>
                </a:solidFill>
                <a:latin typeface="Franklin Gothic Medium Cond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2133720" y="431640"/>
            <a:ext cx="4960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езультати навчальних досягнень за підсумками 2020/2021 н.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60360" y="1073160"/>
          <a:ext cx="8639280" cy="5713560"/>
        </p:xfrm>
        <a:graphic>
          <a:graphicData uri="http://schemas.openxmlformats.org/drawingml/2006/table">
            <a:tbl>
              <a:tblPr/>
              <a:tblGrid>
                <a:gridCol w="846000"/>
                <a:gridCol w="1092240"/>
                <a:gridCol w="1016280"/>
                <a:gridCol w="471240"/>
                <a:gridCol w="498600"/>
                <a:gridCol w="641160"/>
                <a:gridCol w="527040"/>
                <a:gridCol w="493920"/>
                <a:gridCol w="568440"/>
                <a:gridCol w="529920"/>
                <a:gridCol w="1954440"/>
              </a:tblGrid>
              <a:tr h="263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початок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 на кінець рок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іш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1224000" y="216000"/>
            <a:ext cx="712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Аналіз рейтингування класів за якістю зна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57120" y="785880"/>
          <a:ext cx="8072640" cy="5554440"/>
        </p:xfrm>
        <a:graphic>
          <a:graphicData uri="http://schemas.openxmlformats.org/drawingml/2006/table">
            <a:tbl>
              <a:tblPr/>
              <a:tblGrid>
                <a:gridCol w="357120"/>
                <a:gridCol w="706680"/>
                <a:gridCol w="1684080"/>
                <a:gridCol w="1930680"/>
                <a:gridCol w="1449360"/>
                <a:gridCol w="194472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сний керів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дній ба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2020/202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кість знань у 2020/2021 навчальному роц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йтингове місц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ренко Л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ндаренко М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льчукова А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вєтова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ременко Г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тупа Н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вілова Т.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.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енцер О.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оз О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71680" y="5000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ніторинг якості знань учнів 4-х класів з предметів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20/2021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31680" y="-76320"/>
            <a:ext cx="61531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928800" y="1500120"/>
          <a:ext cx="750096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500120"/>
                    <a:ext cx="750096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5"/>
          <p:cNvSpPr/>
          <p:nvPr/>
        </p:nvSpPr>
        <p:spPr>
          <a:xfrm>
            <a:off x="31680" y="-76320"/>
            <a:ext cx="61628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285840" y="785880"/>
          <a:ext cx="8429400" cy="54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85880"/>
                    <a:ext cx="84294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8"/>
          <p:cNvSpPr/>
          <p:nvPr/>
        </p:nvSpPr>
        <p:spPr>
          <a:xfrm>
            <a:off x="0" y="47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1728720" y="287280"/>
            <a:ext cx="6335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до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20720" y="1066680"/>
          <a:ext cx="8136000" cy="4005360"/>
        </p:xfrm>
        <a:graphic>
          <a:graphicData uri="http://schemas.openxmlformats.org/drawingml/2006/table">
            <a:tbl>
              <a:tblPr/>
              <a:tblGrid>
                <a:gridCol w="1504800"/>
                <a:gridCol w="1306800"/>
                <a:gridCol w="1274760"/>
                <a:gridCol w="1307880"/>
                <a:gridCol w="1273320"/>
                <a:gridCol w="1468440"/>
              </a:tblGrid>
              <a:tr h="87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кількі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9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2200320" y="360360"/>
            <a:ext cx="482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профільного навч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20760" y="1131840"/>
          <a:ext cx="7280280" cy="3971880"/>
        </p:xfrm>
        <a:graphic>
          <a:graphicData uri="http://schemas.openxmlformats.org/drawingml/2006/table">
            <a:tbl>
              <a:tblPr/>
              <a:tblGrid>
                <a:gridCol w="1268280"/>
                <a:gridCol w="1194120"/>
                <a:gridCol w="1163520"/>
                <a:gridCol w="1216080"/>
                <a:gridCol w="1182600"/>
                <a:gridCol w="1255680"/>
              </a:tblGrid>
              <a:tr h="60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гальна кількі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– 11 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ільні кла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охоп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н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85840" y="785880"/>
            <a:ext cx="8858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9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7280" y="1627200"/>
          <a:ext cx="8642520" cy="4879800"/>
        </p:xfrm>
        <a:graphic>
          <a:graphicData uri="http://schemas.openxmlformats.org/drawingml/2006/table">
            <a:tbl>
              <a:tblPr/>
              <a:tblGrid>
                <a:gridCol w="1257480"/>
                <a:gridCol w="1207800"/>
                <a:gridCol w="801720"/>
                <a:gridCol w="685800"/>
                <a:gridCol w="428760"/>
                <a:gridCol w="647640"/>
                <a:gridCol w="1035000"/>
                <a:gridCol w="763560"/>
                <a:gridCol w="18147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 випуск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навч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є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клас денної шко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чірня шко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-І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0" y="214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Контроль за здобуттям повної загальної середньої освіти та подальшого навч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96760" y="216000"/>
            <a:ext cx="743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ані щодо продовження навчання та працевлашт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ипускників 11-х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6000" y="936720"/>
          <a:ext cx="8715240" cy="5830920"/>
        </p:xfrm>
        <a:graphic>
          <a:graphicData uri="http://schemas.openxmlformats.org/drawingml/2006/table">
            <a:tbl>
              <a:tblPr/>
              <a:tblGrid>
                <a:gridCol w="1182600"/>
                <a:gridCol w="527040"/>
                <a:gridCol w="922320"/>
                <a:gridCol w="792000"/>
                <a:gridCol w="790920"/>
                <a:gridCol w="661680"/>
                <a:gridCol w="527040"/>
                <a:gridCol w="395280"/>
                <a:gridCol w="658800"/>
                <a:gridCol w="792360"/>
                <a:gridCol w="1054080"/>
                <a:gridCol w="41112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випускникі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єтьс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овжують одержувати освіт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ІІ-ІV 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 І-І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. акр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цевла-штова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працюють, не навчаютьс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ворі та виїхали за межі област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нш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936720" y="216000"/>
            <a:ext cx="68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ідсумки робот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інклюзивних кла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936720" y="1295280"/>
            <a:ext cx="77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ідповідно до рекомендацій  ІРЦ та згоди батьків у 2020-2021 н. р. 6 дітей ліцею  навчаються в 4 класах з інклюзивною формою навчання (порушення слуху - 1, порушення інтелектуального розвитку-5) педагогічний супровід яких здійснюють вчителі даних класів та 4 асистентів вчите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20720" y="2522520"/>
            <a:ext cx="83660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В роботі з дітьми особливими освітніми потребами були враховані такі принципи педагогічної діяльності, які орієнтовані на інтереси сім’ї, а сам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1) визнання того, що сім’я є елементом стабільності в житті дитини, в той час як педагоги можуть весь час змінювати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2) ефективне співробітництво педагогів з батьками та іншими фахівц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3) регулярний обмін з батьками повною та неупередженою інформацією стосовно їхніх ді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4) розуміння й урахування потреб дітей під час розробки навчальних та інших прогр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5) розуміння унікальності кожної сім’ї, повага до різних методів навчання та виховання дітей, що застосовуються батьк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400" spc="-1" strike="noStrike">
                <a:solidFill>
                  <a:srgbClr val="8585e0"/>
                </a:solidFill>
                <a:latin typeface="Arial"/>
                <a:ea typeface="Arial"/>
              </a:rPr>
              <a:t>6) турбота про те, щоб послуги, які надаються родинам, були комплексними, скоординованими, гнучкими, доступними і відповідали потребам кожної роди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31640" y="4680"/>
            <a:ext cx="8568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оціальний захист учасників освітнього проц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03280" y="509760"/>
          <a:ext cx="8354880" cy="5776920"/>
        </p:xfrm>
        <a:graphic>
          <a:graphicData uri="http://schemas.openxmlformats.org/drawingml/2006/table">
            <a:tbl>
              <a:tblPr/>
              <a:tblGrid>
                <a:gridCol w="3235320"/>
                <a:gridCol w="745920"/>
                <a:gridCol w="997200"/>
                <a:gridCol w="1120680"/>
                <a:gridCol w="1120680"/>
                <a:gridCol w="11350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прямок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-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-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-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ік неповнолітніх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сироти, позбавлені батьківського піклу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58840"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йомна 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апівсир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багатодітної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ліквідаторів на ЧА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-інвалі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936720" y="298440"/>
            <a:ext cx="7305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6080" algn="ctr">
              <a:lnSpc>
                <a:spcPct val="100000"/>
              </a:lnSpc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Пріоритетними завданнями ліцею було  забезпечення прав молоді на здобуття освіти, виконання Закону України “ Про освіту”, “Про загальну середню освіту”</a:t>
            </a:r>
            <a:br>
              <a:rPr sz="2000"/>
            </a:b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тан і розвиток шкільної мереж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8720" y="2733840"/>
          <a:ext cx="8369280" cy="3636720"/>
        </p:xfrm>
        <a:graphic>
          <a:graphicData uri="http://schemas.openxmlformats.org/drawingml/2006/table">
            <a:tbl>
              <a:tblPr/>
              <a:tblGrid>
                <a:gridCol w="1360440"/>
                <a:gridCol w="1563840"/>
                <a:gridCol w="1668600"/>
                <a:gridCol w="1692000"/>
                <a:gridCol w="208440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чн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класі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наповнюва-ніс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4560" algn="ctr">
                        <a:lnSpc>
                          <a:spcPct val="86000"/>
                        </a:lnSpc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пуще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28680" y="498600"/>
          <a:ext cx="8529480" cy="5802120"/>
        </p:xfrm>
        <a:graphic>
          <a:graphicData uri="http://schemas.openxmlformats.org/drawingml/2006/table">
            <a:tbl>
              <a:tblPr/>
              <a:tblGrid>
                <a:gridCol w="3301920"/>
                <a:gridCol w="762120"/>
                <a:gridCol w="1019160"/>
                <a:gridCol w="1144440"/>
                <a:gridCol w="1144800"/>
                <a:gridCol w="115704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іти воїнів АТ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П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малозабезпечених сі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неблагополучні род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з девіантною поведінк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іти одиноких мате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оплені безкоштовним гарячим харчуванням за кошти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indent="-10008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а матеріальна допомога з фонду загальнообов’язкового навч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 0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 200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ані новорічні подару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дсоток учнів, що залучені до позакласної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152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857160" y="642960"/>
            <a:ext cx="78580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378080" y="144360"/>
            <a:ext cx="6399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рганізація харчування учн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03280" y="863640"/>
            <a:ext cx="79912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85880" y="928800"/>
            <a:ext cx="714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1-4-х класів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езкоштовне харчування учнів 5-11-х класів – 1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Харчування за кошти батьків -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ГПД – 100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5-11 класи - 86%</a:t>
            </a:r>
            <a:br>
              <a:rPr sz="3200"/>
            </a:br>
            <a:r>
              <a:rPr b="1" lang="uk-UA" sz="32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Буфетна продукція –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143000" y="274680"/>
            <a:ext cx="779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79640" y="201600"/>
            <a:ext cx="7632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Робота з профілактики правопорушень та інших негативних прояві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 учнівському середовищі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60360" y="1368360"/>
            <a:ext cx="8567640" cy="55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ліцеї створено умови щодо запобігання в учнівському середовищі будь-яких проявів насильства, з метою проведення інформаційно – роз’яснювальної роботи серед дітей із протидії правопорушенням, булінгу, торгівлі людьми, бродяжництву протягом року проведено профілактичні захо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тренінгових занять «Чому зникають ді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Цикл бесід «Як спілкуватись  з незнайомця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Індивідуальні бесіди з дітьми , які опинились у складних життєвих обставинах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Всеукраїнський урок «Закон – мій дру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Рейд «Ур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- Уроки відвертого спілкування «Викресли булінг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8585e0"/>
                </a:solidFill>
                <a:latin typeface="Arial"/>
                <a:ea typeface="Arial"/>
              </a:rPr>
              <a:t>У закладі освіти створена і діє Рада з питань профілактики правопорушень, на засіданнях якої були розглянуті питання щодо проведення профілактичних рейдів по виявленню неповнолітніх, які ухиляються від навчання, які виховуються в родинах, що опинилися у складних життєвих обставинах, які пропускають заняття без поважних причин, а також питання, пов’язані з профілактикою дисциплінарних порушень та правопоруш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-7920" y="287280"/>
            <a:ext cx="9171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Безпека життєдіяльності та запобігання всім видам дитячого травматизм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16000" y="1295280"/>
            <a:ext cx="90216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85840" y="1397160"/>
          <a:ext cx="8215200" cy="4068720"/>
        </p:xfrm>
        <a:graphic>
          <a:graphicData uri="http://schemas.openxmlformats.org/drawingml/2006/table">
            <a:tbl>
              <a:tblPr/>
              <a:tblGrid>
                <a:gridCol w="1643040"/>
                <a:gridCol w="1095480"/>
                <a:gridCol w="1368360"/>
                <a:gridCol w="1369800"/>
                <a:gridCol w="1370160"/>
                <a:gridCol w="13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6/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7/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8/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19/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020/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22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під час освітнього процесу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2 (0,5 %)              під час перер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14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Травмування в побуті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3 (0,9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1 (0,3%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428840" y="785880"/>
            <a:ext cx="69292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uk-UA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87280" y="539640"/>
            <a:ext cx="8567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ховна проблема: </a:t>
            </a:r>
            <a:r>
              <a:rPr b="1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Формування особистості учнів на традиціях української історії та культур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3" descr="C:\Windows\system32\config\systemprofile\Desktop\Новая папка\11.jpg"/>
          <p:cNvPicPr/>
          <p:nvPr/>
        </p:nvPicPr>
        <p:blipFill>
          <a:blip r:embed="rId2"/>
          <a:stretch/>
        </p:blipFill>
        <p:spPr>
          <a:xfrm>
            <a:off x="357120" y="2143080"/>
            <a:ext cx="3245040" cy="242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C:\Windows\system32\config\systemprofile\Desktop\Новая папка\20210618_133718.jpg"/>
          <p:cNvPicPr/>
          <p:nvPr/>
        </p:nvPicPr>
        <p:blipFill>
          <a:blip r:embed="rId3"/>
          <a:stretch/>
        </p:blipFill>
        <p:spPr>
          <a:xfrm>
            <a:off x="5429160" y="214308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C:\Windows\system32\config\systemprofile\Desktop\Новая папка\день спорту.jpg"/>
          <p:cNvPicPr/>
          <p:nvPr/>
        </p:nvPicPr>
        <p:blipFill>
          <a:blip r:embed="rId4"/>
          <a:stretch/>
        </p:blipFill>
        <p:spPr>
          <a:xfrm>
            <a:off x="2500200" y="4572000"/>
            <a:ext cx="3143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2992320" y="285840"/>
            <a:ext cx="31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Система учнівського самовряд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85840" y="2071800"/>
          <a:ext cx="8215200" cy="2300040"/>
        </p:xfrm>
        <a:graphic>
          <a:graphicData uri="http://schemas.openxmlformats.org/drawingml/2006/table">
            <a:tbl>
              <a:tblPr/>
              <a:tblGrid>
                <a:gridCol w="1785960"/>
                <a:gridCol w="1500120"/>
                <a:gridCol w="1643040"/>
                <a:gridCol w="1643040"/>
                <a:gridCol w="1643040"/>
              </a:tblGrid>
              <a:tr h="923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Президент учнівського парламенту “ Дружба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rebuchet MS"/>
                        </a:rPr>
                        <a:t>Голови комісій,центрі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>
                      <a:noFill/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національного відродж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Дозвілля і спор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Навчально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розпоряд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Прес - цен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8585e0"/>
                          </a:solidFill>
                          <a:latin typeface="Times New Roman"/>
                          <a:ea typeface="Times New Roman"/>
                        </a:rPr>
                        <a:t>Комісія дисципліни і поряд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1"/>
          <p:cNvGraphicFramePr/>
          <p:nvPr/>
        </p:nvGraphicFramePr>
        <p:xfrm>
          <a:off x="936720" y="1079640"/>
          <a:ext cx="7632720" cy="52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9" name="Text Box 2"/>
          <p:cNvSpPr/>
          <p:nvPr/>
        </p:nvSpPr>
        <p:spPr>
          <a:xfrm>
            <a:off x="287280" y="216000"/>
            <a:ext cx="84963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початкової шко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968400" y="287280"/>
            <a:ext cx="721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рівня вихованості учнів 5- 11 кла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936720" y="1522440"/>
          <a:ext cx="7199280" cy="430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928800" y="357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Фінансово - господарська діяль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4200" y="785880"/>
          <a:ext cx="8786880" cy="595620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 кошти батьк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 міського бюдже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лучені кош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'яти навчальних кабінеті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кухонного посу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ь у мініпроєк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 Заклад рівних можливостей 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коридору малої шк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целярські та господарські това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ний конкурс " Разом в майбутнє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4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стін фойє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покрівлі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" Міцна громада"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єкт соціальної дії за фінансової підтримки Європейської Комісії та Британської Ради у співфінансуванні з органами місцевого самоврядуванн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коридорів, фасаду школи та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ейнери для сміття ( 4 ш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пожежного щи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дверей господарської будівл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юзі в фойє закла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ий ремонт харчоблоку, бібліоте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іна штор у їдальні, бібліотец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2286000" y="42876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rebuchet MS"/>
                <a:ea typeface="Arial"/>
              </a:rPr>
              <a:t>Матеріально – технічна б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28760" y="107172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Школа має у своєму розпорядженні 15 сучасних кабіне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Із них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 інформатики –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Кабінети, обладнані телевізором – 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Бібліотека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Їдальня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едичний кабі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ктов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а з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портивний майданч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398680" y="287280"/>
            <a:ext cx="4432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адрове забезпе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360" y="1008000"/>
          <a:ext cx="8761680" cy="4537080"/>
        </p:xfrm>
        <a:graphic>
          <a:graphicData uri="http://schemas.openxmlformats.org/drawingml/2006/table">
            <a:tbl>
              <a:tblPr/>
              <a:tblGrid>
                <a:gridCol w="938160"/>
                <a:gridCol w="916200"/>
                <a:gridCol w="873000"/>
                <a:gridCol w="925560"/>
                <a:gridCol w="862200"/>
                <a:gridCol w="1495080"/>
                <a:gridCol w="1322640"/>
                <a:gridCol w="142884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альний рі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педпрацівник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щ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й учител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методис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2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3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2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071720" y="731880"/>
            <a:ext cx="3286080" cy="212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214440" cy="214344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9" descr="C:\Users\Любой\Desktop\20210312_104355.jpg"/>
          <p:cNvPicPr/>
          <p:nvPr/>
        </p:nvPicPr>
        <p:blipFill>
          <a:blip r:embed="rId4"/>
          <a:stretch/>
        </p:blipFill>
        <p:spPr>
          <a:xfrm>
            <a:off x="1143000" y="3214800"/>
            <a:ext cx="3214800" cy="27144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1"/>
          <p:cNvSpPr/>
          <p:nvPr/>
        </p:nvSpPr>
        <p:spPr>
          <a:xfrm>
            <a:off x="5286240" y="37148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новлено ресурсну кімна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3929040" cy="248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C:\Users\Любой\Desktop\20210701_081528.jpg"/>
          <p:cNvPicPr/>
          <p:nvPr/>
        </p:nvPicPr>
        <p:blipFill>
          <a:blip r:embed="rId4"/>
          <a:stretch/>
        </p:blipFill>
        <p:spPr>
          <a:xfrm>
            <a:off x="4786200" y="357120"/>
            <a:ext cx="3500640" cy="2500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C:\Users\Любой\Desktop\20210701_081545.jpg"/>
          <p:cNvPicPr/>
          <p:nvPr/>
        </p:nvPicPr>
        <p:blipFill>
          <a:blip r:embed="rId5"/>
          <a:stretch/>
        </p:blipFill>
        <p:spPr>
          <a:xfrm>
            <a:off x="5214960" y="3571920"/>
            <a:ext cx="3214800" cy="3071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1571760" y="292896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Нова українська 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5" descr="20210701_081138.jpg"/>
          <p:cNvPicPr/>
          <p:nvPr/>
        </p:nvPicPr>
        <p:blipFill>
          <a:blip r:embed="rId2"/>
          <a:stretch/>
        </p:blipFill>
        <p:spPr>
          <a:xfrm>
            <a:off x="6000840" y="500040"/>
            <a:ext cx="2714400" cy="22147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20210701_081635.jpg"/>
          <p:cNvPicPr/>
          <p:nvPr/>
        </p:nvPicPr>
        <p:blipFill>
          <a:blip r:embed="rId3"/>
          <a:stretch/>
        </p:blipFill>
        <p:spPr>
          <a:xfrm>
            <a:off x="142920" y="428760"/>
            <a:ext cx="2857320" cy="2303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7" descr="20210701_081321.jpg"/>
          <p:cNvPicPr/>
          <p:nvPr/>
        </p:nvPicPr>
        <p:blipFill>
          <a:blip r:embed="rId4"/>
          <a:stretch/>
        </p:blipFill>
        <p:spPr>
          <a:xfrm>
            <a:off x="3143160" y="42876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8" descr="20210701_081343.jpg"/>
          <p:cNvPicPr/>
          <p:nvPr/>
        </p:nvPicPr>
        <p:blipFill>
          <a:blip r:embed="rId5"/>
          <a:stretch/>
        </p:blipFill>
        <p:spPr>
          <a:xfrm>
            <a:off x="6215040" y="4071960"/>
            <a:ext cx="2357640" cy="2513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20210701_081240.jpg"/>
          <p:cNvPicPr/>
          <p:nvPr/>
        </p:nvPicPr>
        <p:blipFill>
          <a:blip r:embed="rId6"/>
          <a:stretch/>
        </p:blipFill>
        <p:spPr>
          <a:xfrm>
            <a:off x="3500280" y="4071960"/>
            <a:ext cx="2143440" cy="25718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0"/>
          <p:cNvSpPr/>
          <p:nvPr/>
        </p:nvSpPr>
        <p:spPr>
          <a:xfrm>
            <a:off x="500040" y="3143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Оновлено матеріально - технічну базу закла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https://www.chuguev-osvita.org.ua/wp-content/uploads/2021/06/1.jpg"/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357120" y="142920"/>
            <a:ext cx="8577360" cy="61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7928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179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079640" y="1428840"/>
            <a:ext cx="67071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дернізація початкової освіт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Розвиток інклюзивної освіти 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Школа - родина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«Культура добросусідства як інструмент формування соціальної компетентності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" Заклад освіти - толерантне середовище, СТОП БУЛІНГ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Виховний простір Харківщин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   «Моніторинг якості освіти в Харківському регіоні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93920" y="431640"/>
            <a:ext cx="636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ктивізація творчої діяльності колективу,участь у проек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503280" y="287280"/>
            <a:ext cx="842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Шляхи вдосконалення якості освітньої діяльності та якості освіти на 2021/2022 навчальний р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31640" y="936720"/>
            <a:ext cx="849816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. Забезпечити реалізацію завдань концепції «Нова українська школ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2. Запроваджувати нові підходи до освітнього процесу для отримання якісної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3. Працювати над розбудовою внутрішньої системи оцінювання якості осві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4. Продовжити роботу над удосконаленням безпечного освітнього середовища, антибулінгової політик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5. Працювати над поповненням обладнання навчальних кабінетів (фізики, хімії, біології, математики, інформатики, англійської мови) новими приладами, технікою, дидактично-роздатковим матеріалом для реалізації освітньої програми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6. Активізувати роботу з педагогічними кадрами щодо підвищення професійної</a:t>
            </a:r>
            <a:br>
              <a:rPr sz="1600"/>
            </a:b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компетентності та самоосвіти вчителів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7. Продовжити реалізацію програми «Обдаровані діти», яка спрямована на створення сприятливих умов для пошуку, підтримки, стимулювання інтелектуально і творчо обдарованих дітей, самореалізації творчої особистості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8. Працювати над підвищенням якості уроку, методикою проведення підготовки до З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9. Залучати органи учнівського самоврядування, батьківську громадськість до моніторингу ефективності діяльності шко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600" spc="-1" strike="noStrike">
                <a:solidFill>
                  <a:srgbClr val="8585e0"/>
                </a:solidFill>
                <a:latin typeface="Arial"/>
                <a:ea typeface="Arial"/>
              </a:rPr>
              <a:t>10. Провести капітальний ремонт даху основної покрівлі закла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1071720" y="28584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rebuchet MS"/>
                <a:ea typeface="Arial"/>
              </a:rPr>
              <a:t>Атестація педагогічних працівників у 2021 ро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500040" y="785880"/>
            <a:ext cx="8143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асьянова Тетяна Іванівна, учитель англійської мови,  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Цвєтова Олена Василівна ,учитель англійської мов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кваліфікаційна категорія «спеціаліст І 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Слюта Раїса Андріївна ,асистент вчителя, присвоїно 12 тарифний розряд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Кривенець Ірина Володимирівна, практичний психолог, відповідає раніше присвоєній кваліфікаційній категорії «спеціаліст І категорії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вихователь групи подовженого дня, відповідає раніше присвоєній кваліфікаційній категорії «спеціаліст ІІ категорії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- Бондаренко Марина Володимирівна, учитель початкових класів, відповідає раніше присвоєній кваліфікаційній категорії «спеціаліст І категорії».</a:t>
            </a:r>
            <a:r>
              <a:rPr b="1" lang="ru-RU" sz="20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853920" y="1655640"/>
            <a:ext cx="4689720" cy="318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856120" y="2519280"/>
            <a:ext cx="768600" cy="932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398680" y="216000"/>
            <a:ext cx="44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іковий склад вчите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792000" y="431640"/>
            <a:ext cx="8358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08000" y="2289240"/>
            <a:ext cx="3110040" cy="310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819680" y="3311640"/>
            <a:ext cx="1301760" cy="752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152360" y="144360"/>
            <a:ext cx="5048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ількісний склад учителів за педагогічним стаж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00040" y="857160"/>
          <a:ext cx="8286840" cy="1428840"/>
        </p:xfrm>
        <a:graphic>
          <a:graphicData uri="http://schemas.openxmlformats.org/drawingml/2006/table">
            <a:tbl>
              <a:tblPr/>
              <a:tblGrid>
                <a:gridCol w="668520"/>
                <a:gridCol w="3824280"/>
                <a:gridCol w="2676240"/>
                <a:gridCol w="11178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ІБ учител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укового керів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кіна Єлизавета Максимів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крут Алла Миколаївна, учитель української мови й літерату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87" name="Text Box 32"/>
          <p:cNvSpPr/>
          <p:nvPr/>
        </p:nvSpPr>
        <p:spPr>
          <a:xfrm>
            <a:off x="1152360" y="144360"/>
            <a:ext cx="5048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360360" y="2151000"/>
            <a:ext cx="87123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3280" y="3643200"/>
          <a:ext cx="8351640" cy="2214720"/>
        </p:xfrm>
        <a:graphic>
          <a:graphicData uri="http://schemas.openxmlformats.org/drawingml/2006/table">
            <a:tbl>
              <a:tblPr/>
              <a:tblGrid>
                <a:gridCol w="652320"/>
                <a:gridCol w="906480"/>
                <a:gridCol w="747720"/>
                <a:gridCol w="906480"/>
                <a:gridCol w="801720"/>
                <a:gridCol w="907920"/>
                <a:gridCol w="801720"/>
                <a:gridCol w="906480"/>
                <a:gridCol w="801720"/>
                <a:gridCol w="919080"/>
              </a:tblGrid>
              <a:tr h="46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/2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/2018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/2019 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/20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/20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вчальний рі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-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оданих робі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ількість призових місць на міському етап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6"/>
          <p:cNvSpPr/>
          <p:nvPr/>
        </p:nvSpPr>
        <p:spPr>
          <a:xfrm>
            <a:off x="2286000" y="2357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Моніторинг участі учнів у Всеукраїнському конкурсі-захисті науково-дослідницьких робіт учнів-членів МАН Украї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2286000" y="142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Секція " Філософія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357120" y="287280"/>
            <a:ext cx="8358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Методична пробл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«Вдосконалення професійного рівня педагогів з метою підвищення результативності освітнього процесу в умовах запровадження Концепції нової української шко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7030a0"/>
                </a:solidFill>
                <a:latin typeface="Trebuchet MS"/>
                <a:ea typeface="Arial"/>
              </a:rPr>
              <a:t>Участь у фестивалі " Добрих практик" освітян Харківщи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8280" y="2143080"/>
          <a:ext cx="8785440" cy="4468680"/>
        </p:xfrm>
        <a:graphic>
          <a:graphicData uri="http://schemas.openxmlformats.org/drawingml/2006/table">
            <a:tbl>
              <a:tblPr/>
              <a:tblGrid>
                <a:gridCol w="1946520"/>
                <a:gridCol w="1420560"/>
                <a:gridCol w="3640320"/>
                <a:gridCol w="1778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Б педаго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іна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досві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ьянова Т.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ноземні мов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икористання моделі навчання «Перевернутий клас» на уроках англійської мови в початкових класах під час дистанційного та змішаного навчанн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ьчукова А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Історі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uk-UA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икористання онлайн-дошки Google Jamboard під час дистанційного та змішаного навчання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 О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венець І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пеціальна та інклюзивна осві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лучення до дистанційної освіти дітей з ментальними порушення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упе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63640" y="360360"/>
            <a:ext cx="7128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Динаміка навчальних досягнень учн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619200" y="1440000"/>
            <a:ext cx="4637160" cy="3112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5904000" y="2376360"/>
            <a:ext cx="768240" cy="93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06:59:02Z</dcterms:created>
  <dc:creator>Любой</dc:creator>
  <dc:description/>
  <dc:language>en-US</dc:language>
  <cp:lastModifiedBy>Секрктарь</cp:lastModifiedBy>
  <dcterms:modified xsi:type="dcterms:W3CDTF">2021-07-01T07:48:23Z</dcterms:modified>
  <cp:revision>146</cp:revision>
  <dc:subject/>
  <dc:title>Слайд 1</dc:title>
</cp:coreProperties>
</file>