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wmf" ContentType="image/x-wmf"/>
  <Override PartName="/ppt/media/image26.jpeg" ContentType="image/jpeg"/>
  <Override PartName="/ppt/media/image3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4.png" ContentType="image/png"/>
  <Override PartName="/ppt/media/image12.wmf" ContentType="image/x-wmf"/>
  <Override PartName="/ppt/media/image17.wmf" ContentType="image/x-wmf"/>
  <Override PartName="/ppt/media/image22.jpeg" ContentType="image/jpeg"/>
  <Override PartName="/ppt/media/image9.png" ContentType="image/png"/>
  <Override PartName="/ppt/media/image8.png" ContentType="image/png"/>
  <Override PartName="/ppt/media/image29.jpeg" ContentType="image/jpeg"/>
  <Override PartName="/ppt/media/image5.png" ContentType="image/png"/>
  <Override PartName="/ppt/media/image30.jpeg" ContentType="image/jpeg"/>
  <Override PartName="/ppt/media/image24.jpeg" ContentType="image/jpeg"/>
  <Override PartName="/ppt/media/image32.jpeg" ContentType="image/jpeg"/>
  <Override PartName="/ppt/media/image33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14.wmf" ContentType="image/x-wmf"/>
  <Override PartName="/ppt/media/image1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Calibri"/>
              </a:defRPr>
            </a:pPr>
            <a:r>
              <a:rPr b="1" sz="1800" spc="-1" strike="noStrike">
                <a:solidFill>
                  <a:srgbClr val="000000"/>
                </a:solidFill>
                <a:latin typeface="Calibri"/>
              </a:rPr>
              <a:t>МОНІТОРИНГ РІВНЯ ВИХОВАНОСТІ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НИЗЬКИЙ РІВЕНЬ</c:v>
                </c:pt>
              </c:strCache>
            </c:strRef>
          </c:tx>
          <c:spPr>
            <a:solidFill>
              <a:srgbClr val="4672a8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2 клас</c:v>
                </c:pt>
                <c:pt idx="1">
                  <c:v>3-А клас</c:v>
                </c:pt>
                <c:pt idx="2">
                  <c:v>3-Б клас</c:v>
                </c:pt>
                <c:pt idx="3">
                  <c:v>4-А клас</c:v>
                </c:pt>
                <c:pt idx="4">
                  <c:v>4-Б клас 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ЕРЕДНІЙ РІВЕНЬ</c:v>
                </c:pt>
              </c:strCache>
            </c:strRef>
          </c:tx>
          <c:spPr>
            <a:solidFill>
              <a:srgbClr val="ab4744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2 клас</c:v>
                </c:pt>
                <c:pt idx="1">
                  <c:v>3-А клас</c:v>
                </c:pt>
                <c:pt idx="2">
                  <c:v>3-Б клас</c:v>
                </c:pt>
                <c:pt idx="3">
                  <c:v>4-А клас</c:v>
                </c:pt>
                <c:pt idx="4">
                  <c:v>4-Б клас 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0.28</c:v>
                </c:pt>
                <c:pt idx="1">
                  <c:v>0.36</c:v>
                </c:pt>
                <c:pt idx="2">
                  <c:v>0.1</c:v>
                </c:pt>
                <c:pt idx="3">
                  <c:v>0</c:v>
                </c:pt>
                <c:pt idx="4">
                  <c:v>0.17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ДОСТАТНІЙ РІВЕНЬ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2 клас</c:v>
                </c:pt>
                <c:pt idx="1">
                  <c:v>3-А клас</c:v>
                </c:pt>
                <c:pt idx="2">
                  <c:v>3-Б клас</c:v>
                </c:pt>
                <c:pt idx="3">
                  <c:v>4-А клас</c:v>
                </c:pt>
                <c:pt idx="4">
                  <c:v>4-Б клас 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5"/>
                <c:pt idx="0">
                  <c:v>0.63</c:v>
                </c:pt>
                <c:pt idx="1">
                  <c:v>0.44</c:v>
                </c:pt>
                <c:pt idx="2">
                  <c:v>0.29</c:v>
                </c:pt>
                <c:pt idx="3">
                  <c:v>0.58</c:v>
                </c:pt>
                <c:pt idx="4">
                  <c:v>0.61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ВИСОКИЙ РІВЕНЬ</c:v>
                </c:pt>
              </c:strCache>
            </c:strRef>
          </c:tx>
          <c:spPr>
            <a:solidFill>
              <a:srgbClr val="579d1c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2 клас</c:v>
                </c:pt>
                <c:pt idx="1">
                  <c:v>3-А клас</c:v>
                </c:pt>
                <c:pt idx="2">
                  <c:v>3-Б клас</c:v>
                </c:pt>
                <c:pt idx="3">
                  <c:v>4-А клас</c:v>
                </c:pt>
                <c:pt idx="4">
                  <c:v>4-Б клас 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5"/>
                <c:pt idx="0">
                  <c:v>0.28</c:v>
                </c:pt>
                <c:pt idx="1">
                  <c:v>0.2</c:v>
                </c:pt>
                <c:pt idx="2">
                  <c:v>0.61</c:v>
                </c:pt>
                <c:pt idx="3">
                  <c:v>0.42</c:v>
                </c:pt>
                <c:pt idx="4">
                  <c:v>0.22</c:v>
                </c:pt>
              </c:numCache>
            </c:numRef>
          </c:val>
        </c:ser>
        <c:gapWidth val="100"/>
        <c:overlap val="0"/>
        <c:axId val="5613111"/>
        <c:axId val="95662184"/>
      </c:barChart>
      <c:lineChart>
        <c:grouping val="standard"/>
        <c:varyColors val="0"/>
        <c:ser>
          <c:idx val="4"/>
          <c:order val="4"/>
          <c:tx>
            <c:strRef>
              <c:f>label 4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7e0021"/>
            </a:solidFill>
            <a:ln w="28800">
              <a:solidFill>
                <a:srgbClr val="7e0021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2 клас</c:v>
                </c:pt>
                <c:pt idx="1">
                  <c:v>3-А клас</c:v>
                </c:pt>
                <c:pt idx="2">
                  <c:v>3-Б клас</c:v>
                </c:pt>
                <c:pt idx="3">
                  <c:v>4-А клас</c:v>
                </c:pt>
                <c:pt idx="4">
                  <c:v>4-Б клас 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5"/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5613111"/>
        <c:axId val="95662184"/>
      </c:lineChart>
      <c:catAx>
        <c:axId val="561311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5662184"/>
        <c:crosses val="autoZero"/>
        <c:auto val="1"/>
        <c:lblAlgn val="ctr"/>
        <c:lblOffset val="100"/>
        <c:noMultiLvlLbl val="0"/>
      </c:catAx>
      <c:valAx>
        <c:axId val="95662184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613111"/>
        <c:crosses val="autoZero"/>
        <c:crossBetween val="between"/>
      </c:valAx>
      <c:spPr>
        <a:noFill/>
        <a:ln w="9360">
          <a:solidFill>
            <a:srgbClr val="878787"/>
          </a:solidFill>
          <a:round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НИЗЬКИЙ РІВЕНЬ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5 клас</c:v>
                </c:pt>
                <c:pt idx="1">
                  <c:v>6 клас</c:v>
                </c:pt>
                <c:pt idx="2">
                  <c:v>7-А клас</c:v>
                </c:pt>
                <c:pt idx="3">
                  <c:v>7-Б клас</c:v>
                </c:pt>
                <c:pt idx="4">
                  <c:v>8 клас</c:v>
                </c:pt>
                <c:pt idx="5">
                  <c:v>9 клас </c:v>
                </c:pt>
                <c:pt idx="6">
                  <c:v>10 клас</c:v>
                </c:pt>
                <c:pt idx="7">
                  <c:v>11 клас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0.15</c:v>
                </c:pt>
                <c:pt idx="1">
                  <c:v>0.04</c:v>
                </c:pt>
                <c:pt idx="2">
                  <c:v>0.33</c:v>
                </c:pt>
                <c:pt idx="3">
                  <c:v>0.06</c:v>
                </c:pt>
                <c:pt idx="4">
                  <c:v>0.15</c:v>
                </c:pt>
                <c:pt idx="5">
                  <c:v>0.36</c:v>
                </c:pt>
                <c:pt idx="6">
                  <c:v>0.28</c:v>
                </c:pt>
                <c:pt idx="7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ЕРЕДНІЙ РІВЕНЬ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5 клас</c:v>
                </c:pt>
                <c:pt idx="1">
                  <c:v>6 клас</c:v>
                </c:pt>
                <c:pt idx="2">
                  <c:v>7-А клас</c:v>
                </c:pt>
                <c:pt idx="3">
                  <c:v>7-Б клас</c:v>
                </c:pt>
                <c:pt idx="4">
                  <c:v>8 клас</c:v>
                </c:pt>
                <c:pt idx="5">
                  <c:v>9 клас </c:v>
                </c:pt>
                <c:pt idx="6">
                  <c:v>10 клас</c:v>
                </c:pt>
                <c:pt idx="7">
                  <c:v>11 клас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8"/>
                <c:pt idx="0">
                  <c:v>0.4</c:v>
                </c:pt>
                <c:pt idx="1">
                  <c:v>0.52</c:v>
                </c:pt>
                <c:pt idx="2">
                  <c:v>0.26</c:v>
                </c:pt>
                <c:pt idx="3">
                  <c:v>0.06</c:v>
                </c:pt>
                <c:pt idx="4">
                  <c:v>0.74</c:v>
                </c:pt>
                <c:pt idx="5">
                  <c:v>0.36</c:v>
                </c:pt>
                <c:pt idx="6">
                  <c:v>0.72</c:v>
                </c:pt>
                <c:pt idx="7">
                  <c:v>0.66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ДОСТАТНІЙ РІВЕНЬ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5 клас</c:v>
                </c:pt>
                <c:pt idx="1">
                  <c:v>6 клас</c:v>
                </c:pt>
                <c:pt idx="2">
                  <c:v>7-А клас</c:v>
                </c:pt>
                <c:pt idx="3">
                  <c:v>7-Б клас</c:v>
                </c:pt>
                <c:pt idx="4">
                  <c:v>8 клас</c:v>
                </c:pt>
                <c:pt idx="5">
                  <c:v>9 клас </c:v>
                </c:pt>
                <c:pt idx="6">
                  <c:v>10 клас</c:v>
                </c:pt>
                <c:pt idx="7">
                  <c:v>11 клас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8"/>
                <c:pt idx="0">
                  <c:v>0.1</c:v>
                </c:pt>
                <c:pt idx="1">
                  <c:v>0.34</c:v>
                </c:pt>
                <c:pt idx="2">
                  <c:v>0.08</c:v>
                </c:pt>
                <c:pt idx="3">
                  <c:v>0.82</c:v>
                </c:pt>
                <c:pt idx="4">
                  <c:v>0.07</c:v>
                </c:pt>
                <c:pt idx="5">
                  <c:v>0.08</c:v>
                </c:pt>
                <c:pt idx="6">
                  <c:v>0</c:v>
                </c:pt>
                <c:pt idx="7">
                  <c:v>0.44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ВИСОКИЙ РІВЕНЬ</c:v>
                </c:pt>
              </c:strCache>
            </c:strRef>
          </c:tx>
          <c:spPr>
            <a:solidFill>
              <a:srgbClr val="579d1c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5 клас</c:v>
                </c:pt>
                <c:pt idx="1">
                  <c:v>6 клас</c:v>
                </c:pt>
                <c:pt idx="2">
                  <c:v>7-А клас</c:v>
                </c:pt>
                <c:pt idx="3">
                  <c:v>7-Б клас</c:v>
                </c:pt>
                <c:pt idx="4">
                  <c:v>8 клас</c:v>
                </c:pt>
                <c:pt idx="5">
                  <c:v>9 клас </c:v>
                </c:pt>
                <c:pt idx="6">
                  <c:v>10 клас</c:v>
                </c:pt>
                <c:pt idx="7">
                  <c:v>11 клас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8"/>
                <c:pt idx="0">
                  <c:v>0.35</c:v>
                </c:pt>
                <c:pt idx="1">
                  <c:v>0.1</c:v>
                </c:pt>
                <c:pt idx="2">
                  <c:v>0.13</c:v>
                </c:pt>
                <c:pt idx="3">
                  <c:v>0.06</c:v>
                </c:pt>
                <c:pt idx="4">
                  <c:v>0.04</c:v>
                </c:pt>
                <c:pt idx="5">
                  <c:v>0.2</c:v>
                </c:pt>
                <c:pt idx="6">
                  <c:v>0</c:v>
                </c:pt>
                <c:pt idx="7">
                  <c:v>0</c:v>
                </c:pt>
              </c:numCache>
            </c:numRef>
          </c:val>
        </c:ser>
        <c:gapWidth val="100"/>
        <c:overlap val="0"/>
        <c:axId val="63153666"/>
        <c:axId val="89922380"/>
      </c:barChart>
      <c:catAx>
        <c:axId val="6315366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22380"/>
        <c:crosses val="autoZero"/>
        <c:auto val="1"/>
        <c:lblAlgn val="ctr"/>
        <c:lblOffset val="100"/>
        <c:noMultiLvlLbl val="0"/>
      </c:catAx>
      <c:valAx>
        <c:axId val="899223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0.00%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536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1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2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0" y="0"/>
            <a:ext cx="2917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ldImg"/>
          </p:nvPr>
        </p:nvSpPr>
        <p:spPr>
          <a:xfrm>
            <a:off x="1149480" y="1233000"/>
            <a:ext cx="4433760" cy="3326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344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0" y="9371160"/>
            <a:ext cx="2917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3816360" y="9370800"/>
            <a:ext cx="2914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5D130-71AC-41A9-B2B7-619E7DFB63B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2FEC1-5EA8-4702-9793-9A8CCBB690C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B4114-B11C-4962-B0A9-2E50475215A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9DC7E-12AD-4152-8E44-85D365EE00C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885A0-DC3E-48D3-B511-17EBFC66A72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E30F6-A03F-43D1-B107-0BB4C94F16A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3B7E8-05F8-4A66-B1B6-08712844F4E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5CD28-71EB-458F-B49B-28549C8BC03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2B81B-C619-474C-85DD-E832CE84BD5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62569-BF58-44E1-8D34-B1FFD98F6CE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12FB7-3C3D-4502-B2B4-7DB87D89718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39006-6B1F-45AF-A000-980C0C5A96C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268AC-3748-413E-963A-C082DA9AF7F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B3FEA-3986-4DFD-A950-D7D0E39BC54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68DB6-DB72-416A-94FF-858061D3055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DC0B0-B23C-4432-B9F8-AA54DAB438B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4CE00-2484-4F23-8BAF-0EE76993F08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461DD-9A6C-4B10-97B4-1B00DBFA689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DB815-B7CD-40A5-834F-9658275F068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79119-76AC-4F30-9EE2-126381A3A64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5E135-C064-4A21-95E4-5B92B4FD9E1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C6F84-7F65-4A12-889F-3BBAEADD28D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9BDD9-CF6D-4900-820B-71AC69883DA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E2505-A3AA-489B-A637-AB8EABE52F6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70004-7068-4331-95C3-82FAF6C6FDB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3F2C3-8A2D-4DC4-B73F-955EF0A15BD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E6713-2EB6-4D8D-A525-36C2E98B809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0ABC7-6661-4674-BC35-74FF9F2A588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754EC-CE02-4FCC-BE70-A25DC52D913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F66E1-4E64-451C-8613-B4F8FA058B1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A69F6-2285-42BE-91F0-7F6F2DE4BD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4C528-BB23-4231-AD6F-3BD653F8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A7747-26C7-41E4-95B6-C91FA8EE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588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6912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264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588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6912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AC1A2-8372-4175-9544-F63BB091CF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40A90-EC50-4B64-88BF-60ADA04D1D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87DDE-7E5E-4C6B-AB1A-8493633B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A0D41-8B6A-4C4B-9F54-64F30B76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E3C6B-985C-495C-9A2E-EA6AA8C1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CB3BC-770A-4D84-BCBA-EB513DC1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088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BA281-949B-42BB-819E-B039F2AD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1E163-EE9C-41F6-88F8-A853E6E5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47734-313E-4CF1-9CC0-09AF65FF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83B90-11BE-48DA-BB6B-023F8ED2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A8D22-0949-4895-BE3E-0E9EE3C7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34232-D4BF-4101-962B-7BA042F8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F9A0E-87A0-4F4F-ADE6-D3ECB12B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588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6912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264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588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6912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A7F9C-C4C1-4816-A458-DECBA0C630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8A05-E5D0-471C-91C2-6EA0391570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3D03-A426-4BCE-B3B5-5F898353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0C18-8EA3-4194-9102-808B0622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3AF5-9188-4DEC-ACF4-B45E88B0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3E8D-D508-4299-BAA3-DCDC35FC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9000C-D224-4F0C-8279-1CA7A457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088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6CD3-13F2-4D12-A0F3-0BC98C52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0D09-F0FC-4E6A-ADC8-F6026F63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3048-18DF-49BA-A475-651A907F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F8D9-F7DD-4949-9862-179E48B5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63E5-E0A0-43CB-A0E2-D9484948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AF21-A9A7-4AD0-A7D7-3F0C5634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588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6912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264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588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6912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773B-1D9A-4559-975F-656E79AB22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A3438-CC36-4A93-B00B-5C6E93B9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3FB6B-6C1C-42D3-B25A-21D49C82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088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36B8A-2689-4939-928A-B834EF90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D1C6C-C6FF-4C4F-B00B-D4CB2935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743A5-5853-4E6E-95EE-5470E769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89BB1-C72A-42E8-89E8-5AA7B73C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6480" y="3859200"/>
            <a:ext cx="9153720" cy="3002040"/>
            <a:chOff x="-6480" y="3859200"/>
            <a:chExt cx="9153720" cy="300204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3720" cy="30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0" y="3867120"/>
              <a:ext cx="9140760" cy="29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Group 4"/>
          <p:cNvGrpSpPr/>
          <p:nvPr/>
        </p:nvGrpSpPr>
        <p:grpSpPr>
          <a:xfrm>
            <a:off x="-6480" y="-6480"/>
            <a:ext cx="9153720" cy="3873600"/>
            <a:chOff x="-6480" y="-6480"/>
            <a:chExt cx="9153720" cy="3873600"/>
          </a:xfrm>
        </p:grpSpPr>
        <p:pic>
          <p:nvPicPr>
            <p:cNvPr id="4" name="Picture 5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3720" cy="38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Text Box 6"/>
            <p:cNvSpPr/>
            <p:nvPr/>
          </p:nvSpPr>
          <p:spPr>
            <a:xfrm>
              <a:off x="0" y="0"/>
              <a:ext cx="9140760" cy="38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Rectangle 7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6480" y="1596960"/>
            <a:ext cx="9153720" cy="5111640"/>
            <a:chOff x="-6480" y="1596960"/>
            <a:chExt cx="9153720" cy="5111640"/>
          </a:xfrm>
        </p:grpSpPr>
        <p:pic>
          <p:nvPicPr>
            <p:cNvPr id="8" name="Picture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372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10"/>
            <p:cNvSpPr/>
            <p:nvPr/>
          </p:nvSpPr>
          <p:spPr>
            <a:xfrm>
              <a:off x="1339920" y="2347920"/>
              <a:ext cx="64609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2200" y="6171840"/>
            <a:ext cx="2511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Text Box 14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3809880" y="6171840"/>
            <a:ext cx="1825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9DC088-7C77-4381-9F4B-3299C42B6A24}" type="slidenum">
              <a:rPr b="1" lang="ru-RU" sz="1200" spc="-1" strike="noStrike">
                <a:solidFill>
                  <a:srgbClr val="7f7f7f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"/>
          <p:cNvGrpSpPr/>
          <p:nvPr/>
        </p:nvGrpSpPr>
        <p:grpSpPr>
          <a:xfrm>
            <a:off x="-6480" y="5102280"/>
            <a:ext cx="9153720" cy="1758960"/>
            <a:chOff x="-6480" y="5102280"/>
            <a:chExt cx="9153720" cy="1758960"/>
          </a:xfrm>
        </p:grpSpPr>
        <p:pic>
          <p:nvPicPr>
            <p:cNvPr id="52" name="Picture 2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3720" cy="17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3"/>
            <p:cNvSpPr/>
            <p:nvPr/>
          </p:nvSpPr>
          <p:spPr>
            <a:xfrm>
              <a:off x="0" y="5105520"/>
              <a:ext cx="9140760" cy="17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Group 4"/>
          <p:cNvGrpSpPr/>
          <p:nvPr/>
        </p:nvGrpSpPr>
        <p:grpSpPr>
          <a:xfrm>
            <a:off x="-6480" y="-6480"/>
            <a:ext cx="9153720" cy="5118120"/>
            <a:chOff x="-6480" y="-6480"/>
            <a:chExt cx="9153720" cy="5118120"/>
          </a:xfrm>
        </p:grpSpPr>
        <p:pic>
          <p:nvPicPr>
            <p:cNvPr id="55" name="Picture 5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3720" cy="51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6"/>
            <p:cNvSpPr/>
            <p:nvPr/>
          </p:nvSpPr>
          <p:spPr>
            <a:xfrm>
              <a:off x="0" y="0"/>
              <a:ext cx="9140760" cy="51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Rectangle 7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-6480" y="1596960"/>
            <a:ext cx="9153720" cy="5111640"/>
            <a:chOff x="-6480" y="1596960"/>
            <a:chExt cx="9153720" cy="5111640"/>
          </a:xfrm>
        </p:grpSpPr>
        <p:pic>
          <p:nvPicPr>
            <p:cNvPr id="59" name="Picture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372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0"/>
            <p:cNvSpPr/>
            <p:nvPr/>
          </p:nvSpPr>
          <p:spPr>
            <a:xfrm>
              <a:off x="1339920" y="2347920"/>
              <a:ext cx="64609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" name="Group 11"/>
          <p:cNvGrpSpPr/>
          <p:nvPr/>
        </p:nvGrpSpPr>
        <p:grpSpPr>
          <a:xfrm>
            <a:off x="-6480" y="3859200"/>
            <a:ext cx="9153720" cy="3002040"/>
            <a:chOff x="-6480" y="3859200"/>
            <a:chExt cx="9153720" cy="3002040"/>
          </a:xfrm>
        </p:grpSpPr>
        <p:pic>
          <p:nvPicPr>
            <p:cNvPr id="62" name="Picture 12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3720" cy="30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3"/>
            <p:cNvSpPr/>
            <p:nvPr/>
          </p:nvSpPr>
          <p:spPr>
            <a:xfrm>
              <a:off x="0" y="3867120"/>
              <a:ext cx="9140760" cy="29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" name="Group 14"/>
          <p:cNvGrpSpPr/>
          <p:nvPr/>
        </p:nvGrpSpPr>
        <p:grpSpPr>
          <a:xfrm>
            <a:off x="-6480" y="-6480"/>
            <a:ext cx="9153720" cy="3873600"/>
            <a:chOff x="-6480" y="-6480"/>
            <a:chExt cx="9153720" cy="3873600"/>
          </a:xfrm>
        </p:grpSpPr>
        <p:pic>
          <p:nvPicPr>
            <p:cNvPr id="65" name="Picture 15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3720" cy="38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6"/>
            <p:cNvSpPr/>
            <p:nvPr/>
          </p:nvSpPr>
          <p:spPr>
            <a:xfrm>
              <a:off x="0" y="0"/>
              <a:ext cx="9140760" cy="38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Rectangle 17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8"/>
          <p:cNvGrpSpPr/>
          <p:nvPr/>
        </p:nvGrpSpPr>
        <p:grpSpPr>
          <a:xfrm>
            <a:off x="-6480" y="1596960"/>
            <a:ext cx="9153720" cy="5111640"/>
            <a:chOff x="-6480" y="1596960"/>
            <a:chExt cx="9153720" cy="5111640"/>
          </a:xfrm>
        </p:grpSpPr>
        <p:pic>
          <p:nvPicPr>
            <p:cNvPr id="69" name="Picture 1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372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20"/>
            <p:cNvSpPr/>
            <p:nvPr/>
          </p:nvSpPr>
          <p:spPr>
            <a:xfrm>
              <a:off x="1339920" y="2347920"/>
              <a:ext cx="64609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3"/>
          </p:nvPr>
        </p:nvSpPr>
        <p:spPr>
          <a:xfrm>
            <a:off x="6172200" y="6171840"/>
            <a:ext cx="2511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4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4"/>
          </p:nvPr>
        </p:nvSpPr>
        <p:spPr>
          <a:xfrm>
            <a:off x="3809880" y="6171840"/>
            <a:ext cx="1825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59086E-86CD-4A3C-A8C9-F614760C2356}" type="slidenum">
              <a:rPr b="1" lang="ru-RU" sz="1200" spc="-1" strike="noStrike">
                <a:solidFill>
                  <a:srgbClr val="7f7f7f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1"/>
          <p:cNvGrpSpPr/>
          <p:nvPr/>
        </p:nvGrpSpPr>
        <p:grpSpPr>
          <a:xfrm>
            <a:off x="-6480" y="3859200"/>
            <a:ext cx="9153720" cy="3002040"/>
            <a:chOff x="-6480" y="3859200"/>
            <a:chExt cx="9153720" cy="3002040"/>
          </a:xfrm>
        </p:grpSpPr>
        <p:pic>
          <p:nvPicPr>
            <p:cNvPr id="113" name="Picture 2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3720" cy="30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3"/>
            <p:cNvSpPr/>
            <p:nvPr/>
          </p:nvSpPr>
          <p:spPr>
            <a:xfrm>
              <a:off x="0" y="3867120"/>
              <a:ext cx="9140760" cy="29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4"/>
          <p:cNvGrpSpPr/>
          <p:nvPr/>
        </p:nvGrpSpPr>
        <p:grpSpPr>
          <a:xfrm>
            <a:off x="-6480" y="-6480"/>
            <a:ext cx="9153720" cy="3873600"/>
            <a:chOff x="-6480" y="-6480"/>
            <a:chExt cx="9153720" cy="3873600"/>
          </a:xfrm>
        </p:grpSpPr>
        <p:pic>
          <p:nvPicPr>
            <p:cNvPr id="116" name="Picture 5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3720" cy="38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6"/>
            <p:cNvSpPr/>
            <p:nvPr/>
          </p:nvSpPr>
          <p:spPr>
            <a:xfrm>
              <a:off x="0" y="0"/>
              <a:ext cx="9140760" cy="38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" name="Rectangle 7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 8"/>
          <p:cNvGrpSpPr/>
          <p:nvPr/>
        </p:nvGrpSpPr>
        <p:grpSpPr>
          <a:xfrm>
            <a:off x="-6480" y="1596960"/>
            <a:ext cx="9153720" cy="5111640"/>
            <a:chOff x="-6480" y="1596960"/>
            <a:chExt cx="9153720" cy="5111640"/>
          </a:xfrm>
        </p:grpSpPr>
        <p:pic>
          <p:nvPicPr>
            <p:cNvPr id="120" name="Picture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372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0"/>
            <p:cNvSpPr/>
            <p:nvPr/>
          </p:nvSpPr>
          <p:spPr>
            <a:xfrm>
              <a:off x="1339920" y="2347920"/>
              <a:ext cx="64609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5"/>
          </p:nvPr>
        </p:nvSpPr>
        <p:spPr>
          <a:xfrm>
            <a:off x="6172200" y="6171840"/>
            <a:ext cx="2511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6"/>
          </p:nvPr>
        </p:nvSpPr>
        <p:spPr>
          <a:xfrm>
            <a:off x="3809880" y="6171840"/>
            <a:ext cx="1825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156438-1F8D-4BCA-9997-8593E072E2CB}" type="slidenum">
              <a:rPr b="1" lang="ru-RU" sz="1200" spc="-1" strike="noStrike">
                <a:solidFill>
                  <a:srgbClr val="7f7f7f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1000080" y="1000080"/>
            <a:ext cx="7215120" cy="72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2a6099"/>
                </a:solidFill>
                <a:latin typeface="Arial Narrow"/>
                <a:ea typeface="Tahoma"/>
              </a:rPr>
              <a:t> </a:t>
            </a:r>
            <a:r>
              <a:rPr b="1" i="1" lang="ru-RU" sz="4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Зв</a:t>
            </a:r>
            <a:r>
              <a:rPr b="1" i="1" lang="uk-UA" sz="4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іт директо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4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щодо функціонування </a:t>
            </a:r>
            <a:br>
              <a:rPr sz="4000"/>
            </a:br>
            <a:r>
              <a:rPr b="1" i="1" lang="uk-UA" sz="4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КЗ “Чугуївський ліцей № 7 “</a:t>
            </a:r>
            <a:br>
              <a:rPr sz="4000"/>
            </a:br>
            <a:r>
              <a:rPr b="1" i="1" lang="uk-UA" sz="4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у 2020/2021 навчальному році</a:t>
            </a:r>
            <a:br>
              <a:rPr sz="4000"/>
            </a:br>
            <a:r>
              <a:rPr b="1" i="1" lang="uk-UA" sz="4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та пріоритетні завдання</a:t>
            </a:r>
            <a:br>
              <a:rPr sz="4000"/>
            </a:br>
            <a:r>
              <a:rPr b="1" i="1" lang="uk-UA" sz="4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 на 2021/2022 навчальний рі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4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Директор ліцею   Л.В. Маланіна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uk-UA" sz="4000" spc="-1" strike="noStrike">
                <a:solidFill>
                  <a:srgbClr val="ff0000"/>
                </a:solidFill>
                <a:latin typeface="Franklin Gothic Medium Cond"/>
                <a:ea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2133720" y="431640"/>
            <a:ext cx="4960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Результати навчальних досягнень за підсумками 2020/2021 н.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60360" y="1073160"/>
          <a:ext cx="8639280" cy="5713560"/>
        </p:xfrm>
        <a:graphic>
          <a:graphicData uri="http://schemas.openxmlformats.org/drawingml/2006/table">
            <a:tbl>
              <a:tblPr/>
              <a:tblGrid>
                <a:gridCol w="846000"/>
                <a:gridCol w="1092240"/>
                <a:gridCol w="1016280"/>
                <a:gridCol w="471240"/>
                <a:gridCol w="498600"/>
                <a:gridCol w="641160"/>
                <a:gridCol w="527040"/>
                <a:gridCol w="493920"/>
                <a:gridCol w="568440"/>
                <a:gridCol w="529920"/>
                <a:gridCol w="1954440"/>
              </a:tblGrid>
              <a:tr h="263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учнів на початок рок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учнів на кінець рок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пішн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9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ьо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1224000" y="216000"/>
            <a:ext cx="7128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Аналіз рейтингування класів за якістю зна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57120" y="785880"/>
          <a:ext cx="8072640" cy="5554440"/>
        </p:xfrm>
        <a:graphic>
          <a:graphicData uri="http://schemas.openxmlformats.org/drawingml/2006/table">
            <a:tbl>
              <a:tblPr/>
              <a:tblGrid>
                <a:gridCol w="357120"/>
                <a:gridCol w="706680"/>
                <a:gridCol w="1684080"/>
                <a:gridCol w="1930680"/>
                <a:gridCol w="1449360"/>
                <a:gridCol w="1944720"/>
              </a:tblGrid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/п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ла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сний керівни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редній бал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 2020/202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льному році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кість знань у 2020/2021 навчальному році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йтингове місц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-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ренко Л.С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-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ндаренко М.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льчукова А.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вєтова О.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-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ременко Г.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-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ступа Н.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вілова Т.С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крут А.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енцер О.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роз О.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571680" y="500040"/>
            <a:ext cx="79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оніторинг якості знань учнів 4-х класів з предметів 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020/2021 навчальний рі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2"/>
          <p:cNvSpPr/>
          <p:nvPr/>
        </p:nvSpPr>
        <p:spPr>
          <a:xfrm>
            <a:off x="31680" y="-76320"/>
            <a:ext cx="6153120" cy="23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Object 3"/>
          <p:cNvGraphicFramePr/>
          <p:nvPr/>
        </p:nvGraphicFramePr>
        <p:xfrm>
          <a:off x="928800" y="1500120"/>
          <a:ext cx="7500960" cy="378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500120"/>
                    <a:ext cx="750096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5"/>
          <p:cNvSpPr/>
          <p:nvPr/>
        </p:nvSpPr>
        <p:spPr>
          <a:xfrm>
            <a:off x="31680" y="-76320"/>
            <a:ext cx="616284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Object 6"/>
          <p:cNvGraphicFramePr/>
          <p:nvPr/>
        </p:nvGraphicFramePr>
        <p:xfrm>
          <a:off x="285840" y="785880"/>
          <a:ext cx="8429400" cy="542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785880"/>
                    <a:ext cx="842940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Rectangle 8"/>
          <p:cNvSpPr/>
          <p:nvPr/>
        </p:nvSpPr>
        <p:spPr>
          <a:xfrm>
            <a:off x="0" y="47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1728720" y="287280"/>
            <a:ext cx="6335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Організація допрофільного навча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20720" y="1066680"/>
          <a:ext cx="8136000" cy="4005360"/>
        </p:xfrm>
        <a:graphic>
          <a:graphicData uri="http://schemas.openxmlformats.org/drawingml/2006/table">
            <a:tbl>
              <a:tblPr/>
              <a:tblGrid>
                <a:gridCol w="1504800"/>
                <a:gridCol w="1306800"/>
                <a:gridCol w="1274760"/>
                <a:gridCol w="1307880"/>
                <a:gridCol w="1273320"/>
                <a:gridCol w="1468440"/>
              </a:tblGrid>
              <a:tr h="875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чальний рі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кількі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– 9 клас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рофільні клас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хопле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н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н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20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-20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-2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2200320" y="360360"/>
            <a:ext cx="4827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Організація профільного навча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220760" y="1131840"/>
          <a:ext cx="7280280" cy="3971880"/>
        </p:xfrm>
        <a:graphic>
          <a:graphicData uri="http://schemas.openxmlformats.org/drawingml/2006/table">
            <a:tbl>
              <a:tblPr/>
              <a:tblGrid>
                <a:gridCol w="1268280"/>
                <a:gridCol w="1194120"/>
                <a:gridCol w="1163520"/>
                <a:gridCol w="1216080"/>
                <a:gridCol w="1182600"/>
                <a:gridCol w="1255680"/>
              </a:tblGrid>
              <a:tr h="603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льний рі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гальна кількіст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– 11 клас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ільні клас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охопле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85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лас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н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лас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н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6-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7-20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8-20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-20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-2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285840" y="785880"/>
            <a:ext cx="88581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Дані щодо продовження навчання та працевлаштува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випускників 9-х клас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87280" y="1627200"/>
          <a:ext cx="8642520" cy="4879800"/>
        </p:xfrm>
        <a:graphic>
          <a:graphicData uri="http://schemas.openxmlformats.org/drawingml/2006/table">
            <a:tbl>
              <a:tblPr/>
              <a:tblGrid>
                <a:gridCol w="1257480"/>
                <a:gridCol w="1207800"/>
                <a:gridCol w="801720"/>
                <a:gridCol w="685800"/>
                <a:gridCol w="428760"/>
                <a:gridCol w="647640"/>
                <a:gridCol w="1035000"/>
                <a:gridCol w="763560"/>
                <a:gridCol w="1814760"/>
              </a:tblGrid>
              <a:tr h="291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льний рі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140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 випускник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140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єть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довжують навча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навчаєть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24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клас денної шко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чірня шко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ТН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З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-І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. ак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нш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6-20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7-20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8-20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-2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-20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  <p:sp>
        <p:nvSpPr>
          <p:cNvPr id="217" name="TextBox 3"/>
          <p:cNvSpPr/>
          <p:nvPr/>
        </p:nvSpPr>
        <p:spPr>
          <a:xfrm>
            <a:off x="0" y="214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800" spc="-1" strike="noStrike">
                <a:solidFill>
                  <a:srgbClr val="3333cc"/>
                </a:solidFill>
                <a:latin typeface="Arial"/>
              </a:rPr>
              <a:t>Контроль за здобуттям повної загальної середньої освіти та подальшого навчан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896760" y="216000"/>
            <a:ext cx="7432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Дані щодо продовження навчання та працевлаштува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випускників 11-х клас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16000" y="936720"/>
          <a:ext cx="8715240" cy="5830920"/>
        </p:xfrm>
        <a:graphic>
          <a:graphicData uri="http://schemas.openxmlformats.org/drawingml/2006/table">
            <a:tbl>
              <a:tblPr/>
              <a:tblGrid>
                <a:gridCol w="1182600"/>
                <a:gridCol w="527040"/>
                <a:gridCol w="922320"/>
                <a:gridCol w="792000"/>
                <a:gridCol w="790920"/>
                <a:gridCol w="661680"/>
                <a:gridCol w="527040"/>
                <a:gridCol w="395280"/>
                <a:gridCol w="658800"/>
                <a:gridCol w="792360"/>
                <a:gridCol w="1054080"/>
                <a:gridCol w="411120"/>
              </a:tblGrid>
              <a:tr h="371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льний рі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випускникі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ється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довжують одержувати освіту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навчаютьс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 них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З ІІІ-ІV р. акр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З І-І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. акр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ТН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нш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ацевла-штован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працюють, не навчаютьс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ворі та виїхали за межі област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нш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140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6-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7-20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8-20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-20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-2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936720" y="216000"/>
            <a:ext cx="68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Підсумки роботи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інклюзивних клас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936720" y="1295280"/>
            <a:ext cx="7775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400" spc="-1" strike="noStrike">
                <a:solidFill>
                  <a:srgbClr val="8585e0"/>
                </a:solidFill>
                <a:latin typeface="Arial"/>
                <a:ea typeface="Arial"/>
              </a:rPr>
              <a:t>Відповідно до рекомендацій  ІРЦ та згоди батьків у 2020-2021 н. р. 6 дітей ліцею  навчаються в 4 класах з інклюзивною формою навчання (порушення слуху - 1, порушення інтелектуального розвитку-5) педагогічний супровід яких здійснюють вчителі даних класів та 4 асистентів вчител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720720" y="2522520"/>
            <a:ext cx="836604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400" spc="-1" strike="noStrike">
                <a:solidFill>
                  <a:srgbClr val="8585e0"/>
                </a:solidFill>
                <a:latin typeface="Arial"/>
                <a:ea typeface="Arial"/>
              </a:rPr>
              <a:t>В роботі з дітьми особливими освітніми потребами були враховані такі принципи педагогічної діяльності, які орієнтовані на інтереси сім’ї, а сам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400" spc="-1" strike="noStrike">
                <a:solidFill>
                  <a:srgbClr val="8585e0"/>
                </a:solidFill>
                <a:latin typeface="Arial"/>
                <a:ea typeface="Arial"/>
              </a:rPr>
              <a:t>1) визнання того, що сім’я є елементом стабільності в житті дитини, в той час як педагоги можуть весь час змінюватис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400" spc="-1" strike="noStrike">
                <a:solidFill>
                  <a:srgbClr val="8585e0"/>
                </a:solidFill>
                <a:latin typeface="Arial"/>
                <a:ea typeface="Arial"/>
              </a:rPr>
              <a:t>2) ефективне співробітництво педагогів з батьками та іншими фахівцям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400" spc="-1" strike="noStrike">
                <a:solidFill>
                  <a:srgbClr val="8585e0"/>
                </a:solidFill>
                <a:latin typeface="Arial"/>
                <a:ea typeface="Arial"/>
              </a:rPr>
              <a:t>3) регулярний обмін з батьками повною та неупередженою інформацією стосовно їхніх діте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400" spc="-1" strike="noStrike">
                <a:solidFill>
                  <a:srgbClr val="8585e0"/>
                </a:solidFill>
                <a:latin typeface="Arial"/>
                <a:ea typeface="Arial"/>
              </a:rPr>
              <a:t>4) розуміння й урахування потреб дітей під час розробки навчальних та інших програ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400" spc="-1" strike="noStrike">
                <a:solidFill>
                  <a:srgbClr val="8585e0"/>
                </a:solidFill>
                <a:latin typeface="Arial"/>
                <a:ea typeface="Arial"/>
              </a:rPr>
              <a:t>5) розуміння унікальності кожної сім’ї, повага до різних методів навчання та виховання дітей, що застосовуються батькам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400" spc="-1" strike="noStrike">
                <a:solidFill>
                  <a:srgbClr val="8585e0"/>
                </a:solidFill>
                <a:latin typeface="Arial"/>
                <a:ea typeface="Arial"/>
              </a:rPr>
              <a:t>6) турбота про те, щоб послуги, які надаються родинам, були комплексними, скоординованими, гнучкими, доступними і відповідали потребам кожної родин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431640" y="4680"/>
            <a:ext cx="8568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Соціальний захист учасників освітнього проце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503280" y="509760"/>
          <a:ext cx="8354880" cy="5776920"/>
        </p:xfrm>
        <a:graphic>
          <a:graphicData uri="http://schemas.openxmlformats.org/drawingml/2006/table">
            <a:tbl>
              <a:tblPr/>
              <a:tblGrid>
                <a:gridCol w="3235320"/>
                <a:gridCol w="745920"/>
                <a:gridCol w="997200"/>
                <a:gridCol w="1120680"/>
                <a:gridCol w="1120680"/>
                <a:gridCol w="1135080"/>
              </a:tblGrid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прямок робо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6-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7-20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8-20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-20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-2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163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лік неповнолітніх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сироти, позбавлені батьківського піклува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8840"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йомна род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напівсиро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іти з багатодітної роди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іти ліквідаторів на ЧАЕ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іти-інвалід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936720" y="298440"/>
            <a:ext cx="73054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6080" algn="ctr">
              <a:lnSpc>
                <a:spcPct val="100000"/>
              </a:lnSpc>
              <a:tabLst>
                <a:tab algn="l" pos="0"/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Пріоритетними завданнями ліцею було  забезпечення прав молоді на здобуття освіти, виконання Закону України “ Про освіту”, “Про загальну середню освіту”</a:t>
            </a:r>
            <a:br>
              <a:rPr sz="2000"/>
            </a:b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Стан і розвиток шкільної мереж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58720" y="2733840"/>
          <a:ext cx="8369280" cy="3636720"/>
        </p:xfrm>
        <a:graphic>
          <a:graphicData uri="http://schemas.openxmlformats.org/drawingml/2006/table">
            <a:tbl>
              <a:tblPr/>
              <a:tblGrid>
                <a:gridCol w="1360440"/>
                <a:gridCol w="1563840"/>
                <a:gridCol w="1668600"/>
                <a:gridCol w="1692000"/>
                <a:gridCol w="2084400"/>
              </a:tblGrid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чальний рі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учні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класі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я наповнюва-ніст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 algn="ctr">
                        <a:lnSpc>
                          <a:spcPct val="86000"/>
                        </a:lnSpc>
                        <a:tabLst>
                          <a:tab algn="l" pos="0"/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пущен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20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-20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-20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28680" y="498600"/>
          <a:ext cx="8529480" cy="5802120"/>
        </p:xfrm>
        <a:graphic>
          <a:graphicData uri="http://schemas.openxmlformats.org/drawingml/2006/table">
            <a:tbl>
              <a:tblPr/>
              <a:tblGrid>
                <a:gridCol w="3301920"/>
                <a:gridCol w="762120"/>
                <a:gridCol w="1019160"/>
                <a:gridCol w="1144440"/>
                <a:gridCol w="1144800"/>
                <a:gridCol w="115704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іти воїнів АТ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П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іти з малозабезпечених сім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неблагополучні роди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іти з девіантною поведінко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іти одиноких матер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оплені безкоштовним гарячим харчуванням за кошти міського бюджет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indent="-10008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ана матеріальна допомога з фонду загальнообов’язкового навча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00 гр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 000 гр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 200 гр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ані новорічні подарун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дсоток учнів, що залучені до позакласної робо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857160" y="642960"/>
            <a:ext cx="785808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1378080" y="144360"/>
            <a:ext cx="6399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Організація харчування учнів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03280" y="863640"/>
            <a:ext cx="799128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785880" y="928800"/>
            <a:ext cx="7143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Безкоштовне харчування учнів 1-4-х класів – 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Безкоштовне харчування учнів 5-11-х класів – 14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Харчування за кошти батьків -</a:t>
            </a:r>
            <a:br>
              <a:rPr sz="3200"/>
            </a:br>
            <a:r>
              <a:rPr b="1" lang="uk-UA" sz="32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ГПД – 100%</a:t>
            </a:r>
            <a:br>
              <a:rPr sz="3200"/>
            </a:br>
            <a:r>
              <a:rPr b="1" lang="uk-UA" sz="32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5-11 класи - 86%</a:t>
            </a:r>
            <a:br>
              <a:rPr sz="3200"/>
            </a:br>
            <a:r>
              <a:rPr b="1" lang="uk-UA" sz="32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Буфетна продукція – 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1143000" y="274680"/>
            <a:ext cx="779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182520">
              <a:lnSpc>
                <a:spcPct val="90000"/>
              </a:lnSpc>
              <a:spcAft>
                <a:spcPts val="300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079640" y="201600"/>
            <a:ext cx="76327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Робота з профілактики правопорушень та інших негативних прояві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в учнівському середовищі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60360" y="1368360"/>
            <a:ext cx="8567640" cy="55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У ліцеї створено умови щодо запобігання в учнівському середовищі будь-яких проявів насильства, з метою проведення інформаційно – роз’яснювальної роботи серед дітей із протидії правопорушенням, булінгу, торгівлі людьми, бродяжництву протягом року проведено профілактичні захо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- Цикл тренінгових занять «Чому зникають ді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- Цикл бесід «Як спілкуватись  з незнайомцям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- Індивідуальні бесіди з дітьми , які опинились у складних життєвих обставинах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- Всеукраїнський урок «Закон – мій друг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- Рейд «Урок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- Уроки відвертого спілкування «Викресли булінг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У закладі освіти створена і діє Рада з питань профілактики правопорушень, на засіданнях якої були розглянуті питання щодо проведення профілактичних рейдів по виявленню неповнолітніх, які ухиляються від навчання, які виховуються в родинах, що опинилися у складних життєвих обставинах, які пропускають заняття без поважних причин, а також питання, пов’язані з профілактикою дисциплінарних порушень та правопоруше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-7920" y="287280"/>
            <a:ext cx="91710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Безпека життєдіяльності та запобігання всім видам дитячого травматизму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216000" y="1295280"/>
            <a:ext cx="90216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85840" y="1397160"/>
          <a:ext cx="8215200" cy="4068720"/>
        </p:xfrm>
        <a:graphic>
          <a:graphicData uri="http://schemas.openxmlformats.org/drawingml/2006/table">
            <a:tbl>
              <a:tblPr/>
              <a:tblGrid>
                <a:gridCol w="1643040"/>
                <a:gridCol w="1095480"/>
                <a:gridCol w="1368360"/>
                <a:gridCol w="1369800"/>
                <a:gridCol w="1370160"/>
                <a:gridCol w="1368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2016/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2017/20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2018/20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2019/20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2020/2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2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Травмування під час освітнього процесу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2 (0,5 %)              під час перерв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2 (0,5 %)              під час перерв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114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Травмування в побуті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1 (0,3%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1 (0,3%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3 (0,9%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3 (0,9%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1 (0,3%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1428840" y="785880"/>
            <a:ext cx="692928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17928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uk-UA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287280" y="539640"/>
            <a:ext cx="8567640" cy="57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ховна проблема: </a:t>
            </a:r>
            <a:r>
              <a:rPr b="1" i="1" lang="uk-U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Формування особистості учнів на традиціях української історії та культури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13" descr="C:\Windows\system32\config\systemprofile\Desktop\Новая папка\11.jpg"/>
          <p:cNvPicPr/>
          <p:nvPr/>
        </p:nvPicPr>
        <p:blipFill>
          <a:blip r:embed="rId2"/>
          <a:stretch/>
        </p:blipFill>
        <p:spPr>
          <a:xfrm>
            <a:off x="357120" y="2143080"/>
            <a:ext cx="3245040" cy="2428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5" descr="C:\Windows\system32\config\systemprofile\Desktop\Новая папка\20210618_133718.jpg"/>
          <p:cNvPicPr/>
          <p:nvPr/>
        </p:nvPicPr>
        <p:blipFill>
          <a:blip r:embed="rId3"/>
          <a:stretch/>
        </p:blipFill>
        <p:spPr>
          <a:xfrm>
            <a:off x="5429160" y="2143080"/>
            <a:ext cx="3357720" cy="2571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7" descr="C:\Windows\system32\config\systemprofile\Desktop\Новая папка\день спорту.jpg"/>
          <p:cNvPicPr/>
          <p:nvPr/>
        </p:nvPicPr>
        <p:blipFill>
          <a:blip r:embed="rId4"/>
          <a:stretch/>
        </p:blipFill>
        <p:spPr>
          <a:xfrm>
            <a:off x="2500200" y="4572000"/>
            <a:ext cx="314352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"/>
          <p:cNvSpPr/>
          <p:nvPr/>
        </p:nvSpPr>
        <p:spPr>
          <a:xfrm>
            <a:off x="2992320" y="285840"/>
            <a:ext cx="315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rebuchet MS"/>
                <a:ea typeface="Arial"/>
              </a:rPr>
              <a:t>Система учнівського самоврядуван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85840" y="2071800"/>
          <a:ext cx="8215200" cy="2300040"/>
        </p:xfrm>
        <a:graphic>
          <a:graphicData uri="http://schemas.openxmlformats.org/drawingml/2006/table">
            <a:tbl>
              <a:tblPr/>
              <a:tblGrid>
                <a:gridCol w="1785960"/>
                <a:gridCol w="1500120"/>
                <a:gridCol w="1643040"/>
                <a:gridCol w="1643040"/>
                <a:gridCol w="1643040"/>
              </a:tblGrid>
              <a:tr h="923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Президент учнівського парламенту “ Дружба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Голови комісій,центрі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>
                      <a:noFill/>
                    </a:lnB>
                    <a:solidFill>
                      <a:srgbClr val="2d2db9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Комісія національного відродже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Дозвілля і спорт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Навчально –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розпорядч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Прес - цент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Комісія дисципліни і порядк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Object 1"/>
          <p:cNvGraphicFramePr/>
          <p:nvPr/>
        </p:nvGraphicFramePr>
        <p:xfrm>
          <a:off x="936720" y="1079640"/>
          <a:ext cx="7632720" cy="5256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49" name="Text Box 2"/>
          <p:cNvSpPr/>
          <p:nvPr/>
        </p:nvSpPr>
        <p:spPr>
          <a:xfrm>
            <a:off x="287280" y="216000"/>
            <a:ext cx="84963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Моніторинг рівня вихованості учнів початкової шко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968400" y="287280"/>
            <a:ext cx="721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Моніторинг рівня вихованості учнів 5- 11 клас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936720" y="1522440"/>
          <a:ext cx="7199280" cy="43099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1"/>
          <p:cNvSpPr/>
          <p:nvPr/>
        </p:nvSpPr>
        <p:spPr>
          <a:xfrm>
            <a:off x="928800" y="35712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1800" spc="-1" strike="noStrike">
                <a:solidFill>
                  <a:srgbClr val="7030a0"/>
                </a:solidFill>
                <a:latin typeface="Trebuchet MS"/>
                <a:ea typeface="Arial"/>
              </a:rPr>
              <a:t>Фінансово - господарська діяльні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14200" y="785880"/>
          <a:ext cx="8786880" cy="5956200"/>
        </p:xfrm>
        <a:graphic>
          <a:graphicData uri="http://schemas.openxmlformats.org/drawingml/2006/table">
            <a:tbl>
              <a:tblPr/>
              <a:tblGrid>
                <a:gridCol w="2928960"/>
                <a:gridCol w="2928960"/>
                <a:gridCol w="2928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За кошти батьк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З міського бюджет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Залучені кош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87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монт п'яти навчальних кабінеті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бання кухонного посуд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ь у мініпроєкт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 Заклад рівних можливостей "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монт коридору малої шко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целярські та господарські товар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ний конкурс " Разом в майбутнє"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14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монт стін фойє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монт покрівлі господарської будівл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 " Міцна громада"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єкт соціальної дії за фінансової підтримки Європейської Комісії та Британської Ради у співфінансуванні з органами місцевого самоврядуванн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ий ремонт коридорів, фасаду школи та господарської будівл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ейнери для сміття ( 4 шт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бання пожежного щи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іна дверей господарської будівл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люзі в фойє заклад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ий ремонт харчоблоку, бібліоте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іна штор у їдальні, бібліотец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рямоугольник 2"/>
          <p:cNvSpPr/>
          <p:nvPr/>
        </p:nvSpPr>
        <p:spPr>
          <a:xfrm>
            <a:off x="2286000" y="42876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Trebuchet MS"/>
                <a:ea typeface="Arial"/>
              </a:rPr>
              <a:t>Матеріально – технічна б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428760" y="1071720"/>
            <a:ext cx="8358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Школа має у своєму розпорядженні 15 сучасних кабінеті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Із них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Кабінет інформатики –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Кабінети, обладнані телевізором – 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Бібліотека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Їдальня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Медичний кабін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Актова за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Спортивна за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Спортивний майданч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2398680" y="287280"/>
            <a:ext cx="4432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Кадрове забезпече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44360" y="1008000"/>
          <a:ext cx="8761680" cy="4537080"/>
        </p:xfrm>
        <a:graphic>
          <a:graphicData uri="http://schemas.openxmlformats.org/drawingml/2006/table">
            <a:tbl>
              <a:tblPr/>
              <a:tblGrid>
                <a:gridCol w="938160"/>
                <a:gridCol w="916200"/>
                <a:gridCol w="873000"/>
                <a:gridCol w="925560"/>
                <a:gridCol w="862200"/>
                <a:gridCol w="1495080"/>
                <a:gridCol w="1322640"/>
                <a:gridCol w="142884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чальний рі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педпрацівникі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щ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іаліс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й учител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методис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3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2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2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32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22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-2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32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2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23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34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23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2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2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22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1071720" y="731880"/>
            <a:ext cx="3286080" cy="2125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3"/>
          <a:stretch/>
        </p:blipFill>
        <p:spPr>
          <a:xfrm>
            <a:off x="5143680" y="714240"/>
            <a:ext cx="3214440" cy="214344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Рисунок 9" descr="C:\Users\Любой\Desktop\20210312_104355.jpg"/>
          <p:cNvPicPr/>
          <p:nvPr/>
        </p:nvPicPr>
        <p:blipFill>
          <a:blip r:embed="rId4"/>
          <a:stretch/>
        </p:blipFill>
        <p:spPr>
          <a:xfrm>
            <a:off x="1143000" y="3214800"/>
            <a:ext cx="3214800" cy="27144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1"/>
          <p:cNvSpPr/>
          <p:nvPr/>
        </p:nvSpPr>
        <p:spPr>
          <a:xfrm>
            <a:off x="5286240" y="3714840"/>
            <a:ext cx="33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новлено ресурсну кімна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2"/>
          <a:stretch/>
        </p:blipFill>
        <p:spPr>
          <a:xfrm>
            <a:off x="285840" y="357120"/>
            <a:ext cx="3929040" cy="2482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3"/>
          <a:stretch/>
        </p:blipFill>
        <p:spPr>
          <a:xfrm>
            <a:off x="500040" y="3571920"/>
            <a:ext cx="4000680" cy="300024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8" descr="C:\Users\Любой\Desktop\20210701_081528.jpg"/>
          <p:cNvPicPr/>
          <p:nvPr/>
        </p:nvPicPr>
        <p:blipFill>
          <a:blip r:embed="rId4"/>
          <a:stretch/>
        </p:blipFill>
        <p:spPr>
          <a:xfrm>
            <a:off x="4786200" y="357120"/>
            <a:ext cx="3500640" cy="2500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C:\Users\Любой\Desktop\20210701_081545.jpg"/>
          <p:cNvPicPr/>
          <p:nvPr/>
        </p:nvPicPr>
        <p:blipFill>
          <a:blip r:embed="rId5"/>
          <a:stretch/>
        </p:blipFill>
        <p:spPr>
          <a:xfrm>
            <a:off x="5214960" y="3571920"/>
            <a:ext cx="3214800" cy="3071880"/>
          </a:xfrm>
          <a:prstGeom prst="rect">
            <a:avLst/>
          </a:prstGeom>
          <a:ln w="0">
            <a:noFill/>
          </a:ln>
        </p:spPr>
      </p:pic>
      <p:sp>
        <p:nvSpPr>
          <p:cNvPr id="267" name="TextBox 9"/>
          <p:cNvSpPr/>
          <p:nvPr/>
        </p:nvSpPr>
        <p:spPr>
          <a:xfrm>
            <a:off x="1571760" y="292896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3333cc"/>
                </a:solidFill>
                <a:latin typeface="Arial"/>
              </a:rPr>
              <a:t>Нова українська шко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Рисунок 5" descr="20210701_081138.jpg"/>
          <p:cNvPicPr/>
          <p:nvPr/>
        </p:nvPicPr>
        <p:blipFill>
          <a:blip r:embed="rId2"/>
          <a:stretch/>
        </p:blipFill>
        <p:spPr>
          <a:xfrm>
            <a:off x="6000840" y="500040"/>
            <a:ext cx="2714400" cy="221472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6" descr="20210701_081635.jpg"/>
          <p:cNvPicPr/>
          <p:nvPr/>
        </p:nvPicPr>
        <p:blipFill>
          <a:blip r:embed="rId3"/>
          <a:stretch/>
        </p:blipFill>
        <p:spPr>
          <a:xfrm>
            <a:off x="142920" y="428760"/>
            <a:ext cx="2857320" cy="230328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7" descr="20210701_081321.jpg"/>
          <p:cNvPicPr/>
          <p:nvPr/>
        </p:nvPicPr>
        <p:blipFill>
          <a:blip r:embed="rId4"/>
          <a:stretch/>
        </p:blipFill>
        <p:spPr>
          <a:xfrm>
            <a:off x="3143160" y="428760"/>
            <a:ext cx="2571840" cy="228600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8" descr="20210701_081343.jpg"/>
          <p:cNvPicPr/>
          <p:nvPr/>
        </p:nvPicPr>
        <p:blipFill>
          <a:blip r:embed="rId5"/>
          <a:stretch/>
        </p:blipFill>
        <p:spPr>
          <a:xfrm>
            <a:off x="6215040" y="4071960"/>
            <a:ext cx="2357640" cy="251316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9" descr="20210701_081240.jpg"/>
          <p:cNvPicPr/>
          <p:nvPr/>
        </p:nvPicPr>
        <p:blipFill>
          <a:blip r:embed="rId6"/>
          <a:stretch/>
        </p:blipFill>
        <p:spPr>
          <a:xfrm>
            <a:off x="3500280" y="4071960"/>
            <a:ext cx="2143440" cy="2571840"/>
          </a:xfrm>
          <a:prstGeom prst="rect">
            <a:avLst/>
          </a:prstGeom>
          <a:ln w="0">
            <a:noFill/>
          </a:ln>
        </p:spPr>
      </p:pic>
      <p:sp>
        <p:nvSpPr>
          <p:cNvPr id="273" name="TextBox 10"/>
          <p:cNvSpPr/>
          <p:nvPr/>
        </p:nvSpPr>
        <p:spPr>
          <a:xfrm>
            <a:off x="500040" y="314316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800" spc="-1" strike="noStrike">
                <a:solidFill>
                  <a:srgbClr val="3333cc"/>
                </a:solidFill>
                <a:latin typeface="Arial"/>
              </a:rPr>
              <a:t>Оновлено матеріально - технічну базу закла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5" descr="https://www.chuguev-osvita.org.ua/wp-content/uploads/2021/06/1.jpg"/>
          <p:cNvPicPr/>
          <p:nvPr/>
        </p:nvPicPr>
        <p:blipFill>
          <a:blip r:embed="rId7"/>
          <a:stretch/>
        </p:blipFill>
        <p:spPr>
          <a:xfrm>
            <a:off x="214200" y="4000680"/>
            <a:ext cx="278604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357120" y="142920"/>
            <a:ext cx="8577360" cy="61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17928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79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1079640" y="1428840"/>
            <a:ext cx="67071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   «Модернізація початкової освіти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   «Розвиток інклюзивної освіти »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   «Школа - родина»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«Культура добросусідства як інструмент формування соціальної компетентності»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" Заклад освіти - толерантне середовище, СТОП БУЛІНГ"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   «Виховний простір Харківщини»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   «Моніторинг якості освіти в Харківському регіоні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393920" y="431640"/>
            <a:ext cx="6365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rebuchet MS"/>
                <a:ea typeface="Arial"/>
              </a:rPr>
              <a:t>Активізація творчої діяльності колективу,участь у проект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503280" y="287280"/>
            <a:ext cx="8423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Шляхи вдосконалення якості освітньої діяльності та якості освіти на 2021/2022 навчальний рі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431640" y="936720"/>
            <a:ext cx="8498160" cy="54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1. Забезпечити реалізацію завдань концепції «Нова українська школа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2. Запроваджувати нові підходи до освітнього процесу для отримання якісної осві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3. Працювати над розбудовою внутрішньої системи оцінювання якості осві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4. Продовжити роботу над удосконаленням безпечного освітнього середовища, антибулінгової політики заклад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5. Працювати над поповненням обладнання навчальних кабінетів (фізики, хімії, біології, математики, інформатики, англійської мови) новими приладами, технікою, дидактично-роздатковим матеріалом для реалізації освітньої програми заклад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6. Активізувати роботу з педагогічними кадрами щодо підвищення професійної</a:t>
            </a:r>
            <a:br>
              <a:rPr sz="1600"/>
            </a:b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компетентності та самоосвіти вчителів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7. Продовжити реалізацію програми «Обдаровані діти», яка спрямована на створення сприятливих умов для пошуку, підтримки, стимулювання інтелектуально і творчо обдарованих дітей, самореалізації творчої особистості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8. Працювати над підвищенням якості уроку, методикою проведення підготовки до ЗН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9. Залучати органи учнівського самоврядування, батьківську громадськість до моніторингу ефективності діяльності школ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10. Провести капітальний ремонт даху основної покрівлі заклад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1"/>
          <p:cNvSpPr/>
          <p:nvPr/>
        </p:nvSpPr>
        <p:spPr>
          <a:xfrm>
            <a:off x="1071720" y="285840"/>
            <a:ext cx="72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rebuchet MS"/>
                <a:ea typeface="Arial"/>
              </a:rPr>
              <a:t>Атестація педагогічних працівників у 2021 роц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500040" y="785880"/>
            <a:ext cx="81439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Касьянова Тетяна Іванівна, учитель англійської мови,  кваліфікаційна категорія «спеціаліст І категорії»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Цвєтова Олена Василівна ,учитель англійської мов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кваліфікаційна категорія «спеціаліст І категорії»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Слюта Раїса Андріївна ,асистент вчителя, присвоїно 12 тарифний розряд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Кривенець Ірина Володимирівна, практичний психолог, відповідає раніше присвоєній кваліфікаційній категорії «спеціаліст І категорії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Бондаренко Марина Володимирівна, вихователь групи подовженого дня, відповідає раніше присвоєній кваліфікаційній категорії «спеціаліст ІІ категорії»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Бондаренко Марина Володимирівна, учитель початкових класів, відповідає раніше присвоєній кваліфікаційній категорії «спеціаліст І категорії».</a:t>
            </a:r>
            <a:r>
              <a:rPr b="1" lang="ru-RU" sz="2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" descr=""/>
          <p:cNvPicPr/>
          <p:nvPr/>
        </p:nvPicPr>
        <p:blipFill>
          <a:blip r:embed="rId2"/>
          <a:stretch/>
        </p:blipFill>
        <p:spPr>
          <a:xfrm>
            <a:off x="853920" y="1655640"/>
            <a:ext cx="4689720" cy="3184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3"/>
          <a:stretch/>
        </p:blipFill>
        <p:spPr>
          <a:xfrm>
            <a:off x="5856120" y="2519280"/>
            <a:ext cx="768600" cy="932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2398680" y="216000"/>
            <a:ext cx="443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Віковий склад вчител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792000" y="431640"/>
            <a:ext cx="83584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1008000" y="2289240"/>
            <a:ext cx="3110040" cy="3109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4819680" y="3311640"/>
            <a:ext cx="1301760" cy="752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1152360" y="144360"/>
            <a:ext cx="50482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Кількісний склад учителів за педагогічним стаж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500040" y="857160"/>
          <a:ext cx="8286840" cy="1428840"/>
        </p:xfrm>
        <a:graphic>
          <a:graphicData uri="http://schemas.openxmlformats.org/drawingml/2006/table">
            <a:tbl>
              <a:tblPr/>
              <a:tblGrid>
                <a:gridCol w="668520"/>
                <a:gridCol w="3824280"/>
                <a:gridCol w="2676240"/>
                <a:gridCol w="1117800"/>
              </a:tblGrid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ла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ІБ учн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ІБ учителя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укового керівн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зульта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кіна Єлизавета Максимів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крут Алла Миколаївна, учитель української мови й літератур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  <p:sp>
        <p:nvSpPr>
          <p:cNvPr id="187" name="Text Box 32"/>
          <p:cNvSpPr/>
          <p:nvPr/>
        </p:nvSpPr>
        <p:spPr>
          <a:xfrm>
            <a:off x="1152360" y="144360"/>
            <a:ext cx="5048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33"/>
          <p:cNvSpPr/>
          <p:nvPr/>
        </p:nvSpPr>
        <p:spPr>
          <a:xfrm>
            <a:off x="360360" y="2151000"/>
            <a:ext cx="871236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03280" y="3643200"/>
          <a:ext cx="8351640" cy="2214720"/>
        </p:xfrm>
        <a:graphic>
          <a:graphicData uri="http://schemas.openxmlformats.org/drawingml/2006/table">
            <a:tbl>
              <a:tblPr/>
              <a:tblGrid>
                <a:gridCol w="652320"/>
                <a:gridCol w="906480"/>
                <a:gridCol w="747720"/>
                <a:gridCol w="906480"/>
                <a:gridCol w="801720"/>
                <a:gridCol w="907920"/>
                <a:gridCol w="801720"/>
                <a:gridCol w="906480"/>
                <a:gridCol w="801720"/>
                <a:gridCol w="919080"/>
              </a:tblGrid>
              <a:tr h="46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6/20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льний рі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7/2018 навчальний рі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8/2019 навчальний рі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/20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льний рі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/20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льний рі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-кість поданих робі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ризових місць на міському етап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-кість поданих робі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ризових місць на міському етап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оданих робі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ризових місць на міському етап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оданих робі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ризових місць на міському етап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оданих робі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ризових місць на міському етап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  <p:sp>
        <p:nvSpPr>
          <p:cNvPr id="190" name="Прямоугольник 6"/>
          <p:cNvSpPr/>
          <p:nvPr/>
        </p:nvSpPr>
        <p:spPr>
          <a:xfrm>
            <a:off x="2286000" y="2357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1800" spc="-1" strike="noStrike">
                <a:solidFill>
                  <a:srgbClr val="7030a0"/>
                </a:solidFill>
                <a:latin typeface="Trebuchet MS"/>
                <a:ea typeface="Arial"/>
              </a:rPr>
              <a:t>Моніторинг участі учнів у Всеукраїнському конкурсі-захисті науково-дослідницьких робіт учнів-членів МАН Україн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7"/>
          <p:cNvSpPr/>
          <p:nvPr/>
        </p:nvSpPr>
        <p:spPr>
          <a:xfrm>
            <a:off x="2286000" y="1429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1800" spc="-1" strike="noStrike">
                <a:solidFill>
                  <a:srgbClr val="7030a0"/>
                </a:solidFill>
                <a:latin typeface="Trebuchet MS"/>
                <a:ea typeface="Arial"/>
              </a:rPr>
              <a:t>Секція " Філософія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357120" y="287280"/>
            <a:ext cx="835812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Методична проблем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1800" spc="-1" strike="noStrike">
                <a:solidFill>
                  <a:srgbClr val="7030a0"/>
                </a:solidFill>
                <a:latin typeface="Trebuchet MS"/>
                <a:ea typeface="Arial"/>
              </a:rPr>
              <a:t>«Вдосконалення професійного рівня педагогів з метою підвищення результативності освітнього процесу в умовах запровадження Концепції нової української школ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1800" spc="-1" strike="noStrike">
                <a:solidFill>
                  <a:srgbClr val="7030a0"/>
                </a:solidFill>
                <a:latin typeface="Trebuchet MS"/>
                <a:ea typeface="Arial"/>
              </a:rPr>
              <a:t>Участь у фестивалі " Добрих практик" освітян Харківщи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8280" y="2143080"/>
          <a:ext cx="8785440" cy="4468680"/>
        </p:xfrm>
        <a:graphic>
          <a:graphicData uri="http://schemas.openxmlformats.org/drawingml/2006/table">
            <a:tbl>
              <a:tblPr/>
              <a:tblGrid>
                <a:gridCol w="1946520"/>
                <a:gridCol w="1420560"/>
                <a:gridCol w="3640320"/>
                <a:gridCol w="177804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Б педагог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інаці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досвід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14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ьянова Т.І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Іноземні мов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икористання моделі навчання «Перевернутий клас» на уроках англійської мови в початкових класах під час дистанційного та змішаного навчанн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І ступе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ьчукова А.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Історі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uk-UA" sz="14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Використання онлайн-дошки Google Jamboard під час дистанційного та змішаного навчання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І ступе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13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оз О.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венець І.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пеціальна та інклюзивна освіт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алучення до дистанційної освіти дітей з ментальними порушенням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 ступе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863640" y="360360"/>
            <a:ext cx="71280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Динаміка навчальних досягнень учн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619200" y="1440000"/>
            <a:ext cx="4637160" cy="3112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5904000" y="2376360"/>
            <a:ext cx="768240" cy="932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6T06:59:02Z</dcterms:created>
  <dc:creator>Любой</dc:creator>
  <dc:description/>
  <dc:language>en-US</dc:language>
  <cp:lastModifiedBy>Секрктарь</cp:lastModifiedBy>
  <dcterms:modified xsi:type="dcterms:W3CDTF">2021-07-02T07:36:11Z</dcterms:modified>
  <cp:revision>148</cp:revision>
  <dc:subject/>
  <dc:title>Слайд 1</dc:title>
</cp:coreProperties>
</file>