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wmf" ContentType="image/x-wmf"/>
  <Override PartName="/ppt/media/image26.jpeg" ContentType="image/jpeg"/>
  <Override PartName="/ppt/media/image3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4.png" ContentType="image/png"/>
  <Override PartName="/ppt/media/image12.wmf" ContentType="image/x-wmf"/>
  <Override PartName="/ppt/media/image17.wmf" ContentType="image/x-wmf"/>
  <Override PartName="/ppt/media/image22.jpeg" ContentType="image/jpeg"/>
  <Override PartName="/ppt/media/image9.png" ContentType="image/png"/>
  <Override PartName="/ppt/media/image8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14.wmf" ContentType="image/x-wmf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Calibri"/>
              </a:defRPr>
            </a:pPr>
            <a:r>
              <a:rPr b="1" sz="1800" spc="-1" strike="noStrike">
                <a:solidFill>
                  <a:srgbClr val="000000"/>
                </a:solidFill>
                <a:latin typeface="Calibri"/>
              </a:rPr>
              <a:t>МОНІТОРИНГ РІВНЯ ВИХОВАНОСТІ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НИЗЬКИЙ РІВЕНЬ</c:v>
                </c:pt>
              </c:strCache>
            </c:strRef>
          </c:tx>
          <c:spPr>
            <a:solidFill>
              <a:srgbClr val="4672a8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ЕРЕДНІЙ РІВЕНЬ</c:v>
                </c:pt>
              </c:strCache>
            </c:strRef>
          </c:tx>
          <c:spPr>
            <a:solidFill>
              <a:srgbClr val="ab4744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0.28</c:v>
                </c:pt>
                <c:pt idx="1">
                  <c:v>0.36</c:v>
                </c:pt>
                <c:pt idx="2">
                  <c:v>0.1</c:v>
                </c:pt>
                <c:pt idx="3">
                  <c:v>0</c:v>
                </c:pt>
                <c:pt idx="4">
                  <c:v>0.17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ДОСТАТНІЙ РІВЕНЬ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5"/>
                <c:pt idx="0">
                  <c:v>0.63</c:v>
                </c:pt>
                <c:pt idx="1">
                  <c:v>0.44</c:v>
                </c:pt>
                <c:pt idx="2">
                  <c:v>0.29</c:v>
                </c:pt>
                <c:pt idx="3">
                  <c:v>0.58</c:v>
                </c:pt>
                <c:pt idx="4">
                  <c:v>0.61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ВИСОКИЙ РІВЕНЬ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5"/>
                <c:pt idx="0">
                  <c:v>0.28</c:v>
                </c:pt>
                <c:pt idx="1">
                  <c:v>0.2</c:v>
                </c:pt>
                <c:pt idx="2">
                  <c:v>0.61</c:v>
                </c:pt>
                <c:pt idx="3">
                  <c:v>0.42</c:v>
                </c:pt>
                <c:pt idx="4">
                  <c:v>0.22</c:v>
                </c:pt>
              </c:numCache>
            </c:numRef>
          </c:val>
        </c:ser>
        <c:gapWidth val="100"/>
        <c:overlap val="0"/>
        <c:axId val="19959584"/>
        <c:axId val="50985973"/>
      </c:barChart>
      <c:lineChart>
        <c:grouping val="standard"/>
        <c:varyColors val="0"/>
        <c:ser>
          <c:idx val="4"/>
          <c:order val="4"/>
          <c:tx>
            <c:strRef>
              <c:f>label 4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7e0021"/>
            </a:solidFill>
            <a:ln w="28800">
              <a:solidFill>
                <a:srgbClr val="7e0021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5"/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19959584"/>
        <c:axId val="50985973"/>
      </c:lineChart>
      <c:catAx>
        <c:axId val="1995958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985973"/>
        <c:crosses val="autoZero"/>
        <c:auto val="1"/>
        <c:lblAlgn val="ctr"/>
        <c:lblOffset val="100"/>
        <c:noMultiLvlLbl val="0"/>
      </c:catAx>
      <c:valAx>
        <c:axId val="50985973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9959584"/>
        <c:crosses val="autoZero"/>
        <c:crossBetween val="between"/>
      </c:valAx>
      <c:spPr>
        <a:noFill/>
        <a:ln w="9360">
          <a:solidFill>
            <a:srgbClr val="878787"/>
          </a:solidFill>
          <a:round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НИЗЬКИЙ РІВЕНЬ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5 клас</c:v>
                </c:pt>
                <c:pt idx="1">
                  <c:v>6 клас</c:v>
                </c:pt>
                <c:pt idx="2">
                  <c:v>7-А клас</c:v>
                </c:pt>
                <c:pt idx="3">
                  <c:v>7-Б клас</c:v>
                </c:pt>
                <c:pt idx="4">
                  <c:v>8 клас</c:v>
                </c:pt>
                <c:pt idx="5">
                  <c:v>9 клас </c:v>
                </c:pt>
                <c:pt idx="6">
                  <c:v>10 клас</c:v>
                </c:pt>
                <c:pt idx="7">
                  <c:v>11 клас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0.15</c:v>
                </c:pt>
                <c:pt idx="1">
                  <c:v>0.04</c:v>
                </c:pt>
                <c:pt idx="2">
                  <c:v>0.33</c:v>
                </c:pt>
                <c:pt idx="3">
                  <c:v>0.06</c:v>
                </c:pt>
                <c:pt idx="4">
                  <c:v>0.15</c:v>
                </c:pt>
                <c:pt idx="5">
                  <c:v>0.36</c:v>
                </c:pt>
                <c:pt idx="6">
                  <c:v>0.28</c:v>
                </c:pt>
                <c:pt idx="7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ЕРЕДНІЙ РІВЕНЬ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5 клас</c:v>
                </c:pt>
                <c:pt idx="1">
                  <c:v>6 клас</c:v>
                </c:pt>
                <c:pt idx="2">
                  <c:v>7-А клас</c:v>
                </c:pt>
                <c:pt idx="3">
                  <c:v>7-Б клас</c:v>
                </c:pt>
                <c:pt idx="4">
                  <c:v>8 клас</c:v>
                </c:pt>
                <c:pt idx="5">
                  <c:v>9 клас </c:v>
                </c:pt>
                <c:pt idx="6">
                  <c:v>10 клас</c:v>
                </c:pt>
                <c:pt idx="7">
                  <c:v>11 клас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0.4</c:v>
                </c:pt>
                <c:pt idx="1">
                  <c:v>0.52</c:v>
                </c:pt>
                <c:pt idx="2">
                  <c:v>0.26</c:v>
                </c:pt>
                <c:pt idx="3">
                  <c:v>0.06</c:v>
                </c:pt>
                <c:pt idx="4">
                  <c:v>0.74</c:v>
                </c:pt>
                <c:pt idx="5">
                  <c:v>0.36</c:v>
                </c:pt>
                <c:pt idx="6">
                  <c:v>0.72</c:v>
                </c:pt>
                <c:pt idx="7">
                  <c:v>0.66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ДОСТАТНІЙ РІВЕНЬ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5 клас</c:v>
                </c:pt>
                <c:pt idx="1">
                  <c:v>6 клас</c:v>
                </c:pt>
                <c:pt idx="2">
                  <c:v>7-А клас</c:v>
                </c:pt>
                <c:pt idx="3">
                  <c:v>7-Б клас</c:v>
                </c:pt>
                <c:pt idx="4">
                  <c:v>8 клас</c:v>
                </c:pt>
                <c:pt idx="5">
                  <c:v>9 клас </c:v>
                </c:pt>
                <c:pt idx="6">
                  <c:v>10 клас</c:v>
                </c:pt>
                <c:pt idx="7">
                  <c:v>11 клас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8"/>
                <c:pt idx="0">
                  <c:v>0.1</c:v>
                </c:pt>
                <c:pt idx="1">
                  <c:v>0.34</c:v>
                </c:pt>
                <c:pt idx="2">
                  <c:v>0.08</c:v>
                </c:pt>
                <c:pt idx="3">
                  <c:v>0.82</c:v>
                </c:pt>
                <c:pt idx="4">
                  <c:v>0.07</c:v>
                </c:pt>
                <c:pt idx="5">
                  <c:v>0.08</c:v>
                </c:pt>
                <c:pt idx="6">
                  <c:v>0</c:v>
                </c:pt>
                <c:pt idx="7">
                  <c:v>0.4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ВИСОКИЙ РІВЕНЬ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5 клас</c:v>
                </c:pt>
                <c:pt idx="1">
                  <c:v>6 клас</c:v>
                </c:pt>
                <c:pt idx="2">
                  <c:v>7-А клас</c:v>
                </c:pt>
                <c:pt idx="3">
                  <c:v>7-Б клас</c:v>
                </c:pt>
                <c:pt idx="4">
                  <c:v>8 клас</c:v>
                </c:pt>
                <c:pt idx="5">
                  <c:v>9 клас </c:v>
                </c:pt>
                <c:pt idx="6">
                  <c:v>10 клас</c:v>
                </c:pt>
                <c:pt idx="7">
                  <c:v>11 клас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8"/>
                <c:pt idx="0">
                  <c:v>0.35</c:v>
                </c:pt>
                <c:pt idx="1">
                  <c:v>0.1</c:v>
                </c:pt>
                <c:pt idx="2">
                  <c:v>0.13</c:v>
                </c:pt>
                <c:pt idx="3">
                  <c:v>0.06</c:v>
                </c:pt>
                <c:pt idx="4">
                  <c:v>0.04</c:v>
                </c:pt>
                <c:pt idx="5">
                  <c:v>0.2</c:v>
                </c:pt>
                <c:pt idx="6">
                  <c:v>0</c:v>
                </c:pt>
                <c:pt idx="7">
                  <c:v>0</c:v>
                </c:pt>
              </c:numCache>
            </c:numRef>
          </c:val>
        </c:ser>
        <c:gapWidth val="100"/>
        <c:overlap val="0"/>
        <c:axId val="86924632"/>
        <c:axId val="46690517"/>
      </c:barChart>
      <c:catAx>
        <c:axId val="8692463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90517"/>
        <c:crosses val="autoZero"/>
        <c:auto val="1"/>
        <c:lblAlgn val="ctr"/>
        <c:lblOffset val="100"/>
        <c:noMultiLvlLbl val="0"/>
      </c:catAx>
      <c:valAx>
        <c:axId val="46690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0.00%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24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0" y="0"/>
            <a:ext cx="2917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49480" y="1233000"/>
            <a:ext cx="4433760" cy="3326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344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0" y="9371160"/>
            <a:ext cx="2917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3816360" y="9370800"/>
            <a:ext cx="2914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B6F33-DCE2-4AF0-8850-02946D2ED3C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6BD05-82A0-4D1E-9546-0A33A06E780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0CAC7-307B-4321-A77B-285F1FBB746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7E06E-8752-4DBA-9860-CD4206B0523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28CA8-9B69-409B-B471-0323C7BC95E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07EB1-DD90-409C-8A3D-8CE97906132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AD23A-6BBD-4900-83EF-640F0A16DAE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B24F6-460E-4567-8049-04072F72496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6C74B-5EDA-495D-978E-AB54A62EC83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66DA4-68EC-4858-BF34-F3EBE57B2E8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29F4F-56B3-4EC4-8379-35A100F7EFC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0CD39-19A4-4172-9486-2D0913EC9BC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EC5EF-155D-45AB-84A4-662B79D5E15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39FC8-0DA0-44BF-B9C0-56D4EEA9FCC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0FEFF-BA24-4DC2-BC4E-DF6B8456969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0AE05-2D25-4A0E-9E25-03F1058C2D1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8AAC9-7DD9-470D-8FEF-69B0D3AB2D8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55D68-2FBC-446C-A455-AA54FF2B70A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CBBDB-AF6E-4FE2-956C-00ACBB9F9FE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6788F-4899-4188-A6D2-9EBCC2FA67E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B0A50-F141-4E5F-9D41-C8D65B0A71D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CC05D-14BA-4404-8855-2D719F1C8D4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F7ACF-5374-4805-AE71-6196A757B55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71D02-ECBC-424D-A3E8-0D4984B3601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B01CF-02E3-4595-8827-B621B204FC0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48407-903D-49A4-8C36-4EEEBCA42E9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245D6-FB15-49BE-8FD5-B92C5048793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CCA5F-9F11-4B9B-9B82-1E6E67FCC5C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AAC90-E972-4C22-B107-BF9E8647903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DCF9E-2701-4452-897F-D357B8ACF3D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4817A-C01C-4655-AD97-AD89AF1C69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19FF0-6268-4C9D-8601-5ADD7990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1E35-6D17-43C7-8669-61DA337F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30BAA-7BAA-4063-AC25-881B9F5B67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A303B-FA69-472F-A1D3-0EB05795FE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8BF0A-49AE-4CDF-8F59-A2D8F555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93857-FD09-490D-A201-90DC2F4F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AFE26-2349-4EC4-AE36-C5FDEF46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CB872-5A02-4323-AA4E-1B350EB9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497B9-BA0E-4704-AF83-ACF57AFA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2F149-D76E-49DC-AEA0-A75E41E6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2FD7-3174-4030-9DC6-5AA6F131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EBF4E-34AE-49C7-A868-F553EC31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CB2AB-298F-443F-B71E-363A9563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AC911-6B33-415B-AEFC-A244A6E8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9F3B1-3F1D-491F-B4ED-33BA3D24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0D4F0-01EE-4355-8B46-E104714353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3AFC-DF80-453F-A4B7-D0CA83A450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4B1E-1C5C-4879-856E-BD95289E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6005-A12E-4999-A718-EE767F45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87DF-0117-4854-96AD-0A0001A6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C6F9-31A8-4BFC-AA19-54A44382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A43E-6BCE-4240-9E94-B2ECF7BD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DD37-2CB1-4AF8-A684-940D211B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6DCD-8D43-4638-8A10-BDD807B2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6CC2-03C2-4E99-8C66-64D84F30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6839-8FC4-4966-9D64-DBA51349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CD1D-9A35-4307-AD5B-924D5E22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15EA-8E83-407D-BD5B-6BFFDA1F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BDDC-20B4-4673-9144-47CAAF81F2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ED8A-4E67-4FD1-8D79-9A8EDC3D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529CC-E181-4825-81EB-AFDAF396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5062-9329-4D97-9634-7A280E65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7C5EE-C4A1-49C1-81A5-B19AB155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02A8-8A7B-451A-B1F8-ADD7894E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CD08F-209C-4039-87C6-D5EA4356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Rectangle 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8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A53D28-769F-45C6-BE68-F1D1FC5D005B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-6480" y="5102280"/>
            <a:ext cx="9153720" cy="1758960"/>
            <a:chOff x="-6480" y="5102280"/>
            <a:chExt cx="9153720" cy="1758960"/>
          </a:xfrm>
        </p:grpSpPr>
        <p:pic>
          <p:nvPicPr>
            <p:cNvPr id="52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372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"/>
            <p:cNvSpPr/>
            <p:nvPr/>
          </p:nvSpPr>
          <p:spPr>
            <a:xfrm>
              <a:off x="0" y="5105520"/>
              <a:ext cx="9140760" cy="17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Group 4"/>
          <p:cNvGrpSpPr/>
          <p:nvPr/>
        </p:nvGrpSpPr>
        <p:grpSpPr>
          <a:xfrm>
            <a:off x="-6480" y="-6480"/>
            <a:ext cx="9153720" cy="5118120"/>
            <a:chOff x="-6480" y="-6480"/>
            <a:chExt cx="9153720" cy="5118120"/>
          </a:xfrm>
        </p:grpSpPr>
        <p:pic>
          <p:nvPicPr>
            <p:cNvPr id="55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0" y="0"/>
              <a:ext cx="914076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Rectangle 7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59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62" name="Picture 12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65" name="Picture 15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Rectangle 1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69" name="Picture 1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3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4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4C432E-B73D-4F7C-BCBE-6712F8D8D440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113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116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Rectangle 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120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5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6ADAB4-F6D8-4078-A11B-4E78C5A77150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1000080" y="1000080"/>
            <a:ext cx="7215120" cy="72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2a6099"/>
                </a:solidFill>
                <a:latin typeface="Arial Narrow"/>
                <a:ea typeface="Tahoma"/>
              </a:rPr>
              <a:t> </a:t>
            </a:r>
            <a:r>
              <a:rPr b="1" i="1" lang="ru-RU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Зв</a:t>
            </a: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іт директ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щодо функціонування </a:t>
            </a:r>
            <a:br>
              <a:rPr sz="4000"/>
            </a:b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КЗ “Чугуївський ліцей № 7 “</a:t>
            </a:r>
            <a:br>
              <a:rPr sz="4000"/>
            </a:b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у 2020/2021 навчальному році</a:t>
            </a:r>
            <a:br>
              <a:rPr sz="4000"/>
            </a:b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та пріоритетні завдання</a:t>
            </a:r>
            <a:br>
              <a:rPr sz="4000"/>
            </a:b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 на 2021/2022 навчальний рі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Директор ліцею   Л.В. Маланіна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uk-UA" sz="4000" spc="-1" strike="noStrike">
                <a:solidFill>
                  <a:srgbClr val="ff0000"/>
                </a:solidFill>
                <a:latin typeface="Franklin Gothic Medium Cond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2133720" y="431640"/>
            <a:ext cx="4960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Результати навчальних досягнень за підсумками 2020/2021 н.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60360" y="1073160"/>
          <a:ext cx="8639280" cy="5713560"/>
        </p:xfrm>
        <a:graphic>
          <a:graphicData uri="http://schemas.openxmlformats.org/drawingml/2006/table">
            <a:tbl>
              <a:tblPr/>
              <a:tblGrid>
                <a:gridCol w="846000"/>
                <a:gridCol w="1092240"/>
                <a:gridCol w="1016280"/>
                <a:gridCol w="471240"/>
                <a:gridCol w="498600"/>
                <a:gridCol w="641160"/>
                <a:gridCol w="527040"/>
                <a:gridCol w="493920"/>
                <a:gridCol w="568440"/>
                <a:gridCol w="529920"/>
                <a:gridCol w="1954440"/>
              </a:tblGrid>
              <a:tr h="263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чнів на початок рок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чнів на кінець рок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іш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1224000" y="216000"/>
            <a:ext cx="7128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Аналіз рейтингування класів за якістю зна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57120" y="785880"/>
          <a:ext cx="8072640" cy="5554440"/>
        </p:xfrm>
        <a:graphic>
          <a:graphicData uri="http://schemas.openxmlformats.org/drawingml/2006/table">
            <a:tbl>
              <a:tblPr/>
              <a:tblGrid>
                <a:gridCol w="357120"/>
                <a:gridCol w="706680"/>
                <a:gridCol w="1684080"/>
                <a:gridCol w="1930680"/>
                <a:gridCol w="1449360"/>
                <a:gridCol w="1944720"/>
              </a:tblGrid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/п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сний керівни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редній ба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 2020/202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ому році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кість знань у 2020/2021 навчальному році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йтингове місц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ренко Л.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ндаренко М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льчукова А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вєтова О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-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ременко Г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-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ступа Н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вілова Т.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крут А.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енцер О.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роз О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571680" y="50004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оніторинг якості знань учнів 4-х класів з предметів 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020/2021 навчальний рі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2"/>
          <p:cNvSpPr/>
          <p:nvPr/>
        </p:nvSpPr>
        <p:spPr>
          <a:xfrm>
            <a:off x="31680" y="-76320"/>
            <a:ext cx="615312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928800" y="1500120"/>
          <a:ext cx="7500960" cy="37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500120"/>
                    <a:ext cx="750096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5"/>
          <p:cNvSpPr/>
          <p:nvPr/>
        </p:nvSpPr>
        <p:spPr>
          <a:xfrm>
            <a:off x="31680" y="-76320"/>
            <a:ext cx="616284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285840" y="785880"/>
          <a:ext cx="8429400" cy="54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785880"/>
                    <a:ext cx="842940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8"/>
          <p:cNvSpPr/>
          <p:nvPr/>
        </p:nvSpPr>
        <p:spPr>
          <a:xfrm>
            <a:off x="0" y="47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1728720" y="287280"/>
            <a:ext cx="6335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Організація допрофільного навч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20720" y="1066680"/>
          <a:ext cx="8136000" cy="4005360"/>
        </p:xfrm>
        <a:graphic>
          <a:graphicData uri="http://schemas.openxmlformats.org/drawingml/2006/table">
            <a:tbl>
              <a:tblPr/>
              <a:tblGrid>
                <a:gridCol w="1504800"/>
                <a:gridCol w="1306800"/>
                <a:gridCol w="1274760"/>
                <a:gridCol w="1307880"/>
                <a:gridCol w="1273320"/>
                <a:gridCol w="1468440"/>
              </a:tblGrid>
              <a:tr h="875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чальний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кількі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– 9 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рофільні кла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хопл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н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н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2200320" y="360360"/>
            <a:ext cx="4827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Організація профільного навч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220760" y="1131840"/>
          <a:ext cx="7280280" cy="3971880"/>
        </p:xfrm>
        <a:graphic>
          <a:graphicData uri="http://schemas.openxmlformats.org/drawingml/2006/table">
            <a:tbl>
              <a:tblPr/>
              <a:tblGrid>
                <a:gridCol w="1268280"/>
                <a:gridCol w="1194120"/>
                <a:gridCol w="1163520"/>
                <a:gridCol w="1216080"/>
                <a:gridCol w="1182600"/>
                <a:gridCol w="1255680"/>
              </a:tblGrid>
              <a:tr h="603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гальна кількі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– 11 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льні кла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охопл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5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н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н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285840" y="785880"/>
            <a:ext cx="8858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Дані щодо продовження навчання та працевлаштув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ипускників 9-х клас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87280" y="1627200"/>
          <a:ext cx="8642520" cy="4879800"/>
        </p:xfrm>
        <a:graphic>
          <a:graphicData uri="http://schemas.openxmlformats.org/drawingml/2006/table">
            <a:tbl>
              <a:tblPr/>
              <a:tblGrid>
                <a:gridCol w="1257480"/>
                <a:gridCol w="1207800"/>
                <a:gridCol w="801720"/>
                <a:gridCol w="685800"/>
                <a:gridCol w="428760"/>
                <a:gridCol w="647640"/>
                <a:gridCol w="1035000"/>
                <a:gridCol w="763560"/>
                <a:gridCol w="181476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 випускни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є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овжують навча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навчає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24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клас денної шко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чірня шко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ТН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З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-І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. ак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-20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-2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-20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  <p:sp>
        <p:nvSpPr>
          <p:cNvPr id="217" name="TextBox 3"/>
          <p:cNvSpPr/>
          <p:nvPr/>
        </p:nvSpPr>
        <p:spPr>
          <a:xfrm>
            <a:off x="0" y="214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Контроль за здобуттям повної загальної середньої освіти та подальшого навчан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96760" y="216000"/>
            <a:ext cx="743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Дані щодо продовження навчання та працевлаштув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ипускників 11-х клас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16000" y="936720"/>
          <a:ext cx="8715240" cy="5830920"/>
        </p:xfrm>
        <a:graphic>
          <a:graphicData uri="http://schemas.openxmlformats.org/drawingml/2006/table">
            <a:tbl>
              <a:tblPr/>
              <a:tblGrid>
                <a:gridCol w="1182600"/>
                <a:gridCol w="527040"/>
                <a:gridCol w="922320"/>
                <a:gridCol w="792000"/>
                <a:gridCol w="790920"/>
                <a:gridCol w="661680"/>
                <a:gridCol w="527040"/>
                <a:gridCol w="395280"/>
                <a:gridCol w="658800"/>
                <a:gridCol w="792360"/>
                <a:gridCol w="1054080"/>
                <a:gridCol w="41112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випускникі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єтьс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овжують одержувати освіт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навчаютьс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 них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З ІІІ-ІV р. акр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З І-І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. акр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ТН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цевла-штова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працюють, не навчаютьс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ворі та виїхали за межі област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936720" y="216000"/>
            <a:ext cx="68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Підсумки роботи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інклюзивних клас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936720" y="1295280"/>
            <a:ext cx="7775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Відповідно до рекомендацій  ІРЦ та згоди батьків у 2020-2021 н. р. 6 дітей ліцею  навчаються в 4 класах з інклюзивною формою навчання (порушення слуху - 1, порушення інтелектуального розвитку-5) педагогічний супровід яких здійснюють вчителі даних класів та 4 асистентів вчител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720720" y="2522520"/>
            <a:ext cx="83660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В роботі з дітьми особливими освітніми потребами були враховані такі принципи педагогічної діяльності, які орієнтовані на інтереси сім’ї, а сам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1) визнання того, що сім’я є елементом стабільності в житті дитини, в той час як педагоги можуть весь час змінюватис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2) ефективне співробітництво педагогів з батьками та іншими фахівця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3) регулярний обмін з батьками повною та неупередженою інформацією стосовно їхніх ді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4) розуміння й урахування потреб дітей під час розробки навчальних та інших програ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5) розуміння унікальності кожної сім’ї, повага до різних методів навчання та виховання дітей, що застосовуються батька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6) турбота про те, щоб послуги, які надаються родинам, були комплексними, скоординованими, гнучкими, доступними і відповідали потребам кожної роди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431640" y="4680"/>
            <a:ext cx="8568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Соціальний захист учасників освітнього проце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03280" y="509760"/>
          <a:ext cx="8354880" cy="5776920"/>
        </p:xfrm>
        <a:graphic>
          <a:graphicData uri="http://schemas.openxmlformats.org/drawingml/2006/table">
            <a:tbl>
              <a:tblPr/>
              <a:tblGrid>
                <a:gridCol w="3235320"/>
                <a:gridCol w="745920"/>
                <a:gridCol w="997200"/>
                <a:gridCol w="1120680"/>
                <a:gridCol w="1120680"/>
                <a:gridCol w="11350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прямок робо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ік неповнолітніх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сироти, позбавлені батьківського піклув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8840"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йомна род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напівсиро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з багатодітної род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ліквідаторів на ЧА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-інвалі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936720" y="298440"/>
            <a:ext cx="73054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6080" algn="ctr">
              <a:lnSpc>
                <a:spcPct val="100000"/>
              </a:lnSpc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Пріоритетними завданнями ліцею було  забезпечення прав молоді на здобуття освіти, виконання Закону України “ Про освіту”, “Про загальну середню освіту”</a:t>
            </a:r>
            <a:br>
              <a:rPr sz="2000"/>
            </a:b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Стан і розвиток шкільної мереж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58720" y="2733840"/>
          <a:ext cx="8369280" cy="3636720"/>
        </p:xfrm>
        <a:graphic>
          <a:graphicData uri="http://schemas.openxmlformats.org/drawingml/2006/table">
            <a:tbl>
              <a:tblPr/>
              <a:tblGrid>
                <a:gridCol w="1360440"/>
                <a:gridCol w="1563840"/>
                <a:gridCol w="1668600"/>
                <a:gridCol w="1692000"/>
                <a:gridCol w="2084400"/>
              </a:tblGrid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чальний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чні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класі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я наповнюва-ні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 algn="ctr">
                        <a:lnSpc>
                          <a:spcPct val="86000"/>
                        </a:lnSpc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пущен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20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28680" y="498600"/>
          <a:ext cx="8529480" cy="5802120"/>
        </p:xfrm>
        <a:graphic>
          <a:graphicData uri="http://schemas.openxmlformats.org/drawingml/2006/table">
            <a:tbl>
              <a:tblPr/>
              <a:tblGrid>
                <a:gridCol w="3301920"/>
                <a:gridCol w="762120"/>
                <a:gridCol w="1019160"/>
                <a:gridCol w="1144440"/>
                <a:gridCol w="1144800"/>
                <a:gridCol w="115704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іти воїнів АТ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П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з малозабезпечених сім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неблагополучні род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з девіантною поведінко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одиноких матер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плені безкоштовним гарячим харчуванням за кошти міського бюдже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indent="-10008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ана матеріальна допомога з фонду загальнообов’язкового навч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00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 000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 200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ані новорічні подарун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соток учнів, що залучені до позакласної робо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857160" y="642960"/>
            <a:ext cx="78580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1378080" y="144360"/>
            <a:ext cx="6399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Організація харчування учнів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03280" y="863640"/>
            <a:ext cx="799128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785880" y="928800"/>
            <a:ext cx="7143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Безкоштовне харчування учнів 1-4-х класів –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Безкоштовне харчування учнів 5-11-х класів – 1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Харчування за кошти батьків -</a:t>
            </a:r>
            <a:br>
              <a:rPr sz="3200"/>
            </a:b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ГПД – 100%</a:t>
            </a:r>
            <a:br>
              <a:rPr sz="3200"/>
            </a:b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5-11 класи - 86%</a:t>
            </a:r>
            <a:br>
              <a:rPr sz="3200"/>
            </a:b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Буфетна продукція –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1143000" y="274680"/>
            <a:ext cx="779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079640" y="201600"/>
            <a:ext cx="7632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Робота з профілактики правопорушень та інших негативних прояві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 учнівському середовищі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60360" y="1368360"/>
            <a:ext cx="8567640" cy="55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У ліцеї створено умови щодо запобігання в учнівському середовищі будь-яких проявів насильства, з метою проведення інформаційно – роз’яснювальної роботи серед дітей із протидії правопорушенням, булінгу, торгівлі людьми, бродяжництву протягом року проведено профілактичні захо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Цикл тренінгових занять «Чому зникають ді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Цикл бесід «Як спілкуватись  з незнайомцям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Індивідуальні бесіди з дітьми , які опинились у складних життєвих обставинах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Всеукраїнський урок «Закон – мій друг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Рейд «Урок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Уроки відвертого спілкування «Викресли булінг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У закладі освіти створена і діє Рада з питань профілактики правопорушень, на засіданнях якої були розглянуті питання щодо проведення профілактичних рейдів по виявленню неповнолітніх, які ухиляються від навчання, які виховуються в родинах, що опинилися у складних життєвих обставинах, які пропускають заняття без поважних причин, а також питання, пов’язані з профілактикою дисциплінарних порушень та правопоруш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-7920" y="287280"/>
            <a:ext cx="9171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Безпека життєдіяльності та запобігання всім видам дитячого травматизму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16000" y="1295280"/>
            <a:ext cx="90216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85840" y="1397160"/>
          <a:ext cx="8215200" cy="4068720"/>
        </p:xfrm>
        <a:graphic>
          <a:graphicData uri="http://schemas.openxmlformats.org/drawingml/2006/table">
            <a:tbl>
              <a:tblPr/>
              <a:tblGrid>
                <a:gridCol w="1643040"/>
                <a:gridCol w="1095480"/>
                <a:gridCol w="1368360"/>
                <a:gridCol w="1369800"/>
                <a:gridCol w="1370160"/>
                <a:gridCol w="136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16/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17/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18/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19/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20/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2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Травмування під час освітнього процесу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 (0,5 %)              під час перерв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 (0,5 %)              під час перерв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14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Травмування в побуті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1 (0,3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1 (0,3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3 (0,9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3 (0,9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1 (0,3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428840" y="785880"/>
            <a:ext cx="69292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7928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uk-UA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87280" y="539640"/>
            <a:ext cx="856764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ховна проблема: </a:t>
            </a:r>
            <a:r>
              <a:rPr b="1" i="1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Формування особистості учнів на традиціях української історії та культури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13" descr="C:\Windows\system32\config\systemprofile\Desktop\Новая папка\11.jpg"/>
          <p:cNvPicPr/>
          <p:nvPr/>
        </p:nvPicPr>
        <p:blipFill>
          <a:blip r:embed="rId2"/>
          <a:stretch/>
        </p:blipFill>
        <p:spPr>
          <a:xfrm>
            <a:off x="357120" y="2143080"/>
            <a:ext cx="3245040" cy="2428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C:\Windows\system32\config\systemprofile\Desktop\Новая папка\20210618_133718.jpg"/>
          <p:cNvPicPr/>
          <p:nvPr/>
        </p:nvPicPr>
        <p:blipFill>
          <a:blip r:embed="rId3"/>
          <a:stretch/>
        </p:blipFill>
        <p:spPr>
          <a:xfrm>
            <a:off x="5429160" y="2143080"/>
            <a:ext cx="335772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7" descr="C:\Windows\system32\config\systemprofile\Desktop\Новая папка\день спорту.jpg"/>
          <p:cNvPicPr/>
          <p:nvPr/>
        </p:nvPicPr>
        <p:blipFill>
          <a:blip r:embed="rId4"/>
          <a:stretch/>
        </p:blipFill>
        <p:spPr>
          <a:xfrm>
            <a:off x="2500200" y="4572000"/>
            <a:ext cx="314352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2992320" y="285840"/>
            <a:ext cx="31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rebuchet MS"/>
                <a:ea typeface="Arial"/>
              </a:rPr>
              <a:t>Система учнівського самоврядув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85840" y="2071800"/>
          <a:ext cx="8215200" cy="2300040"/>
        </p:xfrm>
        <a:graphic>
          <a:graphicData uri="http://schemas.openxmlformats.org/drawingml/2006/table">
            <a:tbl>
              <a:tblPr/>
              <a:tblGrid>
                <a:gridCol w="1785960"/>
                <a:gridCol w="1500120"/>
                <a:gridCol w="1643040"/>
                <a:gridCol w="1643040"/>
                <a:gridCol w="1643040"/>
              </a:tblGrid>
              <a:tr h="923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Президент учнівського парламенту “ Дружба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Голови комісій,центрі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>
                      <a:noFill/>
                    </a:lnB>
                    <a:solidFill>
                      <a:srgbClr val="2d2db9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Комісія національного відродж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Дозвілля і спор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Навчально 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розпорядч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Прес - цен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Комісія дисципліни і поряд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1"/>
          <p:cNvGraphicFramePr/>
          <p:nvPr/>
        </p:nvGraphicFramePr>
        <p:xfrm>
          <a:off x="936720" y="1079640"/>
          <a:ext cx="7632720" cy="525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49" name="Text Box 2"/>
          <p:cNvSpPr/>
          <p:nvPr/>
        </p:nvSpPr>
        <p:spPr>
          <a:xfrm>
            <a:off x="287280" y="216000"/>
            <a:ext cx="84963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Моніторинг рівня вихованості учнів початкової шко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968400" y="287280"/>
            <a:ext cx="721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Моніторинг рівня вихованості учнів 5- 11 клас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936720" y="1522440"/>
          <a:ext cx="7199280" cy="4309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928800" y="35712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Фінансово - господарська діяльні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14200" y="785880"/>
          <a:ext cx="8786880" cy="595620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  <a:gridCol w="2928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 кошти батьк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 міського бюдже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лучені кош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87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п'яти навчальних кабінеті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ня кухонного посуд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ь у мініпроєк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 Заклад рівних можливостей 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коридору малої шк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целярські та господарські товар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ний конкурс " Разом в майбутнє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4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стін фойє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покрівлі господарської будівл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" Міцна громада"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єкт соціальної дії за фінансової підтримки Європейської Комісії та Британської Ради у співфінансуванні з органами місцевого самоврядуванн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ий ремонт коридорів, фасаду школи та господарської будівл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ейнери для сміття ( 4 шт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ня пожежного щи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іна дверей господарської будівл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юзі в фойє заклад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ий ремонт харчоблоку, бібліоте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іна штор у їдальні, бібліотец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2286000" y="42876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rebuchet MS"/>
                <a:ea typeface="Arial"/>
              </a:rPr>
              <a:t>Матеріально – технічна б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428760" y="1071720"/>
            <a:ext cx="8358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Школа має у своєму розпорядженні 15 сучасних кабінет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Із них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Кабінет інформатики –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Кабінети, обладнані телевізором – 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Бібліотека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Їдальня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Медичний кабін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Актова за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Спортивна за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Спортивний майданч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2398680" y="287280"/>
            <a:ext cx="4432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Кадрове забезпече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4360" y="1008000"/>
          <a:ext cx="8761680" cy="4537080"/>
        </p:xfrm>
        <a:graphic>
          <a:graphicData uri="http://schemas.openxmlformats.org/drawingml/2006/table">
            <a:tbl>
              <a:tblPr/>
              <a:tblGrid>
                <a:gridCol w="938160"/>
                <a:gridCol w="916200"/>
                <a:gridCol w="873000"/>
                <a:gridCol w="925560"/>
                <a:gridCol w="862200"/>
                <a:gridCol w="1495080"/>
                <a:gridCol w="1322640"/>
                <a:gridCol w="142884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чальний рі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едпрацівникі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щ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іс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й учител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методис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3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2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3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2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-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3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2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2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3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2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2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071720" y="731880"/>
            <a:ext cx="3286080" cy="2125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3"/>
          <a:stretch/>
        </p:blipFill>
        <p:spPr>
          <a:xfrm>
            <a:off x="5143680" y="714240"/>
            <a:ext cx="3214440" cy="214344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Рисунок 9" descr="C:\Users\Любой\Desktop\20210312_104355.jpg"/>
          <p:cNvPicPr/>
          <p:nvPr/>
        </p:nvPicPr>
        <p:blipFill>
          <a:blip r:embed="rId4"/>
          <a:stretch/>
        </p:blipFill>
        <p:spPr>
          <a:xfrm>
            <a:off x="1143000" y="3214800"/>
            <a:ext cx="3214800" cy="27144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1"/>
          <p:cNvSpPr/>
          <p:nvPr/>
        </p:nvSpPr>
        <p:spPr>
          <a:xfrm>
            <a:off x="5286240" y="371484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новлено ресурсну кімна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3929040" cy="2482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3"/>
          <a:stretch/>
        </p:blipFill>
        <p:spPr>
          <a:xfrm>
            <a:off x="500040" y="3571920"/>
            <a:ext cx="4000680" cy="300024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8" descr="C:\Users\Любой\Desktop\20210701_081528.jpg"/>
          <p:cNvPicPr/>
          <p:nvPr/>
        </p:nvPicPr>
        <p:blipFill>
          <a:blip r:embed="rId4"/>
          <a:stretch/>
        </p:blipFill>
        <p:spPr>
          <a:xfrm>
            <a:off x="4786200" y="357120"/>
            <a:ext cx="3500640" cy="2500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C:\Users\Любой\Desktop\20210701_081545.jpg"/>
          <p:cNvPicPr/>
          <p:nvPr/>
        </p:nvPicPr>
        <p:blipFill>
          <a:blip r:embed="rId5"/>
          <a:stretch/>
        </p:blipFill>
        <p:spPr>
          <a:xfrm>
            <a:off x="5214960" y="3571920"/>
            <a:ext cx="3214800" cy="30718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9"/>
          <p:cNvSpPr/>
          <p:nvPr/>
        </p:nvSpPr>
        <p:spPr>
          <a:xfrm>
            <a:off x="1571760" y="292896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Нова українська 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5" descr="20210701_081138.jpg"/>
          <p:cNvPicPr/>
          <p:nvPr/>
        </p:nvPicPr>
        <p:blipFill>
          <a:blip r:embed="rId2"/>
          <a:stretch/>
        </p:blipFill>
        <p:spPr>
          <a:xfrm>
            <a:off x="6000840" y="500040"/>
            <a:ext cx="2714400" cy="22147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6" descr="20210701_081635.jpg"/>
          <p:cNvPicPr/>
          <p:nvPr/>
        </p:nvPicPr>
        <p:blipFill>
          <a:blip r:embed="rId3"/>
          <a:stretch/>
        </p:blipFill>
        <p:spPr>
          <a:xfrm>
            <a:off x="142920" y="428760"/>
            <a:ext cx="2857320" cy="23032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7" descr="20210701_081321.jpg"/>
          <p:cNvPicPr/>
          <p:nvPr/>
        </p:nvPicPr>
        <p:blipFill>
          <a:blip r:embed="rId4"/>
          <a:stretch/>
        </p:blipFill>
        <p:spPr>
          <a:xfrm>
            <a:off x="3143160" y="428760"/>
            <a:ext cx="257184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8" descr="20210701_081343.jpg"/>
          <p:cNvPicPr/>
          <p:nvPr/>
        </p:nvPicPr>
        <p:blipFill>
          <a:blip r:embed="rId5"/>
          <a:stretch/>
        </p:blipFill>
        <p:spPr>
          <a:xfrm>
            <a:off x="6215040" y="4071960"/>
            <a:ext cx="2357640" cy="251316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9" descr="20210701_081240.jpg"/>
          <p:cNvPicPr/>
          <p:nvPr/>
        </p:nvPicPr>
        <p:blipFill>
          <a:blip r:embed="rId6"/>
          <a:stretch/>
        </p:blipFill>
        <p:spPr>
          <a:xfrm>
            <a:off x="3500280" y="4071960"/>
            <a:ext cx="2143440" cy="25718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0"/>
          <p:cNvSpPr/>
          <p:nvPr/>
        </p:nvSpPr>
        <p:spPr>
          <a:xfrm>
            <a:off x="500040" y="31431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Оновлено матеріально - технічну базу закла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5" descr="https://www.chuguev-osvita.org.ua/wp-content/uploads/2021/06/1.jpg"/>
          <p:cNvPicPr/>
          <p:nvPr/>
        </p:nvPicPr>
        <p:blipFill>
          <a:blip r:embed="rId7"/>
          <a:stretch/>
        </p:blipFill>
        <p:spPr>
          <a:xfrm>
            <a:off x="214200" y="4000680"/>
            <a:ext cx="278604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357120" y="142920"/>
            <a:ext cx="8577360" cy="61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7928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79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079640" y="1428840"/>
            <a:ext cx="67071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Модернізація початкової освіти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Розвиток інклюзивної освіти 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Школа - родина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«Культура добросусідства як інструмент формування соціальної компетентності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" Заклад освіти - толерантне середовище, СТОП БУЛІНГ"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Виховний простір Харківщини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Моніторинг якості освіти в Харківському регіоні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393920" y="431640"/>
            <a:ext cx="6365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rebuchet MS"/>
                <a:ea typeface="Arial"/>
              </a:rPr>
              <a:t>Активізація творчої діяльності колективу,участь у проект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503280" y="287280"/>
            <a:ext cx="842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Шляхи вдосконалення якості освітньої діяльності та якості освіти на 2021/2022 навчальний рі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431640" y="936720"/>
            <a:ext cx="8498160" cy="54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1. Забезпечити реалізацію завдань концепції «Нова українська школа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2. Запроваджувати нові підходи до освітнього процесу для отримання якісної осві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3. Працювати над розбудовою внутрішньої системи оцінювання якості осві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4. Продовжити роботу над удосконаленням безпечного освітнього середовища, антибулінгової політики закла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5. Працювати над поповненням обладнання навчальних кабінетів (фізики, хімії, біології, математики, інформатики, англійської мови) новими приладами, технікою, дидактично-роздатковим матеріалом для реалізації освітньої програми закла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6. Активізувати роботу з педагогічними кадрами щодо підвищення професійної</a:t>
            </a:r>
            <a:br>
              <a:rPr sz="1600"/>
            </a:b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компетентності та самоосвіти вчителів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7. Продовжити реалізацію програми «Обдаровані діти», яка спрямована на створення сприятливих умов для пошуку, підтримки, стимулювання інтелектуально і творчо обдарованих дітей, самореалізації творчої особистості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8. Працювати над підвищенням якості уроку, методикою проведення підготовки до З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9. Залучати органи учнівського самоврядування, батьківську громадськість до моніторингу ефективності діяльності шко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10. Провести капітальний ремонт даху основної покрівлі закла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1071720" y="285840"/>
            <a:ext cx="72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rebuchet MS"/>
                <a:ea typeface="Arial"/>
              </a:rPr>
              <a:t>Атестація педагогічних працівників у 2021 роц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500040" y="785880"/>
            <a:ext cx="81439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Касьянова Тетяна Іванівна, учитель англійської мови,  кваліфікаційна категорія «спеціаліст І категорії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Цвєтова Олена Василівна ,учитель англійської мов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кваліфікаційна категорія «спеціаліст І категорії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Слюта Раїса Андріївна ,асистент вчителя, присвоїно 12 тарифний розряд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Кривенець Ірина Володимирівна, практичний психолог, відповідає раніше присвоєній кваліфікаційній категорії «спеціаліст І категорії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Бондаренко Марина Володимирівна, вихователь групи подовженого дня, відповідає раніше присвоєній кваліфікаційній категорії «спеціаліст ІІ категорії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Бондаренко Марина Володимирівна, учитель початкових класів, відповідає раніше присвоєній кваліфікаційній категорії «спеціаліст І категорії».</a:t>
            </a:r>
            <a:r>
              <a:rPr b="1" lang="ru-RU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2"/>
          <a:stretch/>
        </p:blipFill>
        <p:spPr>
          <a:xfrm>
            <a:off x="853920" y="1655640"/>
            <a:ext cx="4689720" cy="3184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5856120" y="2519280"/>
            <a:ext cx="768600" cy="932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2398680" y="216000"/>
            <a:ext cx="44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іковий склад вчител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792000" y="431640"/>
            <a:ext cx="8358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008000" y="2289240"/>
            <a:ext cx="3110040" cy="3109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4819680" y="3311640"/>
            <a:ext cx="1301760" cy="752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152360" y="144360"/>
            <a:ext cx="5048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Кількісний склад учителів за педагогічним стаж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500040" y="857160"/>
          <a:ext cx="8286840" cy="1428840"/>
        </p:xfrm>
        <a:graphic>
          <a:graphicData uri="http://schemas.openxmlformats.org/drawingml/2006/table">
            <a:tbl>
              <a:tblPr/>
              <a:tblGrid>
                <a:gridCol w="668520"/>
                <a:gridCol w="3824280"/>
                <a:gridCol w="2676240"/>
                <a:gridCol w="111780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Б учн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Б учителя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укового керівн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кіна Єлизавета Максимів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крут Алла Миколаївна, учитель української мови й літератур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  <p:sp>
        <p:nvSpPr>
          <p:cNvPr id="187" name="Text Box 32"/>
          <p:cNvSpPr/>
          <p:nvPr/>
        </p:nvSpPr>
        <p:spPr>
          <a:xfrm>
            <a:off x="1152360" y="144360"/>
            <a:ext cx="5048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3"/>
          <p:cNvSpPr/>
          <p:nvPr/>
        </p:nvSpPr>
        <p:spPr>
          <a:xfrm>
            <a:off x="360360" y="2151000"/>
            <a:ext cx="87123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3280" y="3643200"/>
          <a:ext cx="8351640" cy="2214720"/>
        </p:xfrm>
        <a:graphic>
          <a:graphicData uri="http://schemas.openxmlformats.org/drawingml/2006/table">
            <a:tbl>
              <a:tblPr/>
              <a:tblGrid>
                <a:gridCol w="652320"/>
                <a:gridCol w="906480"/>
                <a:gridCol w="747720"/>
                <a:gridCol w="906480"/>
                <a:gridCol w="801720"/>
                <a:gridCol w="907920"/>
                <a:gridCol w="801720"/>
                <a:gridCol w="906480"/>
                <a:gridCol w="801720"/>
                <a:gridCol w="919080"/>
              </a:tblGrid>
              <a:tr h="46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/20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/2018 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/2019 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/20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/20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-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-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  <p:sp>
        <p:nvSpPr>
          <p:cNvPr id="190" name="Прямоугольник 6"/>
          <p:cNvSpPr/>
          <p:nvPr/>
        </p:nvSpPr>
        <p:spPr>
          <a:xfrm>
            <a:off x="2286000" y="2357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Моніторинг участі учнів у Всеукраїнському конкурсі-захисті науково-дослідницьких робіт учнів-членів МАН Украї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7"/>
          <p:cNvSpPr/>
          <p:nvPr/>
        </p:nvSpPr>
        <p:spPr>
          <a:xfrm>
            <a:off x="2286000" y="142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Секція " Філософія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357120" y="287280"/>
            <a:ext cx="835812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Методична проблем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«Вдосконалення професійного рівня педагогів з метою підвищення результативності освітнього процесу в умовах запровадження Концепції нової української школ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Участь у фестивалі " Добрих практик" освітян Харківщи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8280" y="2143080"/>
          <a:ext cx="8785440" cy="4468680"/>
        </p:xfrm>
        <a:graphic>
          <a:graphicData uri="http://schemas.openxmlformats.org/drawingml/2006/table">
            <a:tbl>
              <a:tblPr/>
              <a:tblGrid>
                <a:gridCol w="1946520"/>
                <a:gridCol w="1420560"/>
                <a:gridCol w="3640320"/>
                <a:gridCol w="1778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Б педагог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інац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досвід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4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ьянова Т.І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Іноземні мов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икористання моделі навчання «Перевернутий клас» на уроках англійської мови в початкових класах під час дистанційного та змішаного навчанн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ступе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ьчукова А.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Історі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uk-UA" sz="1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Використання онлайн-дошки Google Jamboard під час дистанційного та змішаного навчання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ступе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3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оз О.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венець І.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пеціальна та інклюзивна освіт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лучення до дистанційної освіти дітей з ментальними порушенням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ступе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863640" y="360360"/>
            <a:ext cx="7128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Динаміка навчальних досягнень учн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619200" y="1440000"/>
            <a:ext cx="4637160" cy="3112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5904000" y="2376360"/>
            <a:ext cx="768240" cy="93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6T06:59:02Z</dcterms:created>
  <dc:creator>Любой</dc:creator>
  <dc:description/>
  <dc:language>en-US</dc:language>
  <cp:lastModifiedBy>Секрктарь</cp:lastModifiedBy>
  <dcterms:modified xsi:type="dcterms:W3CDTF">2021-07-02T07:36:11Z</dcterms:modified>
  <cp:revision>148</cp:revision>
  <dc:subject/>
  <dc:title>Слайд 1</dc:title>
</cp:coreProperties>
</file>