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0.jpeg" ContentType="image/jpeg"/>
  <Override PartName="/ppt/media/image12.png" ContentType="image/png"/>
  <Override PartName="/ppt/media/image8.png" ContentType="image/png"/>
  <Override PartName="/ppt/media/image11.jpeg" ContentType="image/jpeg"/>
  <Override PartName="/ppt/media/image36.jpeg" ContentType="image/jpeg"/>
  <Override PartName="/ppt/media/image40.png" ContentType="image/png"/>
  <Override PartName="/ppt/media/image10.png" ContentType="image/png"/>
  <Override PartName="/ppt/media/image35.jpeg" ContentType="image/jpeg"/>
  <Override PartName="/ppt/media/image30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wmf" ContentType="image/x-wmf"/>
  <Override PartName="/ppt/media/image19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dt" idx="5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ftr" idx="5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 type="sldNum" idx="6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33EF-8BD6-4A3F-ABDB-AF813A1E9B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5289-FB4A-47C8-96C2-96EC23DA12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84ED-111C-44EF-B7B6-4FABC8FF71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тки к слай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F43-5110-44B5-BAF1-8A402DA4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005-3C5B-47FA-B162-42913243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37B37-436D-4B21-BB60-7712643D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E70CE-9808-4382-91AE-F89C6E86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B2E2C-6F91-4C1B-80E9-EA24DC4C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A13B7-72B2-4267-9553-6155C3DF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503A5-1EB7-4D4E-8229-E3B695A6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533DF-8945-4A0A-A451-5AD80299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50C4A-704F-412B-9E2C-264E26BE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6FFE4-D487-4E6B-84A2-6834353A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31436-E09C-42F5-91CD-DC12D070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AF419-B609-4CD5-80DF-A248C274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C27-D1A1-405F-A1BC-2E23BDED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B9B6D-ADF6-4F38-913B-EBB2FA37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F53F4-C646-4169-A01A-FA7EBBAC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4F6C6-3417-4F34-B0A0-03396933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F12AA-CDD6-4887-BA2B-82EF17B9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6A0A5-CB35-4401-A5E1-622F8953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E87ED-56E1-491E-A4E1-1298011B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E0F6B-5F11-4D91-992B-C3D15AD3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D6754-7B56-4CAD-AFAD-6DBF74B7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54B54-A563-48BA-BB79-515F3CF2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24C7B-F12E-406F-A1D5-C31D871F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5B3-2416-431D-AA47-07A6C691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DEB41-8D9C-4968-B4CC-4F0C783B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33F51-33F1-40EC-91D3-0C7DD00F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C37F3-64F0-417B-83F4-520BE641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A4ABD-7870-4B8A-B312-019E0A1F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3DA68-33B5-4B47-B380-3967AA86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5ECB0-4728-4B0B-9EC2-D9063F53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6705F-4B3A-466A-B440-0EF26377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5E077-0D1C-4E29-9604-B9FB2CB8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6283E-1492-4EE1-B586-C8D09C9E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89683-4D5B-442B-A10F-F213D55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6D7E-2043-44CB-BC1A-BA3BAE96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5DD0F-C74F-4EC8-BC3E-085EF335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2B1C0-382D-4340-91B7-00675F23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23073-ECE9-416D-AE1B-F6D0A52C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E881C-B831-4F0F-9C66-F98B3338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92C9B-3C0D-45CC-80E7-20ADADF2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FB495-EAA1-428A-B3E7-7EA21DCD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B2AEC-0D6D-4AA6-8F4C-0AF199C4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A5B3B-EF88-4723-9CE8-D50A56B7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57FD8-B725-4E22-A568-852C3B1E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947F4-5E24-4E08-A893-B952A0D6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A22D-C58E-42F5-B6FA-B8AF44FD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1E509-5A4F-43BB-BC91-51BD8A39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E33F8-8F73-4693-B10F-BCA70A12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F0E52-7B6F-4BFF-BA77-64899B75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8580B-8A88-40EE-8988-55B410A5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2CB10-868B-41D4-9C40-EC8A9C25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C76D4-6461-44B9-9D85-387ADC47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8173A-FD48-4FF9-A8CC-16B587CB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92FE8-9E8D-4DCC-9A8B-59993043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62493-F2B4-4952-BAE4-057093E0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2836D-6061-44FC-9667-555B13D9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5771-1427-421D-B328-8509E31F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49787-C463-4121-AC77-690EB5E4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7A5E2-463E-42FC-A2BB-CBD44A9B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2A930-06C0-4862-B4AA-508C875E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59868-2DAC-4D0D-85FE-4E44791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E7F96-5096-4A34-B967-4C90192E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54CCC-1D1D-4C0B-AB35-DD6FA056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A94B4-39CD-4594-AEE1-6624D1CA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764F2-22A3-4038-B6BF-846250AE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99FE49-03E9-4BB8-AB4B-068B28FE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E53D8-6A86-48EE-9C8F-29C439DD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6472-BE6B-4265-8CC8-8D688C0A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0930E3-2282-4A9D-AD7D-5934D243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2C1D8-DBCB-407C-BE25-E675A0F9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D13D54-1C89-49F5-AEF1-DF7DFF85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FE699-270E-45E6-950E-FACE0EDC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67F99-40E0-495E-9F64-FC1AE45F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BFA5C-3088-4C9D-8343-D4458ACD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84F7DD-5AB0-4532-B911-109CE00E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2758D-C9FF-4156-85B5-BA81A943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0E3B8-08BA-483B-947C-B3E59014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F21E2F-F49E-4BC0-85CD-549B5E55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E85E-9DD5-43A1-86F2-7CAE91C5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4A01B-7C6D-4F60-9127-1077F8AE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8571B2-4A6F-4C1A-A36C-DA5A75B2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C562C-5AC2-41B8-8472-D0738AF1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3B7BD1-5874-45BE-815A-3B848876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30FABA-013A-4B35-AB06-D8F4AA79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13A1E-F6EC-49FD-A354-4C40BEA5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A2B412-56B8-417C-9E88-F984FD29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EA31E7-2616-4E25-BA8D-3D83C05C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45490-76DC-4EFF-8274-E76EB46B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E662D-04AF-4FE5-B134-C14901ED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F298-B8EF-436F-B020-C9067084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3B7BEB-D0A9-4062-AE01-610E3ECE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2300DF-40D0-497B-8A1F-6345ECEE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ACE3627-EB12-425B-8295-DBA28E6D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A9330B-3B55-406C-B298-B1DB1676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4298FF3-8DB5-432C-A77C-99EAB78A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812971-FA1E-48DF-8902-80C6EF55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8E6EC6-2321-4ED2-A53E-D7123C07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578832-9908-4849-B88F-E8FC739A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9AFFEAB-3D29-4D57-B2F1-4E7E953B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1A881EE-3A0B-440C-B453-D1165DF2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D7B7-1DAC-4B2A-B5CF-CBC606DC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38D7371-B2F2-46F5-8D53-C23EB0D5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FBDE47-6927-4ED9-BA55-DFBF787B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EDC6CC-272B-4ACD-B68E-BAD57397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8D5B10-65A4-4F97-B49F-98F80882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7E56EA-4554-4C37-BB6D-0B2884D6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CBE9E8-6921-4AEA-AD10-671F3629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10747-BE8A-4FEF-BC11-E15DCADE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64DDA8-B01D-49C8-BDBE-C24B2E9C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9EA85D-434F-48C6-98CA-C63D203A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166034-C3F5-4DA1-8629-0FDD4401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335-854B-4667-9B5A-676357D1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A845-1BF7-412F-8DB6-C4B6495E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6F0585-C9E1-4275-8BC5-5BA54533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9BD888-2769-4ED7-BC24-CB99ABBC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7985C-35F3-4A8D-862A-FC1E263E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D4C625-EF16-4DC1-8DB7-514A1DB3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44B28-910D-4C0A-AD94-8401AAC2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1E9BFD0-E375-425E-8F06-E1C24308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4FE0729-A5AF-4615-B3C9-A953D15C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104836D-8FE8-4EAE-A4E6-795BEB83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C0FE94F-D1CC-4C01-8283-38A8AECD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C13079-308E-43D3-B76B-460EF1EB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7460-EF63-47AB-9336-D0CE97EF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1C378A-1FD3-4DF6-A82A-7BC41F3E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BF1A3F4-5FDD-4342-84D1-BACC7125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CA295B8-2CE3-4E96-ADAD-2FD46CFF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5B6788-7075-47A5-8E91-27133D21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E28F1D2-EE1B-4F75-94B1-FC4D5F15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699969-057F-4E68-B7DD-F0CCD39D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778D5A7-4C2F-4757-9686-49501C9F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DCC82E-DF45-43C6-A6CE-BCAE09A5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397F6D-9BD5-40DA-B85D-AAE45686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650473-C6F1-4269-8E8C-3F4AEFD7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5A8C-8256-400F-82A9-EB43E7A7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56A335-C01D-4C95-9C2A-F50D7CD3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7CC99B-5086-4186-957A-69DAC7EF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CCF1E3-A0D9-4C2C-9862-6EFDEEE6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29BB4B-7027-49AD-A8EA-80EE63B4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9B22AC-DEBF-4E0D-95FC-6C5F4599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345E3C-80C3-4AD8-817E-A6D61659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689C42-807A-41CF-AE52-5C873B1B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FC68C0-9651-400C-8794-33C80A7F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022217-2800-4BE0-8516-8DBAB1ED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7ACA-FCF2-4332-9954-E0F0DA62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3E0C-2B20-4146-9A77-9C3DB5B5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4F1F-EBC4-4045-936E-22041922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06EA-C24C-4FEF-A097-40BDC9BA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4C948-9E0C-484A-801C-1B539F4E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1ADE1-3801-4102-8595-ADA2C076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77BE7-D782-467B-BF8C-484D822A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FD7-BBED-464B-B0A1-5E0B0E91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33E0-3952-4155-9579-99E2ED86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E25E9-77E9-4C86-BB43-EF112794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F8EAA-31EB-4E0E-BAFD-D6048CBE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1A7A9-1D02-4D07-B88C-053AE198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CBF66-E99D-4987-B3A2-578A89E3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55085-0AF2-4FB3-B111-126DC371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F243-33F4-48CB-9135-B2DA09BD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A60F4-E462-4374-A49B-442F1F0F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CB065-B327-4CC5-97D9-C84CDB24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DEDC0-2D48-465F-87C2-CFD67AB6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AE8-5688-4118-BA74-D4D57DA7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2D8E6-C617-4890-ABCC-99E9966A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C5003-D256-4E37-89A3-330F2A4D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DCBB7-627A-4BE5-8CBF-8C9AF922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5C001-DE7A-4D93-89B2-D52D6050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66FD7-250C-42EE-8122-472A6DE0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D1661-2C0C-4797-B59E-66759641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4C52C-424E-4BA8-818F-E43494C5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03CDF-CDEF-4D7E-A36C-1554A088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EFD2-CC10-4985-905D-32C904F2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0E371-F766-4E56-B14D-BD18DF5A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0FC-A18F-4D7D-BE7E-0C4DAD18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53134-22AD-4154-90F9-6AF613FE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FEF84-5C51-49A1-B7B7-ABF03297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F65E9-F53E-465B-9FBE-0C9C0F47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D51FF-68DD-4085-9D47-5B2F31F8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85777-E056-4A68-9EFD-A490DBE8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E0113-6918-48BB-8D9A-4EBD7A47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9E168-5E3E-482E-BAC0-5825587D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93447-9967-4266-8A20-721CAD83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36EE0-326F-407D-8303-2874E761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098E9-88EE-44A7-96C2-5AD2DCA1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7F8-AF10-40A0-A795-1D898911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9F50C-29BD-4F5F-AD5B-B6DF3559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BFFC8-B93E-40CB-A011-2468D7C6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AAFBD-7310-4C36-9D49-EFD15678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03D86-34EF-4DAA-8661-76A9AF7E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9B738-825C-4E75-BE40-5918CE69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7BDEF-5656-45C9-BD31-EDEDC8AF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A4E5E-FD64-475D-A459-A48B6C6E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432A8-6FE9-423E-89D5-6236802F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D97CC-C07B-4FC5-9D02-AB65B17E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A3ACB-98FA-4FA7-90E5-4EDB8642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686-D89C-4C1B-8CEE-A2C11D58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C08AA-8301-44BB-AD13-538B282B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C44FA-037F-4342-841F-7F7DE3EF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2B3A7-AB7F-4E88-B6AE-22258EC2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974BD-2085-4FDB-8A84-D5D23018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862BC-9EF3-4F73-B7E0-FC86C149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84657-3E78-417D-9AA5-26BEDE41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D9169-CFC4-4762-9F19-805C0083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9D152-4354-4074-9D18-0F32A105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58B0B-F309-4BF2-96D1-C4992563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35771-C81A-40D7-82D9-434888F7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025-9DEB-4EBE-BFFD-3C290CE2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264F6-B6D4-480C-AF02-743BEBBF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8B55A-4C2D-4754-A870-70C1CA31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18AC7-CC1F-4D69-8091-48B36241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EF855-5CDE-42DA-9627-4183B4A7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C6BF9-8F95-4532-AE44-37431A2D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8A735-C1A5-4D73-8432-8F306509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7C457-0573-4873-B151-9B181051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75018-A674-4BF4-8415-D891A65E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44EC9-E9A7-4544-9345-45C1D317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6820D-3E1C-4426-B5EF-8FA4DDCF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934-2351-4FFF-B6BC-735D79D6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A69BA-EFF9-49ED-8600-551F5977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BA881-AA3E-4596-B0F8-AE8B78A8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10107-8B55-48A7-89D3-36DD5CE5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122F4-5232-457A-87E3-643AC2C3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1B935-05C9-416A-BB92-836C5FDF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8DDC9-1E2D-4C68-84FE-77EB649A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E7197-DD0A-4CAD-A3AE-00096DF3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4DB91-5603-4805-992C-922ABD22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8A78F-DDF4-4C3D-A90B-71CB5F3C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B0EA9-0EBD-41A1-ACE1-85451576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217.xml"/><Relationship Id="rId35" Type="http://schemas.openxmlformats.org/officeDocument/2006/relationships/slideLayout" Target="../slideLayouts/slideLayout218.xml"/><Relationship Id="rId36" Type="http://schemas.openxmlformats.org/officeDocument/2006/relationships/slideLayout" Target="../slideLayouts/slideLayout219.xml"/><Relationship Id="rId37" Type="http://schemas.openxmlformats.org/officeDocument/2006/relationships/slideLayout" Target="../slideLayouts/slideLayout220.xml"/><Relationship Id="rId38" Type="http://schemas.openxmlformats.org/officeDocument/2006/relationships/slideLayout" Target="../slideLayouts/slideLayout221.xml"/><Relationship Id="rId39" Type="http://schemas.openxmlformats.org/officeDocument/2006/relationships/slideLayout" Target="../slideLayouts/slideLayout222.xml"/><Relationship Id="rId40" Type="http://schemas.openxmlformats.org/officeDocument/2006/relationships/slideLayout" Target="../slideLayouts/slideLayout223.xml"/><Relationship Id="rId41" Type="http://schemas.openxmlformats.org/officeDocument/2006/relationships/slideLayout" Target="../slideLayouts/slideLayout224.xml"/><Relationship Id="rId42" Type="http://schemas.openxmlformats.org/officeDocument/2006/relationships/slideLayout" Target="../slideLayouts/slideLayout225.xml"/><Relationship Id="rId43" Type="http://schemas.openxmlformats.org/officeDocument/2006/relationships/slideLayout" Target="../slideLayouts/slideLayout226.xml"/><Relationship Id="rId44" Type="http://schemas.openxmlformats.org/officeDocument/2006/relationships/slideLayout" Target="../slideLayouts/slideLayout227.xml"/><Relationship Id="rId4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9D0B-C0AC-4A08-ACB3-589038C3AC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1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1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1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1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2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2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3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3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56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270E-2E35-43AD-A44B-71D7CCC5B8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0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1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3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C042-40BD-4196-AD77-BF99393AE06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8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89FA-E4FA-4FE3-9D94-8D41A69E62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4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4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85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859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ADE1-CBBB-4174-9B88-2C583802A05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0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4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6961-34DB-4EE9-9792-A429C7C620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8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9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0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2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4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4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A8AB-C10C-48B8-9A03-E72374A3EF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40F5-0550-4EC3-887A-1A90C64339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3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D050-49B7-47BA-AE2E-302313A2A2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9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0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0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20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32D9-63A6-4345-A923-008AA600BC7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25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26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26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26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26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7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8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8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0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dt" idx="5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ftr" idx="5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sldNum" idx="5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3925-838D-4058-AB3B-3D25EB6B2D3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4"/>
    <p:sldLayoutId id="2147483884" r:id="rId35"/>
    <p:sldLayoutId id="2147483885" r:id="rId36"/>
    <p:sldLayoutId id="2147483886" r:id="rId37"/>
    <p:sldLayoutId id="2147483887" r:id="rId38"/>
    <p:sldLayoutId id="2147483888" r:id="rId39"/>
    <p:sldLayoutId id="2147483889" r:id="rId40"/>
    <p:sldLayoutId id="2147483890" r:id="rId41"/>
    <p:sldLayoutId id="2147483891" r:id="rId42"/>
    <p:sldLayoutId id="2147483892" r:id="rId43"/>
    <p:sldLayoutId id="2147483893" r:id="rId44"/>
    <p:sldLayoutId id="2147483894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9BA2-2C3B-4A34-B81F-110DF70CF59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96C0-3519-47CF-98A8-7098EA660E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DD0E-EF96-414D-ABC3-8E7DE4B4741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215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2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21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6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0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EAF6-AD65-48A0-B759-2D3C07F7B1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46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48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0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79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97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05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B061-C9A4-40EE-9061-B6C3C2DC60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4D8C-5899-4C90-8BA3-28F60A73C8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9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BBEF-129D-41E6-8DD7-D8E65C4859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BBB7-468C-4A92-96AE-4BA8F0774A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26.xml"/><Relationship Id="rId8" Type="http://schemas.openxmlformats.org/officeDocument/2006/relationships/slide" Target="slide18.xml"/><Relationship Id="rId9" Type="http://schemas.openxmlformats.org/officeDocument/2006/relationships/slide" Target="slide34.xml"/><Relationship Id="rId10" Type="http://schemas.openxmlformats.org/officeDocument/2006/relationships/slide" Target="slide30.xml"/><Relationship Id="rId11" Type="http://schemas.openxmlformats.org/officeDocument/2006/relationships/slide" Target="slide14.xml"/><Relationship Id="rId12" Type="http://schemas.openxmlformats.org/officeDocument/2006/relationships/slide" Target="slide28.xml"/><Relationship Id="rId13" Type="http://schemas.openxmlformats.org/officeDocument/2006/relationships/slide" Target="slide20.xml"/><Relationship Id="rId14" Type="http://schemas.openxmlformats.org/officeDocument/2006/relationships/slide" Target="slide32.xml"/><Relationship Id="rId15" Type="http://schemas.openxmlformats.org/officeDocument/2006/relationships/slide" Target="slide22.xml"/><Relationship Id="rId16" Type="http://schemas.openxmlformats.org/officeDocument/2006/relationships/slide" Target="slide24.xml"/><Relationship Id="rId17" Type="http://schemas.openxmlformats.org/officeDocument/2006/relationships/image" Target="../media/image21.jpe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9.gi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360" name="WordArt 11" descr=""/>
          <p:cNvPicPr/>
          <p:nvPr/>
        </p:nvPicPr>
        <p:blipFill>
          <a:blip r:embed="rId2"/>
          <a:stretch/>
        </p:blipFill>
        <p:spPr>
          <a:xfrm>
            <a:off x="603360" y="4932360"/>
            <a:ext cx="8070840" cy="174312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15" descr="C:\Users\Админ\Desktop\Вороніна\voronyna (1).jpg"/>
          <p:cNvPicPr/>
          <p:nvPr/>
        </p:nvPicPr>
        <p:blipFill>
          <a:blip r:embed="rId3"/>
          <a:stretch/>
        </p:blipFill>
        <p:spPr>
          <a:xfrm>
            <a:off x="3059280" y="404640"/>
            <a:ext cx="3241440" cy="360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2" name="Прямоугольник 6" descr=""/>
          <p:cNvPicPr/>
          <p:nvPr/>
        </p:nvPicPr>
        <p:blipFill>
          <a:blip r:embed="rId4"/>
          <a:stretch/>
        </p:blipFill>
        <p:spPr>
          <a:xfrm>
            <a:off x="2773440" y="3932280"/>
            <a:ext cx="3687840" cy="97452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7" descr="C:\Users\Админ\Desktop\Вороніна\ttbb5.jpg"/>
          <p:cNvPicPr/>
          <p:nvPr/>
        </p:nvPicPr>
        <p:blipFill>
          <a:blip r:embed="rId5"/>
          <a:stretch/>
        </p:blipFill>
        <p:spPr>
          <a:xfrm rot="485400">
            <a:off x="7098840" y="357120"/>
            <a:ext cx="1521000" cy="224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4" name="Picture 8" descr="C:\Users\Админ\Desktop\Вороніна\078_Tajemne_tovarystvo_bojaguziv_ta_brehuniv_Lesia_Voronyna.jpg"/>
          <p:cNvPicPr/>
          <p:nvPr/>
        </p:nvPicPr>
        <p:blipFill>
          <a:blip r:embed="rId6"/>
          <a:stretch/>
        </p:blipFill>
        <p:spPr>
          <a:xfrm rot="449400">
            <a:off x="826560" y="2722680"/>
            <a:ext cx="146052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0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21" name="AutoShape 9">
            <a:hlinkClick r:id="rId2" action="ppaction://hlinksldjump"/>
          </p:cNvPr>
          <p:cNvSpPr/>
          <p:nvPr/>
        </p:nvSpPr>
        <p:spPr>
          <a:xfrm>
            <a:off x="7667640" y="5516640"/>
            <a:ext cx="1224000" cy="1114200"/>
          </a:xfrm>
          <a:custGeom>
            <a:avLst/>
            <a:gdLst>
              <a:gd name="textAreaLeft" fmla="*/ 72000 w 1224000"/>
              <a:gd name="textAreaRight" fmla="*/ 1152000 w 1224000"/>
              <a:gd name="textAreaTop" fmla="*/ 72000 h 1114200"/>
              <a:gd name="textAreaBottom" fmla="*/ 1042200 h 1114200"/>
            </a:gdLst>
            <a:ahLst/>
            <a:rect l="textAreaLeft" t="textAreaTop" r="textAreaRight" b="textAreaBottom"/>
            <a:pathLst>
              <a:path w="23728" h="21600">
                <a:moveTo>
                  <a:pt x="0" y="0"/>
                </a:moveTo>
                <a:lnTo>
                  <a:pt x="23728" y="0"/>
                </a:lnTo>
                <a:lnTo>
                  <a:pt x="23728" y="21600"/>
                </a:lnTo>
                <a:lnTo>
                  <a:pt x="0" y="21600"/>
                </a:lnTo>
                <a:close/>
              </a:path>
              <a:path fill="lightenLess" w="23728" h="21600">
                <a:moveTo>
                  <a:pt x="0" y="0"/>
                </a:moveTo>
                <a:lnTo>
                  <a:pt x="23728" y="0"/>
                </a:lnTo>
                <a:lnTo>
                  <a:pt x="22328" y="1400"/>
                </a:lnTo>
                <a:lnTo>
                  <a:pt x="1400" y="1400"/>
                </a:lnTo>
                <a:close/>
              </a:path>
              <a:path fill="darken" w="23728" h="21600">
                <a:moveTo>
                  <a:pt x="23728" y="0"/>
                </a:moveTo>
                <a:lnTo>
                  <a:pt x="23728" y="21600"/>
                </a:lnTo>
                <a:lnTo>
                  <a:pt x="22328" y="20200"/>
                </a:lnTo>
                <a:lnTo>
                  <a:pt x="22328" y="1400"/>
                </a:lnTo>
                <a:close/>
              </a:path>
              <a:path fill="darkenLess" w="23728" h="21600">
                <a:moveTo>
                  <a:pt x="23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28" y="20200"/>
                </a:lnTo>
                <a:close/>
              </a:path>
              <a:path fill="lighten" w="23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WordArt 8"/>
          <p:cNvSpPr txBox="1"/>
          <p:nvPr/>
        </p:nvSpPr>
        <p:spPr>
          <a:xfrm>
            <a:off x="3924360" y="692280"/>
            <a:ext cx="403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4.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3" name="Text Box 9"/>
          <p:cNvSpPr/>
          <p:nvPr/>
        </p:nvSpPr>
        <p:spPr>
          <a:xfrm>
            <a:off x="611280" y="1700280"/>
            <a:ext cx="808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5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Що понад усе любила бабуся Клим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25" name="AutoShape 12">
            <a:hlinkClick r:id="rId2" action="ppaction://hlinksldjump"/>
          </p:cNvPr>
          <p:cNvSpPr/>
          <p:nvPr/>
        </p:nvSpPr>
        <p:spPr>
          <a:xfrm>
            <a:off x="7308720" y="544500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WordArt 10"/>
          <p:cNvSpPr txBox="1"/>
          <p:nvPr/>
        </p:nvSpPr>
        <p:spPr>
          <a:xfrm>
            <a:off x="2268360" y="1125360"/>
            <a:ext cx="62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7" name="Text Box 11"/>
          <p:cNvSpPr/>
          <p:nvPr/>
        </p:nvSpPr>
        <p:spPr>
          <a:xfrm>
            <a:off x="5724360" y="256536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т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8" name="Picture 9" descr="Картинки по запросу квіти анімація"/>
          <p:cNvPicPr/>
          <p:nvPr/>
        </p:nvPicPr>
        <p:blipFill>
          <a:blip r:embed="rId3"/>
          <a:stretch/>
        </p:blipFill>
        <p:spPr>
          <a:xfrm>
            <a:off x="395280" y="2577960"/>
            <a:ext cx="4608360" cy="303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30" name="AutoShape 11">
            <a:hlinkClick r:id="rId2" action="ppaction://hlinksldjump"/>
          </p:cNvPr>
          <p:cNvSpPr/>
          <p:nvPr/>
        </p:nvSpPr>
        <p:spPr>
          <a:xfrm>
            <a:off x="7596360" y="5516640"/>
            <a:ext cx="1258560" cy="1042920"/>
          </a:xfrm>
          <a:custGeom>
            <a:avLst/>
            <a:gdLst>
              <a:gd name="textAreaLeft" fmla="*/ 67320 w 1258560"/>
              <a:gd name="textAreaRight" fmla="*/ 1191240 w 12585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65" h="21600">
                <a:moveTo>
                  <a:pt x="0" y="0"/>
                </a:moveTo>
                <a:lnTo>
                  <a:pt x="26065" y="0"/>
                </a:lnTo>
                <a:lnTo>
                  <a:pt x="26065" y="21600"/>
                </a:lnTo>
                <a:lnTo>
                  <a:pt x="0" y="21600"/>
                </a:lnTo>
                <a:close/>
              </a:path>
              <a:path fill="lightenLess" w="26065" h="21600">
                <a:moveTo>
                  <a:pt x="0" y="0"/>
                </a:moveTo>
                <a:lnTo>
                  <a:pt x="26065" y="0"/>
                </a:lnTo>
                <a:lnTo>
                  <a:pt x="24665" y="1400"/>
                </a:lnTo>
                <a:lnTo>
                  <a:pt x="1400" y="1400"/>
                </a:lnTo>
                <a:close/>
              </a:path>
              <a:path fill="darken" w="26065" h="21600">
                <a:moveTo>
                  <a:pt x="26065" y="0"/>
                </a:moveTo>
                <a:lnTo>
                  <a:pt x="26065" y="21600"/>
                </a:lnTo>
                <a:lnTo>
                  <a:pt x="24665" y="20200"/>
                </a:lnTo>
                <a:lnTo>
                  <a:pt x="24665" y="1400"/>
                </a:lnTo>
                <a:close/>
              </a:path>
              <a:path fill="darkenLess" w="26065" h="21600">
                <a:moveTo>
                  <a:pt x="26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5" y="20200"/>
                </a:lnTo>
                <a:close/>
              </a:path>
              <a:path fill="lighten" w="26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WordArt 9"/>
          <p:cNvSpPr txBox="1"/>
          <p:nvPr/>
        </p:nvSpPr>
        <p:spPr>
          <a:xfrm>
            <a:off x="4211640" y="1052640"/>
            <a:ext cx="3456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5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2" name="Text Box 10"/>
          <p:cNvSpPr/>
          <p:nvPr/>
        </p:nvSpPr>
        <p:spPr>
          <a:xfrm>
            <a:off x="445320" y="256536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 якій країні перебували батьки Клим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34" name="Text Box 13"/>
          <p:cNvSpPr/>
          <p:nvPr/>
        </p:nvSpPr>
        <p:spPr>
          <a:xfrm>
            <a:off x="4211640" y="3284640"/>
            <a:ext cx="513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гип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WordArt 14"/>
          <p:cNvSpPr txBox="1"/>
          <p:nvPr/>
        </p:nvSpPr>
        <p:spPr>
          <a:xfrm>
            <a:off x="2195640" y="1125360"/>
            <a:ext cx="648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6" name="AutoShape 10">
            <a:hlinkClick r:id="rId2" action="ppaction://hlinksldjump"/>
          </p:cNvPr>
          <p:cNvSpPr/>
          <p:nvPr/>
        </p:nvSpPr>
        <p:spPr>
          <a:xfrm>
            <a:off x="7596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8" descr="Картинки по запросу єгипет"/>
          <p:cNvPicPr/>
          <p:nvPr/>
        </p:nvPicPr>
        <p:blipFill>
          <a:blip r:embed="rId3"/>
          <a:stretch/>
        </p:blipFill>
        <p:spPr>
          <a:xfrm>
            <a:off x="539640" y="2781360"/>
            <a:ext cx="4392720" cy="2927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39" name="AutoShape 11"/>
          <p:cNvSpPr/>
          <p:nvPr/>
        </p:nvSpPr>
        <p:spPr>
          <a:xfrm>
            <a:off x="7667640" y="5300640"/>
            <a:ext cx="1152360" cy="118584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85840"/>
              <a:gd name="textAreaBottom" fmla="*/ 1111320 h 1185840"/>
            </a:gdLst>
            <a:ahLst/>
            <a:rect l="textAreaLeft" t="textAreaTop" r="textAreaRight" b="textAreaBottom"/>
            <a:pathLst>
              <a:path w="21600" h="22227">
                <a:moveTo>
                  <a:pt x="0" y="0"/>
                </a:moveTo>
                <a:lnTo>
                  <a:pt x="21600" y="0"/>
                </a:lnTo>
                <a:lnTo>
                  <a:pt x="21600" y="22227"/>
                </a:lnTo>
                <a:lnTo>
                  <a:pt x="0" y="22227"/>
                </a:lnTo>
                <a:close/>
              </a:path>
              <a:path fill="lightenLess" w="21600" h="222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7">
                <a:moveTo>
                  <a:pt x="21600" y="0"/>
                </a:moveTo>
                <a:lnTo>
                  <a:pt x="21600" y="22227"/>
                </a:lnTo>
                <a:lnTo>
                  <a:pt x="20200" y="20827"/>
                </a:lnTo>
                <a:lnTo>
                  <a:pt x="20200" y="1400"/>
                </a:lnTo>
                <a:close/>
              </a:path>
              <a:path fill="darkenLess" w="21600" h="22227">
                <a:moveTo>
                  <a:pt x="21600" y="22227"/>
                </a:moveTo>
                <a:lnTo>
                  <a:pt x="0" y="22227"/>
                </a:lnTo>
                <a:lnTo>
                  <a:pt x="1400" y="20827"/>
                </a:lnTo>
                <a:lnTo>
                  <a:pt x="20200" y="20827"/>
                </a:lnTo>
                <a:close/>
              </a:path>
              <a:path fill="lighten" w="21600" h="22227">
                <a:moveTo>
                  <a:pt x="0" y="222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WordArt 11"/>
          <p:cNvSpPr txBox="1"/>
          <p:nvPr/>
        </p:nvSpPr>
        <p:spPr>
          <a:xfrm>
            <a:off x="3924360" y="1052640"/>
            <a:ext cx="295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6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1" name="Прямоугольник 7"/>
          <p:cNvSpPr/>
          <p:nvPr/>
        </p:nvSpPr>
        <p:spPr>
          <a:xfrm>
            <a:off x="539640" y="2708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мав дістати Клим із дна квіткового горщ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43" name="AutoShape 10"/>
          <p:cNvSpPr/>
          <p:nvPr/>
        </p:nvSpPr>
        <p:spPr>
          <a:xfrm>
            <a:off x="774072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WordArt 11"/>
          <p:cNvSpPr txBox="1"/>
          <p:nvPr/>
        </p:nvSpPr>
        <p:spPr>
          <a:xfrm>
            <a:off x="2627280" y="907920"/>
            <a:ext cx="5759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5" name="TextBox 7"/>
          <p:cNvSpPr/>
          <p:nvPr/>
        </p:nvSpPr>
        <p:spPr>
          <a:xfrm>
            <a:off x="4006440" y="3068640"/>
            <a:ext cx="47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люч від маш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Picture 9" descr="Картинки по запросу ключ від машинии"/>
          <p:cNvPicPr/>
          <p:nvPr/>
        </p:nvPicPr>
        <p:blipFill>
          <a:blip r:embed="rId2"/>
          <a:stretch/>
        </p:blipFill>
        <p:spPr>
          <a:xfrm rot="20149800">
            <a:off x="15480" y="1609200"/>
            <a:ext cx="4356000" cy="435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48" name="AutoShape 17"/>
          <p:cNvSpPr/>
          <p:nvPr/>
        </p:nvSpPr>
        <p:spPr>
          <a:xfrm>
            <a:off x="7524720" y="5516640"/>
            <a:ext cx="1152720" cy="1116000"/>
          </a:xfrm>
          <a:custGeom>
            <a:avLst/>
            <a:gdLst>
              <a:gd name="textAreaLeft" fmla="*/ 72000 w 1152720"/>
              <a:gd name="textAreaRight" fmla="*/ 1080720 w 1152720"/>
              <a:gd name="textAreaTop" fmla="*/ 72000 h 1116000"/>
              <a:gd name="textAreaBottom" fmla="*/ 1044000 h 1116000"/>
            </a:gdLst>
            <a:ahLst/>
            <a:rect l="textAreaLeft" t="textAreaTop" r="textAreaRight" b="textAreaBottom"/>
            <a:pathLst>
              <a:path w="22310" h="21600">
                <a:moveTo>
                  <a:pt x="0" y="0"/>
                </a:moveTo>
                <a:lnTo>
                  <a:pt x="22310" y="0"/>
                </a:lnTo>
                <a:lnTo>
                  <a:pt x="22310" y="21600"/>
                </a:lnTo>
                <a:lnTo>
                  <a:pt x="0" y="21600"/>
                </a:lnTo>
                <a:close/>
              </a:path>
              <a:path fill="lightenLess" w="22310" h="21600">
                <a:moveTo>
                  <a:pt x="0" y="0"/>
                </a:moveTo>
                <a:lnTo>
                  <a:pt x="22310" y="0"/>
                </a:lnTo>
                <a:lnTo>
                  <a:pt x="20911" y="1400"/>
                </a:lnTo>
                <a:lnTo>
                  <a:pt x="1400" y="1400"/>
                </a:lnTo>
                <a:close/>
              </a:path>
              <a:path fill="darken" w="22310" h="21600">
                <a:moveTo>
                  <a:pt x="22310" y="0"/>
                </a:moveTo>
                <a:lnTo>
                  <a:pt x="22310" y="21600"/>
                </a:lnTo>
                <a:lnTo>
                  <a:pt x="20911" y="20200"/>
                </a:lnTo>
                <a:lnTo>
                  <a:pt x="20911" y="1400"/>
                </a:lnTo>
                <a:close/>
              </a:path>
              <a:path fill="darkenLess" w="22310" h="21600">
                <a:moveTo>
                  <a:pt x="22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1" y="20200"/>
                </a:lnTo>
                <a:close/>
              </a:path>
              <a:path fill="lighten" w="22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WordArt 13"/>
          <p:cNvSpPr txBox="1"/>
          <p:nvPr/>
        </p:nvSpPr>
        <p:spPr>
          <a:xfrm>
            <a:off x="3708360" y="1052640"/>
            <a:ext cx="396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7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0" name="Text Box 14"/>
          <p:cNvSpPr/>
          <p:nvPr/>
        </p:nvSpPr>
        <p:spPr>
          <a:xfrm>
            <a:off x="468360" y="227664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а марка автомобіля, що стояв у дворі під груше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52" name="AutoShape 10"/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WordArt 10"/>
          <p:cNvSpPr txBox="1"/>
          <p:nvPr/>
        </p:nvSpPr>
        <p:spPr>
          <a:xfrm>
            <a:off x="2700360" y="836640"/>
            <a:ext cx="5975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4" name="Text Box 11"/>
          <p:cNvSpPr/>
          <p:nvPr/>
        </p:nvSpPr>
        <p:spPr>
          <a:xfrm>
            <a:off x="0" y="1341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12"/>
          <p:cNvSpPr/>
          <p:nvPr/>
        </p:nvSpPr>
        <p:spPr>
          <a:xfrm>
            <a:off x="4211640" y="2276640"/>
            <a:ext cx="44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рожець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6" name="Picture 10" descr="Картинки по запросу запорожець старий"/>
          <p:cNvPicPr/>
          <p:nvPr/>
        </p:nvPicPr>
        <p:blipFill>
          <a:blip r:embed="rId2"/>
          <a:stretch/>
        </p:blipFill>
        <p:spPr>
          <a:xfrm>
            <a:off x="1444680" y="3500280"/>
            <a:ext cx="7434360" cy="2733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58" name="AutoShape 11"/>
          <p:cNvSpPr/>
          <p:nvPr/>
        </p:nvSpPr>
        <p:spPr>
          <a:xfrm>
            <a:off x="7596360" y="5445000"/>
            <a:ext cx="1152360" cy="1114560"/>
          </a:xfrm>
          <a:custGeom>
            <a:avLst/>
            <a:gdLst>
              <a:gd name="textAreaLeft" fmla="*/ 72000 w 1152360"/>
              <a:gd name="textAreaRight" fmla="*/ 1080360 w 1152360"/>
              <a:gd name="textAreaTop" fmla="*/ 72000 h 1114560"/>
              <a:gd name="textAreaBottom" fmla="*/ 1042560 h 1114560"/>
            </a:gdLst>
            <a:ahLst/>
            <a:rect l="textAreaLeft" t="textAreaTop" r="textAreaRight" b="textAreaBottom"/>
            <a:pathLst>
              <a:path w="22332" h="21600">
                <a:moveTo>
                  <a:pt x="0" y="0"/>
                </a:moveTo>
                <a:lnTo>
                  <a:pt x="22332" y="0"/>
                </a:lnTo>
                <a:lnTo>
                  <a:pt x="22332" y="21600"/>
                </a:lnTo>
                <a:lnTo>
                  <a:pt x="0" y="21600"/>
                </a:lnTo>
                <a:close/>
              </a:path>
              <a:path fill="lightenLess" w="22332" h="21600">
                <a:moveTo>
                  <a:pt x="0" y="0"/>
                </a:moveTo>
                <a:lnTo>
                  <a:pt x="22332" y="0"/>
                </a:lnTo>
                <a:lnTo>
                  <a:pt x="20932" y="1400"/>
                </a:lnTo>
                <a:lnTo>
                  <a:pt x="1400" y="1400"/>
                </a:lnTo>
                <a:close/>
              </a:path>
              <a:path fill="darken" w="22332" h="21600">
                <a:moveTo>
                  <a:pt x="22332" y="0"/>
                </a:moveTo>
                <a:lnTo>
                  <a:pt x="22332" y="21600"/>
                </a:lnTo>
                <a:lnTo>
                  <a:pt x="20932" y="20200"/>
                </a:lnTo>
                <a:lnTo>
                  <a:pt x="20932" y="1400"/>
                </a:lnTo>
                <a:close/>
              </a:path>
              <a:path fill="darkenLess" w="22332" h="21600">
                <a:moveTo>
                  <a:pt x="22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2" y="20200"/>
                </a:lnTo>
                <a:close/>
              </a:path>
              <a:path fill="lighten" w="22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WordArt 10"/>
          <p:cNvSpPr txBox="1"/>
          <p:nvPr/>
        </p:nvSpPr>
        <p:spPr>
          <a:xfrm>
            <a:off x="3708360" y="981000"/>
            <a:ext cx="3851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8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0" name="Прямоугольник 6"/>
          <p:cNvSpPr/>
          <p:nvPr/>
        </p:nvSpPr>
        <p:spPr>
          <a:xfrm>
            <a:off x="539640" y="2637000"/>
            <a:ext cx="80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бабусиному городі хлопець відшукав кущ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62" name="AutoShape 11"/>
          <p:cNvSpPr/>
          <p:nvPr/>
        </p:nvSpPr>
        <p:spPr>
          <a:xfrm>
            <a:off x="7596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WordArt 10"/>
          <p:cNvSpPr txBox="1"/>
          <p:nvPr/>
        </p:nvSpPr>
        <p:spPr>
          <a:xfrm>
            <a:off x="2843280" y="549360"/>
            <a:ext cx="547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4" name="TextBox 7"/>
          <p:cNvSpPr/>
          <p:nvPr/>
        </p:nvSpPr>
        <p:spPr>
          <a:xfrm>
            <a:off x="5303880" y="2421000"/>
            <a:ext cx="28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омідо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5" name="Picture 9" descr="Картинки по запросу плмідори куст"/>
          <p:cNvPicPr/>
          <p:nvPr/>
        </p:nvPicPr>
        <p:blipFill>
          <a:blip r:embed="rId2"/>
          <a:stretch/>
        </p:blipFill>
        <p:spPr>
          <a:xfrm>
            <a:off x="755640" y="2276640"/>
            <a:ext cx="377208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5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366" name="Rectangle 4"/>
          <p:cNvSpPr/>
          <p:nvPr/>
        </p:nvSpPr>
        <p:spPr>
          <a:xfrm>
            <a:off x="826920" y="1424520"/>
            <a:ext cx="78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Головна риса дитячого письменника – неймовірна радість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осто від того, що ти живеш на сві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1" lang="uk-U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Леся Воро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7" name="Picture 8" descr="Похожее изображение"/>
          <p:cNvPicPr/>
          <p:nvPr/>
        </p:nvPicPr>
        <p:blipFill>
          <a:blip r:embed="rId2"/>
          <a:stretch/>
        </p:blipFill>
        <p:spPr>
          <a:xfrm>
            <a:off x="2843280" y="4005360"/>
            <a:ext cx="1512720" cy="229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8" name="Picture 10" descr="Картинки по запросу леся вороніна"/>
          <p:cNvPicPr/>
          <p:nvPr/>
        </p:nvPicPr>
        <p:blipFill>
          <a:blip r:embed="rId3"/>
          <a:stretch/>
        </p:blipFill>
        <p:spPr>
          <a:xfrm>
            <a:off x="5003640" y="4005360"/>
            <a:ext cx="1454400" cy="230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9" name="Picture 12" descr="Картинки по запросу леся вороніна"/>
          <p:cNvPicPr/>
          <p:nvPr/>
        </p:nvPicPr>
        <p:blipFill>
          <a:blip r:embed="rId4"/>
          <a:stretch/>
        </p:blipFill>
        <p:spPr>
          <a:xfrm>
            <a:off x="7236000" y="4005360"/>
            <a:ext cx="1501560" cy="230328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14" descr="Похожее изображение"/>
          <p:cNvPicPr/>
          <p:nvPr/>
        </p:nvPicPr>
        <p:blipFill>
          <a:blip r:embed="rId5"/>
          <a:stretch/>
        </p:blipFill>
        <p:spPr>
          <a:xfrm>
            <a:off x="611280" y="4005360"/>
            <a:ext cx="1512720" cy="233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67" name="AutoShape 11"/>
          <p:cNvSpPr/>
          <p:nvPr/>
        </p:nvSpPr>
        <p:spPr>
          <a:xfrm>
            <a:off x="7596360" y="5445000"/>
            <a:ext cx="1223640" cy="1114560"/>
          </a:xfrm>
          <a:custGeom>
            <a:avLst/>
            <a:gdLst>
              <a:gd name="textAreaLeft" fmla="*/ 72000 w 1223640"/>
              <a:gd name="textAreaRight" fmla="*/ 1151640 w 1223640"/>
              <a:gd name="textAreaTop" fmla="*/ 72000 h 1114560"/>
              <a:gd name="textAreaBottom" fmla="*/ 1042560 h 1114560"/>
            </a:gdLst>
            <a:ahLst/>
            <a:rect l="textAreaLeft" t="textAreaTop" r="textAreaRight" b="textAreaBottom"/>
            <a:pathLst>
              <a:path w="23713" h="21600">
                <a:moveTo>
                  <a:pt x="0" y="0"/>
                </a:moveTo>
                <a:lnTo>
                  <a:pt x="23713" y="0"/>
                </a:lnTo>
                <a:lnTo>
                  <a:pt x="23713" y="21600"/>
                </a:lnTo>
                <a:lnTo>
                  <a:pt x="0" y="21600"/>
                </a:lnTo>
                <a:close/>
              </a:path>
              <a:path fill="lightenLess" w="23713" h="21600">
                <a:moveTo>
                  <a:pt x="0" y="0"/>
                </a:moveTo>
                <a:lnTo>
                  <a:pt x="23713" y="0"/>
                </a:lnTo>
                <a:lnTo>
                  <a:pt x="22313" y="1400"/>
                </a:lnTo>
                <a:lnTo>
                  <a:pt x="1400" y="1400"/>
                </a:lnTo>
                <a:close/>
              </a:path>
              <a:path fill="darken" w="23713" h="21600">
                <a:moveTo>
                  <a:pt x="23713" y="0"/>
                </a:moveTo>
                <a:lnTo>
                  <a:pt x="23713" y="21600"/>
                </a:lnTo>
                <a:lnTo>
                  <a:pt x="22313" y="20200"/>
                </a:lnTo>
                <a:lnTo>
                  <a:pt x="22313" y="1400"/>
                </a:lnTo>
                <a:close/>
              </a:path>
              <a:path fill="darkenLess" w="23713" h="21600">
                <a:moveTo>
                  <a:pt x="237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13" y="20200"/>
                </a:lnTo>
                <a:close/>
              </a:path>
              <a:path fill="lighten" w="237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WordArt 10"/>
          <p:cNvSpPr txBox="1"/>
          <p:nvPr/>
        </p:nvSpPr>
        <p:spPr>
          <a:xfrm>
            <a:off x="3419640" y="836640"/>
            <a:ext cx="41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9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9" name="Text Box 11"/>
          <p:cNvSpPr/>
          <p:nvPr/>
        </p:nvSpPr>
        <p:spPr>
          <a:xfrm>
            <a:off x="395280" y="191628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ому належать слова: “</a:t>
            </a: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и що, збожеволіли? А якщо мене хтось знайомий побачить?</a:t>
            </a: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71" name="AutoShape 10"/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WordArt 10"/>
          <p:cNvSpPr txBox="1"/>
          <p:nvPr/>
        </p:nvSpPr>
        <p:spPr>
          <a:xfrm>
            <a:off x="2916360" y="549360"/>
            <a:ext cx="518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3" name="Text Box 11"/>
          <p:cNvSpPr/>
          <p:nvPr/>
        </p:nvSpPr>
        <p:spPr>
          <a:xfrm>
            <a:off x="4211640" y="2565360"/>
            <a:ext cx="45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лим Дж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4" name="Picture 7" descr="C:\Users\Админ\Desktop\Вороніна\011_Tajemne_tovarystvo_bojaguziv_ta_brehuniv_Lesia_Voronyna.jpg"/>
          <p:cNvPicPr/>
          <p:nvPr/>
        </p:nvPicPr>
        <p:blipFill>
          <a:blip r:embed="rId2"/>
          <a:stretch/>
        </p:blipFill>
        <p:spPr>
          <a:xfrm>
            <a:off x="468360" y="2349360"/>
            <a:ext cx="4032360" cy="3640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76" name="AutoShape 9"/>
          <p:cNvSpPr/>
          <p:nvPr/>
        </p:nvSpPr>
        <p:spPr>
          <a:xfrm>
            <a:off x="7451640" y="5445000"/>
            <a:ext cx="1225800" cy="1114560"/>
          </a:xfrm>
          <a:custGeom>
            <a:avLst/>
            <a:gdLst>
              <a:gd name="textAreaLeft" fmla="*/ 72000 w 1225800"/>
              <a:gd name="textAreaRight" fmla="*/ 1153800 w 1225800"/>
              <a:gd name="textAreaTop" fmla="*/ 72000 h 1114560"/>
              <a:gd name="textAreaBottom" fmla="*/ 1042560 h 1114560"/>
            </a:gdLst>
            <a:ahLst/>
            <a:rect l="textAreaLeft" t="textAreaTop" r="textAreaRight" b="textAreaBottom"/>
            <a:pathLst>
              <a:path w="23755" h="21600">
                <a:moveTo>
                  <a:pt x="0" y="0"/>
                </a:moveTo>
                <a:lnTo>
                  <a:pt x="23755" y="0"/>
                </a:lnTo>
                <a:lnTo>
                  <a:pt x="23755" y="21600"/>
                </a:lnTo>
                <a:lnTo>
                  <a:pt x="0" y="21600"/>
                </a:lnTo>
                <a:close/>
              </a:path>
              <a:path fill="lightenLess" w="23755" h="21600">
                <a:moveTo>
                  <a:pt x="0" y="0"/>
                </a:moveTo>
                <a:lnTo>
                  <a:pt x="23755" y="0"/>
                </a:lnTo>
                <a:lnTo>
                  <a:pt x="22355" y="1400"/>
                </a:lnTo>
                <a:lnTo>
                  <a:pt x="1400" y="1400"/>
                </a:lnTo>
                <a:close/>
              </a:path>
              <a:path fill="darken" w="23755" h="21600">
                <a:moveTo>
                  <a:pt x="23755" y="0"/>
                </a:moveTo>
                <a:lnTo>
                  <a:pt x="23755" y="21600"/>
                </a:lnTo>
                <a:lnTo>
                  <a:pt x="22355" y="20200"/>
                </a:lnTo>
                <a:lnTo>
                  <a:pt x="22355" y="1400"/>
                </a:lnTo>
                <a:close/>
              </a:path>
              <a:path fill="darkenLess" w="23755" h="21600">
                <a:moveTo>
                  <a:pt x="23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5" y="20200"/>
                </a:lnTo>
                <a:close/>
              </a:path>
              <a:path fill="lighten" w="23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WordArt 9"/>
          <p:cNvSpPr txBox="1"/>
          <p:nvPr/>
        </p:nvSpPr>
        <p:spPr>
          <a:xfrm>
            <a:off x="3492360" y="907920"/>
            <a:ext cx="4032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10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8" name="Text Box 10"/>
          <p:cNvSpPr/>
          <p:nvPr/>
        </p:nvSpPr>
        <p:spPr>
          <a:xfrm>
            <a:off x="395280" y="198900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ому належать слова: “</a:t>
            </a: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У синьомордів надзвичайно тонкий слух</a:t>
            </a: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80" name="AutoShape 10"/>
          <p:cNvSpPr/>
          <p:nvPr/>
        </p:nvSpPr>
        <p:spPr>
          <a:xfrm>
            <a:off x="7740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WordArt 10"/>
          <p:cNvSpPr txBox="1"/>
          <p:nvPr/>
        </p:nvSpPr>
        <p:spPr>
          <a:xfrm>
            <a:off x="2771640" y="69228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2" name="Text Box 11"/>
          <p:cNvSpPr/>
          <p:nvPr/>
        </p:nvSpPr>
        <p:spPr>
          <a:xfrm>
            <a:off x="4335480" y="150480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12"/>
          <p:cNvSpPr/>
          <p:nvPr/>
        </p:nvSpPr>
        <p:spPr>
          <a:xfrm>
            <a:off x="5292720" y="2637000"/>
            <a:ext cx="31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4" name="Picture 9" descr="C:\Users\Админ\Desktop\Вороніна\1042895-i_012.jpg"/>
          <p:cNvPicPr/>
          <p:nvPr/>
        </p:nvPicPr>
        <p:blipFill>
          <a:blip r:embed="rId2"/>
          <a:stretch/>
        </p:blipFill>
        <p:spPr>
          <a:xfrm>
            <a:off x="1285920" y="1816200"/>
            <a:ext cx="3139920" cy="4309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86" name="AutoShape 13"/>
          <p:cNvSpPr/>
          <p:nvPr/>
        </p:nvSpPr>
        <p:spPr>
          <a:xfrm>
            <a:off x="7740720" y="5743440"/>
            <a:ext cx="1152360" cy="1114560"/>
          </a:xfrm>
          <a:custGeom>
            <a:avLst/>
            <a:gdLst>
              <a:gd name="textAreaLeft" fmla="*/ 72000 w 1152360"/>
              <a:gd name="textAreaRight" fmla="*/ 1080360 w 1152360"/>
              <a:gd name="textAreaTop" fmla="*/ 72000 h 1114560"/>
              <a:gd name="textAreaBottom" fmla="*/ 1042560 h 1114560"/>
            </a:gdLst>
            <a:ahLst/>
            <a:rect l="textAreaLeft" t="textAreaTop" r="textAreaRight" b="textAreaBottom"/>
            <a:pathLst>
              <a:path w="22332" h="21600">
                <a:moveTo>
                  <a:pt x="0" y="0"/>
                </a:moveTo>
                <a:lnTo>
                  <a:pt x="22332" y="0"/>
                </a:lnTo>
                <a:lnTo>
                  <a:pt x="22332" y="21600"/>
                </a:lnTo>
                <a:lnTo>
                  <a:pt x="0" y="21600"/>
                </a:lnTo>
                <a:close/>
              </a:path>
              <a:path fill="lightenLess" w="22332" h="21600">
                <a:moveTo>
                  <a:pt x="0" y="0"/>
                </a:moveTo>
                <a:lnTo>
                  <a:pt x="22332" y="0"/>
                </a:lnTo>
                <a:lnTo>
                  <a:pt x="20932" y="1400"/>
                </a:lnTo>
                <a:lnTo>
                  <a:pt x="1400" y="1400"/>
                </a:lnTo>
                <a:close/>
              </a:path>
              <a:path fill="darken" w="22332" h="21600">
                <a:moveTo>
                  <a:pt x="22332" y="0"/>
                </a:moveTo>
                <a:lnTo>
                  <a:pt x="22332" y="21600"/>
                </a:lnTo>
                <a:lnTo>
                  <a:pt x="20932" y="20200"/>
                </a:lnTo>
                <a:lnTo>
                  <a:pt x="20932" y="1400"/>
                </a:lnTo>
                <a:close/>
              </a:path>
              <a:path fill="darkenLess" w="22332" h="21600">
                <a:moveTo>
                  <a:pt x="22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2" y="20200"/>
                </a:lnTo>
                <a:close/>
              </a:path>
              <a:path fill="lighten" w="22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WordArt 10"/>
          <p:cNvSpPr txBox="1"/>
          <p:nvPr/>
        </p:nvSpPr>
        <p:spPr>
          <a:xfrm>
            <a:off x="3492360" y="1125360"/>
            <a:ext cx="367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11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8" name="Text Box 11"/>
          <p:cNvSpPr/>
          <p:nvPr/>
        </p:nvSpPr>
        <p:spPr>
          <a:xfrm>
            <a:off x="324000" y="198900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існю якої групи дуже любить мугикати собі під ніс бабуся Кли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90" name="AutoShape 10"/>
          <p:cNvSpPr/>
          <p:nvPr/>
        </p:nvSpPr>
        <p:spPr>
          <a:xfrm>
            <a:off x="766764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WordArt 10"/>
          <p:cNvSpPr txBox="1"/>
          <p:nvPr/>
        </p:nvSpPr>
        <p:spPr>
          <a:xfrm>
            <a:off x="2987640" y="907920"/>
            <a:ext cx="5543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92" name="Picture 8" descr="Картинки по запросу бітлз"/>
          <p:cNvPicPr/>
          <p:nvPr/>
        </p:nvPicPr>
        <p:blipFill>
          <a:blip r:embed="rId2"/>
          <a:stretch/>
        </p:blipFill>
        <p:spPr>
          <a:xfrm>
            <a:off x="1258920" y="2276640"/>
            <a:ext cx="5888160" cy="3889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94" name="Text Box 12"/>
          <p:cNvSpPr/>
          <p:nvPr/>
        </p:nvSpPr>
        <p:spPr>
          <a:xfrm>
            <a:off x="684360" y="2133720"/>
            <a:ext cx="82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Що забороняє закон усесвітньої рівноваг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AutoShape 13"/>
          <p:cNvSpPr/>
          <p:nvPr/>
        </p:nvSpPr>
        <p:spPr>
          <a:xfrm>
            <a:off x="7524720" y="5445000"/>
            <a:ext cx="1152720" cy="1114560"/>
          </a:xfrm>
          <a:custGeom>
            <a:avLst/>
            <a:gdLst>
              <a:gd name="textAreaLeft" fmla="*/ 72000 w 1152720"/>
              <a:gd name="textAreaRight" fmla="*/ 1080720 w 1152720"/>
              <a:gd name="textAreaTop" fmla="*/ 72000 h 1114560"/>
              <a:gd name="textAreaBottom" fmla="*/ 1042560 h 1114560"/>
            </a:gdLst>
            <a:ahLst/>
            <a:rect l="textAreaLeft" t="textAreaTop" r="textAreaRight" b="textAreaBottom"/>
            <a:pathLst>
              <a:path w="22339" h="21600">
                <a:moveTo>
                  <a:pt x="0" y="0"/>
                </a:moveTo>
                <a:lnTo>
                  <a:pt x="22339" y="0"/>
                </a:lnTo>
                <a:lnTo>
                  <a:pt x="22339" y="21600"/>
                </a:lnTo>
                <a:lnTo>
                  <a:pt x="0" y="21600"/>
                </a:lnTo>
                <a:close/>
              </a:path>
              <a:path fill="lightenLess" w="22339" h="21600">
                <a:moveTo>
                  <a:pt x="0" y="0"/>
                </a:moveTo>
                <a:lnTo>
                  <a:pt x="22339" y="0"/>
                </a:lnTo>
                <a:lnTo>
                  <a:pt x="20939" y="1400"/>
                </a:lnTo>
                <a:lnTo>
                  <a:pt x="1400" y="1400"/>
                </a:lnTo>
                <a:close/>
              </a:path>
              <a:path fill="darken" w="22339" h="21600">
                <a:moveTo>
                  <a:pt x="22339" y="0"/>
                </a:moveTo>
                <a:lnTo>
                  <a:pt x="22339" y="21600"/>
                </a:lnTo>
                <a:lnTo>
                  <a:pt x="20939" y="20200"/>
                </a:lnTo>
                <a:lnTo>
                  <a:pt x="20939" y="1400"/>
                </a:lnTo>
                <a:close/>
              </a:path>
              <a:path fill="darkenLess" w="22339" h="21600">
                <a:moveTo>
                  <a:pt x="22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9" y="20200"/>
                </a:lnTo>
                <a:close/>
              </a:path>
              <a:path fill="lighten" w="22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WordArt 14"/>
          <p:cNvSpPr txBox="1"/>
          <p:nvPr/>
        </p:nvSpPr>
        <p:spPr>
          <a:xfrm>
            <a:off x="3564000" y="765000"/>
            <a:ext cx="3672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12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98" name="AutoShape 10"/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WordArt 10"/>
          <p:cNvSpPr txBox="1"/>
          <p:nvPr/>
        </p:nvSpPr>
        <p:spPr>
          <a:xfrm>
            <a:off x="2916360" y="836640"/>
            <a:ext cx="525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7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fffff7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0" name="Picture 8" descr="Картинки по запросу насильство"/>
          <p:cNvPicPr/>
          <p:nvPr/>
        </p:nvPicPr>
        <p:blipFill>
          <a:blip r:embed="rId2"/>
          <a:stretch/>
        </p:blipFill>
        <p:spPr>
          <a:xfrm>
            <a:off x="1116000" y="2276640"/>
            <a:ext cx="614376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02" name="AutoShape 11"/>
          <p:cNvSpPr/>
          <p:nvPr/>
        </p:nvSpPr>
        <p:spPr>
          <a:xfrm>
            <a:off x="7667640" y="5516640"/>
            <a:ext cx="1081080" cy="111420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14200"/>
              <a:gd name="textAreaBottom" fmla="*/ 1044360 h 1114200"/>
            </a:gdLst>
            <a:ahLst/>
            <a:rect l="textAreaLeft" t="textAreaTop" r="textAreaRight" b="textAreaBottom"/>
            <a:pathLst>
              <a:path w="21600" h="22262">
                <a:moveTo>
                  <a:pt x="0" y="0"/>
                </a:moveTo>
                <a:lnTo>
                  <a:pt x="21600" y="0"/>
                </a:lnTo>
                <a:lnTo>
                  <a:pt x="21600" y="22262"/>
                </a:lnTo>
                <a:lnTo>
                  <a:pt x="0" y="22262"/>
                </a:lnTo>
                <a:close/>
              </a:path>
              <a:path fill="lightenLess" w="21600" h="22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62">
                <a:moveTo>
                  <a:pt x="21600" y="0"/>
                </a:moveTo>
                <a:lnTo>
                  <a:pt x="21600" y="22262"/>
                </a:lnTo>
                <a:lnTo>
                  <a:pt x="20200" y="20862"/>
                </a:lnTo>
                <a:lnTo>
                  <a:pt x="20200" y="1400"/>
                </a:lnTo>
                <a:close/>
              </a:path>
              <a:path fill="darkenLess" w="21600" h="22262">
                <a:moveTo>
                  <a:pt x="21600" y="22262"/>
                </a:moveTo>
                <a:lnTo>
                  <a:pt x="0" y="22262"/>
                </a:lnTo>
                <a:lnTo>
                  <a:pt x="1400" y="20862"/>
                </a:lnTo>
                <a:lnTo>
                  <a:pt x="20200" y="20862"/>
                </a:lnTo>
                <a:close/>
              </a:path>
              <a:path fill="lighten" w="21600" h="22262">
                <a:moveTo>
                  <a:pt x="0" y="22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6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WordArt 10"/>
          <p:cNvSpPr txBox="1"/>
          <p:nvPr/>
        </p:nvSpPr>
        <p:spPr>
          <a:xfrm>
            <a:off x="3708360" y="1052640"/>
            <a:ext cx="367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13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4" name="Прямоугольник 8"/>
          <p:cNvSpPr/>
          <p:nvPr/>
        </p:nvSpPr>
        <p:spPr>
          <a:xfrm>
            <a:off x="395280" y="263700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уди скомандував піти синьомордам Кли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06" name="AutoShape 10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WordArt 9"/>
          <p:cNvSpPr txBox="1"/>
          <p:nvPr/>
        </p:nvSpPr>
        <p:spPr>
          <a:xfrm>
            <a:off x="2987640" y="836640"/>
            <a:ext cx="554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8" name="Text Box 11"/>
          <p:cNvSpPr/>
          <p:nvPr/>
        </p:nvSpPr>
        <p:spPr>
          <a:xfrm>
            <a:off x="4356000" y="2205000"/>
            <a:ext cx="47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До капс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9" name="Picture 7" descr="C:\Users\Админ\Desktop\Вороніна\1042895-i_014.jpg"/>
          <p:cNvPicPr/>
          <p:nvPr/>
        </p:nvPicPr>
        <p:blipFill>
          <a:blip r:embed="rId2"/>
          <a:stretch/>
        </p:blipFill>
        <p:spPr>
          <a:xfrm>
            <a:off x="1258920" y="2060640"/>
            <a:ext cx="2671560" cy="38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1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372" name="AutoShape 6">
            <a:hlinkClick r:id="" action="ppaction://hlinkshowjump?jump=nextslide"/>
          </p:cNvPr>
          <p:cNvSpPr/>
          <p:nvPr/>
        </p:nvSpPr>
        <p:spPr>
          <a:xfrm>
            <a:off x="971640" y="1916280"/>
            <a:ext cx="936360" cy="108108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81080"/>
              <a:gd name="textAreaBottom" fmla="*/ 1020600 h 1081080"/>
            </a:gdLst>
            <a:ahLst/>
            <a:rect l="textAreaLeft" t="textAreaTop" r="textAreaRight" b="textAreaBottom"/>
            <a:pathLst>
              <a:path w="21600" h="24937">
                <a:moveTo>
                  <a:pt x="0" y="0"/>
                </a:moveTo>
                <a:lnTo>
                  <a:pt x="21600" y="0"/>
                </a:lnTo>
                <a:lnTo>
                  <a:pt x="21600" y="24937"/>
                </a:lnTo>
                <a:lnTo>
                  <a:pt x="0" y="24937"/>
                </a:lnTo>
                <a:close/>
              </a:path>
              <a:path fill="lightenLess" w="21600" h="249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37">
                <a:moveTo>
                  <a:pt x="21600" y="0"/>
                </a:moveTo>
                <a:lnTo>
                  <a:pt x="21600" y="24937"/>
                </a:lnTo>
                <a:lnTo>
                  <a:pt x="20200" y="23537"/>
                </a:lnTo>
                <a:lnTo>
                  <a:pt x="20200" y="1400"/>
                </a:lnTo>
                <a:close/>
              </a:path>
              <a:path fill="darkenLess" w="21600" h="24937">
                <a:moveTo>
                  <a:pt x="21600" y="24937"/>
                </a:moveTo>
                <a:lnTo>
                  <a:pt x="0" y="24937"/>
                </a:lnTo>
                <a:lnTo>
                  <a:pt x="1400" y="23537"/>
                </a:lnTo>
                <a:lnTo>
                  <a:pt x="20200" y="23537"/>
                </a:lnTo>
                <a:close/>
              </a:path>
              <a:path fill="lighten" w="21600" h="24937">
                <a:moveTo>
                  <a:pt x="0" y="249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37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AutoShape 9">
            <a:hlinkClick r:id="rId2" action="ppaction://hlinksldjump"/>
          </p:cNvPr>
          <p:cNvSpPr/>
          <p:nvPr/>
        </p:nvSpPr>
        <p:spPr>
          <a:xfrm>
            <a:off x="1908000" y="1916280"/>
            <a:ext cx="1008360" cy="108108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81080"/>
              <a:gd name="textAreaBottom" fmla="*/ 1015920 h 108108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11">
            <a:hlinkClick r:id="rId3" action="ppaction://hlinksldjump"/>
          </p:cNvPr>
          <p:cNvSpPr/>
          <p:nvPr/>
        </p:nvSpPr>
        <p:spPr>
          <a:xfrm>
            <a:off x="2916360" y="1916280"/>
            <a:ext cx="934920" cy="108108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81080"/>
              <a:gd name="textAreaBottom" fmla="*/ 1020600 h 1081080"/>
            </a:gdLst>
            <a:ahLst/>
            <a:rect l="textAreaLeft" t="textAreaTop" r="textAreaRight" b="textAreaBottom"/>
            <a:pathLst>
              <a:path w="21600" h="24976">
                <a:moveTo>
                  <a:pt x="0" y="0"/>
                </a:moveTo>
                <a:lnTo>
                  <a:pt x="21600" y="0"/>
                </a:lnTo>
                <a:lnTo>
                  <a:pt x="21600" y="24976"/>
                </a:lnTo>
                <a:lnTo>
                  <a:pt x="0" y="24976"/>
                </a:lnTo>
                <a:close/>
              </a:path>
              <a:path fill="lightenLess" w="21600" h="24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76">
                <a:moveTo>
                  <a:pt x="21600" y="0"/>
                </a:moveTo>
                <a:lnTo>
                  <a:pt x="21600" y="24976"/>
                </a:lnTo>
                <a:lnTo>
                  <a:pt x="20200" y="23576"/>
                </a:lnTo>
                <a:lnTo>
                  <a:pt x="20200" y="1400"/>
                </a:lnTo>
                <a:close/>
              </a:path>
              <a:path fill="darkenLess" w="21600" h="24976">
                <a:moveTo>
                  <a:pt x="21600" y="24976"/>
                </a:moveTo>
                <a:lnTo>
                  <a:pt x="0" y="24976"/>
                </a:lnTo>
                <a:lnTo>
                  <a:pt x="1400" y="23576"/>
                </a:lnTo>
                <a:lnTo>
                  <a:pt x="20200" y="23576"/>
                </a:lnTo>
                <a:close/>
              </a:path>
              <a:path fill="lighten" w="21600" h="24976">
                <a:moveTo>
                  <a:pt x="0" y="24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7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AutoShape 18">
            <a:hlinkClick r:id="rId4" action="ppaction://hlinksldjump"/>
          </p:cNvPr>
          <p:cNvSpPr/>
          <p:nvPr/>
        </p:nvSpPr>
        <p:spPr>
          <a:xfrm>
            <a:off x="3851280" y="1916280"/>
            <a:ext cx="1008000" cy="108108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81080"/>
              <a:gd name="textAreaBottom" fmla="*/ 1015920 h 1081080"/>
            </a:gdLst>
            <a:ahLst/>
            <a:rect l="textAreaLeft" t="textAreaTop" r="textAreaRight" b="textAreaBottom"/>
            <a:pathLst>
              <a:path w="21600" h="23165">
                <a:moveTo>
                  <a:pt x="0" y="0"/>
                </a:moveTo>
                <a:lnTo>
                  <a:pt x="21600" y="0"/>
                </a:lnTo>
                <a:lnTo>
                  <a:pt x="21600" y="23165"/>
                </a:lnTo>
                <a:lnTo>
                  <a:pt x="0" y="23165"/>
                </a:lnTo>
                <a:close/>
              </a:path>
              <a:path fill="lightenLess" w="21600" h="231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65">
                <a:moveTo>
                  <a:pt x="21600" y="0"/>
                </a:moveTo>
                <a:lnTo>
                  <a:pt x="21600" y="23165"/>
                </a:lnTo>
                <a:lnTo>
                  <a:pt x="20200" y="21766"/>
                </a:lnTo>
                <a:lnTo>
                  <a:pt x="20200" y="1400"/>
                </a:lnTo>
                <a:close/>
              </a:path>
              <a:path fill="darkenLess" w="21600" h="23165">
                <a:moveTo>
                  <a:pt x="21600" y="23165"/>
                </a:moveTo>
                <a:lnTo>
                  <a:pt x="0" y="23165"/>
                </a:lnTo>
                <a:lnTo>
                  <a:pt x="1400" y="21766"/>
                </a:lnTo>
                <a:lnTo>
                  <a:pt x="20200" y="21766"/>
                </a:lnTo>
                <a:close/>
              </a:path>
              <a:path fill="lighten" w="21600" h="23165">
                <a:moveTo>
                  <a:pt x="0" y="231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6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AutoShape 19">
            <a:hlinkClick r:id="rId5" action="ppaction://hlinksldjump"/>
          </p:cNvPr>
          <p:cNvSpPr/>
          <p:nvPr/>
        </p:nvSpPr>
        <p:spPr>
          <a:xfrm>
            <a:off x="971640" y="299736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AutoShape 20">
            <a:hlinkClick r:id="rId6" action="ppaction://hlinksldjump"/>
          </p:cNvPr>
          <p:cNvSpPr/>
          <p:nvPr/>
        </p:nvSpPr>
        <p:spPr>
          <a:xfrm>
            <a:off x="2916360" y="299736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AutoShape 21">
            <a:hlinkClick r:id="rId7" action="ppaction://hlinksldjump"/>
          </p:cNvPr>
          <p:cNvSpPr/>
          <p:nvPr/>
        </p:nvSpPr>
        <p:spPr>
          <a:xfrm>
            <a:off x="3851280" y="4005360"/>
            <a:ext cx="1008000" cy="1008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AutoShape 22">
            <a:hlinkClick r:id="rId8" action="ppaction://hlinksldjump"/>
          </p:cNvPr>
          <p:cNvSpPr/>
          <p:nvPr/>
        </p:nvSpPr>
        <p:spPr>
          <a:xfrm>
            <a:off x="3851280" y="2997360"/>
            <a:ext cx="1008000" cy="1008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AutoShape 23">
            <a:hlinkClick r:id="rId9" action="ppaction://hlinksldjump"/>
          </p:cNvPr>
          <p:cNvSpPr/>
          <p:nvPr/>
        </p:nvSpPr>
        <p:spPr>
          <a:xfrm>
            <a:off x="3851280" y="5013360"/>
            <a:ext cx="1008000" cy="107964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35">
                <a:moveTo>
                  <a:pt x="0" y="0"/>
                </a:moveTo>
                <a:lnTo>
                  <a:pt x="21600" y="0"/>
                </a:lnTo>
                <a:lnTo>
                  <a:pt x="21600" y="23135"/>
                </a:lnTo>
                <a:lnTo>
                  <a:pt x="0" y="23135"/>
                </a:lnTo>
                <a:close/>
              </a:path>
              <a:path fill="lightenLess" w="21600" h="231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5">
                <a:moveTo>
                  <a:pt x="21600" y="0"/>
                </a:moveTo>
                <a:lnTo>
                  <a:pt x="21600" y="23135"/>
                </a:lnTo>
                <a:lnTo>
                  <a:pt x="20200" y="21735"/>
                </a:lnTo>
                <a:lnTo>
                  <a:pt x="20200" y="1400"/>
                </a:lnTo>
                <a:close/>
              </a:path>
              <a:path fill="darkenLess" w="21600" h="23135">
                <a:moveTo>
                  <a:pt x="21600" y="23135"/>
                </a:moveTo>
                <a:lnTo>
                  <a:pt x="0" y="23135"/>
                </a:lnTo>
                <a:lnTo>
                  <a:pt x="1400" y="21735"/>
                </a:lnTo>
                <a:lnTo>
                  <a:pt x="20200" y="21735"/>
                </a:lnTo>
                <a:close/>
              </a:path>
              <a:path fill="lighten" w="21600" h="23135">
                <a:moveTo>
                  <a:pt x="0" y="231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5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24">
            <a:hlinkClick r:id="rId10" action="ppaction://hlinksldjump"/>
          </p:cNvPr>
          <p:cNvSpPr/>
          <p:nvPr/>
        </p:nvSpPr>
        <p:spPr>
          <a:xfrm>
            <a:off x="1908000" y="501336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AutoShape 25">
            <a:hlinkClick r:id="rId11" action="ppaction://hlinksldjump"/>
          </p:cNvPr>
          <p:cNvSpPr/>
          <p:nvPr/>
        </p:nvSpPr>
        <p:spPr>
          <a:xfrm>
            <a:off x="1908000" y="2997360"/>
            <a:ext cx="1008360" cy="100800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8" h="21600">
                <a:moveTo>
                  <a:pt x="0" y="0"/>
                </a:moveTo>
                <a:lnTo>
                  <a:pt x="21608" y="0"/>
                </a:lnTo>
                <a:lnTo>
                  <a:pt x="21608" y="21600"/>
                </a:lnTo>
                <a:lnTo>
                  <a:pt x="0" y="21600"/>
                </a:lnTo>
                <a:close/>
              </a:path>
              <a:path fill="lightenLess" w="21608" h="21600">
                <a:moveTo>
                  <a:pt x="0" y="0"/>
                </a:moveTo>
                <a:lnTo>
                  <a:pt x="21608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8" h="21600">
                <a:moveTo>
                  <a:pt x="21608" y="0"/>
                </a:moveTo>
                <a:lnTo>
                  <a:pt x="21608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8" h="21600">
                <a:moveTo>
                  <a:pt x="21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AutoShape 26">
            <a:hlinkClick r:id="rId12" action="ppaction://hlinksldjump"/>
          </p:cNvPr>
          <p:cNvSpPr/>
          <p:nvPr/>
        </p:nvSpPr>
        <p:spPr>
          <a:xfrm>
            <a:off x="971640" y="5013360"/>
            <a:ext cx="936360" cy="107964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79640"/>
              <a:gd name="textAreaBottom" fmla="*/ 1019160 h 1079640"/>
            </a:gdLst>
            <a:ahLst/>
            <a:rect l="textAreaLeft" t="textAreaTop" r="textAreaRight" b="textAreaBottom"/>
            <a:pathLst>
              <a:path w="21600" h="24904">
                <a:moveTo>
                  <a:pt x="0" y="0"/>
                </a:moveTo>
                <a:lnTo>
                  <a:pt x="21600" y="0"/>
                </a:lnTo>
                <a:lnTo>
                  <a:pt x="21600" y="24904"/>
                </a:lnTo>
                <a:lnTo>
                  <a:pt x="0" y="24904"/>
                </a:lnTo>
                <a:close/>
              </a:path>
              <a:path fill="lightenLess" w="21600" h="249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04">
                <a:moveTo>
                  <a:pt x="21600" y="0"/>
                </a:moveTo>
                <a:lnTo>
                  <a:pt x="21600" y="24904"/>
                </a:lnTo>
                <a:lnTo>
                  <a:pt x="20200" y="23504"/>
                </a:lnTo>
                <a:lnTo>
                  <a:pt x="20200" y="1400"/>
                </a:lnTo>
                <a:close/>
              </a:path>
              <a:path fill="darkenLess" w="21600" h="24904">
                <a:moveTo>
                  <a:pt x="21600" y="24904"/>
                </a:moveTo>
                <a:lnTo>
                  <a:pt x="0" y="24904"/>
                </a:lnTo>
                <a:lnTo>
                  <a:pt x="1400" y="23504"/>
                </a:lnTo>
                <a:lnTo>
                  <a:pt x="20200" y="23504"/>
                </a:lnTo>
                <a:close/>
              </a:path>
              <a:path fill="lighten" w="21600" h="24904">
                <a:moveTo>
                  <a:pt x="0" y="249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04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AutoShape 27">
            <a:hlinkClick r:id="rId13" action="ppaction://hlinksldjump"/>
          </p:cNvPr>
          <p:cNvSpPr/>
          <p:nvPr/>
        </p:nvSpPr>
        <p:spPr>
          <a:xfrm>
            <a:off x="971640" y="400536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AutoShape 28">
            <a:hlinkClick r:id="rId14" action="ppaction://hlinksldjump"/>
          </p:cNvPr>
          <p:cNvSpPr/>
          <p:nvPr/>
        </p:nvSpPr>
        <p:spPr>
          <a:xfrm>
            <a:off x="2916360" y="5013360"/>
            <a:ext cx="934920" cy="107964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79640"/>
              <a:gd name="textAreaBottom" fmla="*/ 1019160 h 1079640"/>
            </a:gdLst>
            <a:ahLst/>
            <a:rect l="textAreaLeft" t="textAreaTop" r="textAreaRight" b="textAreaBottom"/>
            <a:pathLst>
              <a:path w="21600" h="24942">
                <a:moveTo>
                  <a:pt x="0" y="0"/>
                </a:moveTo>
                <a:lnTo>
                  <a:pt x="21600" y="0"/>
                </a:lnTo>
                <a:lnTo>
                  <a:pt x="21600" y="24942"/>
                </a:lnTo>
                <a:lnTo>
                  <a:pt x="0" y="24942"/>
                </a:lnTo>
                <a:close/>
              </a:path>
              <a:path fill="lightenLess" w="21600" h="24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42">
                <a:moveTo>
                  <a:pt x="21600" y="0"/>
                </a:moveTo>
                <a:lnTo>
                  <a:pt x="21600" y="24942"/>
                </a:lnTo>
                <a:lnTo>
                  <a:pt x="20200" y="23542"/>
                </a:lnTo>
                <a:lnTo>
                  <a:pt x="20200" y="1400"/>
                </a:lnTo>
                <a:close/>
              </a:path>
              <a:path fill="darkenLess" w="21600" h="24942">
                <a:moveTo>
                  <a:pt x="21600" y="24942"/>
                </a:moveTo>
                <a:lnTo>
                  <a:pt x="0" y="24942"/>
                </a:lnTo>
                <a:lnTo>
                  <a:pt x="1400" y="23542"/>
                </a:lnTo>
                <a:lnTo>
                  <a:pt x="20200" y="23542"/>
                </a:lnTo>
                <a:close/>
              </a:path>
              <a:path fill="lighten" w="21600" h="24942">
                <a:moveTo>
                  <a:pt x="0" y="24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42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AutoShape 29">
            <a:hlinkClick r:id="rId15" action="ppaction://hlinksldjump"/>
          </p:cNvPr>
          <p:cNvSpPr/>
          <p:nvPr/>
        </p:nvSpPr>
        <p:spPr>
          <a:xfrm>
            <a:off x="1908000" y="4005360"/>
            <a:ext cx="1008360" cy="100800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8" h="21600">
                <a:moveTo>
                  <a:pt x="0" y="0"/>
                </a:moveTo>
                <a:lnTo>
                  <a:pt x="21608" y="0"/>
                </a:lnTo>
                <a:lnTo>
                  <a:pt x="21608" y="21600"/>
                </a:lnTo>
                <a:lnTo>
                  <a:pt x="0" y="21600"/>
                </a:lnTo>
                <a:close/>
              </a:path>
              <a:path fill="lightenLess" w="21608" h="21600">
                <a:moveTo>
                  <a:pt x="0" y="0"/>
                </a:moveTo>
                <a:lnTo>
                  <a:pt x="21608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8" h="21600">
                <a:moveTo>
                  <a:pt x="21608" y="0"/>
                </a:moveTo>
                <a:lnTo>
                  <a:pt x="21608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8" h="21600">
                <a:moveTo>
                  <a:pt x="21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AutoShape 30">
            <a:hlinkClick r:id="rId16" action="ppaction://hlinksldjump"/>
          </p:cNvPr>
          <p:cNvSpPr/>
          <p:nvPr/>
        </p:nvSpPr>
        <p:spPr>
          <a:xfrm>
            <a:off x="2916360" y="400536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35"/>
          <p:cNvSpPr/>
          <p:nvPr/>
        </p:nvSpPr>
        <p:spPr>
          <a:xfrm>
            <a:off x="1239840" y="22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36"/>
          <p:cNvSpPr/>
          <p:nvPr/>
        </p:nvSpPr>
        <p:spPr>
          <a:xfrm>
            <a:off x="3205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WordArt 27"/>
          <p:cNvSpPr txBox="1"/>
          <p:nvPr/>
        </p:nvSpPr>
        <p:spPr>
          <a:xfrm>
            <a:off x="2627280" y="476280"/>
            <a:ext cx="61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ери номер запитання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1" name="Picture 23" descr="C:\Users\Админ\Desktop\Вороніна\058_Tajemne_tovarystvo_bojaguziv_ta_brehuniv_Lesia_Voronyna.jpg"/>
          <p:cNvPicPr/>
          <p:nvPr/>
        </p:nvPicPr>
        <p:blipFill>
          <a:blip r:embed="rId17"/>
          <a:stretch/>
        </p:blipFill>
        <p:spPr>
          <a:xfrm>
            <a:off x="5435640" y="1916280"/>
            <a:ext cx="3048120" cy="41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11" name="AutoShape 13"/>
          <p:cNvSpPr/>
          <p:nvPr/>
        </p:nvSpPr>
        <p:spPr>
          <a:xfrm>
            <a:off x="7667640" y="5373720"/>
            <a:ext cx="1081080" cy="1042920"/>
          </a:xfrm>
          <a:custGeom>
            <a:avLst/>
            <a:gdLst>
              <a:gd name="textAreaLeft" fmla="*/ 67320 w 1081080"/>
              <a:gd name="textAreaRight" fmla="*/ 1013760 w 10810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2390" h="21600">
                <a:moveTo>
                  <a:pt x="0" y="0"/>
                </a:moveTo>
                <a:lnTo>
                  <a:pt x="22390" y="0"/>
                </a:lnTo>
                <a:lnTo>
                  <a:pt x="22390" y="21600"/>
                </a:lnTo>
                <a:lnTo>
                  <a:pt x="0" y="21600"/>
                </a:lnTo>
                <a:close/>
              </a:path>
              <a:path fill="lightenLess" w="22390" h="21600">
                <a:moveTo>
                  <a:pt x="0" y="0"/>
                </a:moveTo>
                <a:lnTo>
                  <a:pt x="22390" y="0"/>
                </a:lnTo>
                <a:lnTo>
                  <a:pt x="20990" y="1400"/>
                </a:lnTo>
                <a:lnTo>
                  <a:pt x="1400" y="1400"/>
                </a:lnTo>
                <a:close/>
              </a:path>
              <a:path fill="darken" w="22390" h="21600">
                <a:moveTo>
                  <a:pt x="22390" y="0"/>
                </a:moveTo>
                <a:lnTo>
                  <a:pt x="22390" y="21600"/>
                </a:lnTo>
                <a:lnTo>
                  <a:pt x="20990" y="20200"/>
                </a:lnTo>
                <a:lnTo>
                  <a:pt x="20990" y="1400"/>
                </a:lnTo>
                <a:close/>
              </a:path>
              <a:path fill="darkenLess" w="22390" h="21600">
                <a:moveTo>
                  <a:pt x="2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90" y="20200"/>
                </a:lnTo>
                <a:close/>
              </a:path>
              <a:path fill="lighten" w="2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WordArt 11"/>
          <p:cNvSpPr txBox="1"/>
          <p:nvPr/>
        </p:nvSpPr>
        <p:spPr>
          <a:xfrm>
            <a:off x="3780000" y="907920"/>
            <a:ext cx="3671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14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1116000" y="1700280"/>
            <a:ext cx="69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 Box 13"/>
          <p:cNvSpPr/>
          <p:nvPr/>
        </p:nvSpPr>
        <p:spPr>
          <a:xfrm>
            <a:off x="250920" y="220500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Жук і Заєць  в кінці твору вирішили виступати в …</a:t>
            </a:r>
            <a:r>
              <a:rPr b="1" lang="uk-UA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16" name="AutoShape 10"/>
          <p:cNvSpPr/>
          <p:nvPr/>
        </p:nvSpPr>
        <p:spPr>
          <a:xfrm>
            <a:off x="7667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WordArt 10"/>
          <p:cNvSpPr txBox="1"/>
          <p:nvPr/>
        </p:nvSpPr>
        <p:spPr>
          <a:xfrm>
            <a:off x="2916360" y="620640"/>
            <a:ext cx="55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8" name="Text Box 11"/>
          <p:cNvSpPr/>
          <p:nvPr/>
        </p:nvSpPr>
        <p:spPr>
          <a:xfrm>
            <a:off x="1619280" y="184464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Цир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9" name="Picture 8" descr="Картинки по запросу цирк"/>
          <p:cNvPicPr/>
          <p:nvPr/>
        </p:nvPicPr>
        <p:blipFill>
          <a:blip r:embed="rId2"/>
          <a:stretch/>
        </p:blipFill>
        <p:spPr>
          <a:xfrm>
            <a:off x="1116000" y="3068640"/>
            <a:ext cx="686736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0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21" name="AutoShape 11"/>
          <p:cNvSpPr/>
          <p:nvPr/>
        </p:nvSpPr>
        <p:spPr>
          <a:xfrm>
            <a:off x="7740720" y="5516640"/>
            <a:ext cx="1081080" cy="111420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114200"/>
              <a:gd name="textAreaBottom" fmla="*/ 1044360 h 1114200"/>
            </a:gdLst>
            <a:ahLst/>
            <a:rect l="textAreaLeft" t="textAreaTop" r="textAreaRight" b="textAreaBottom"/>
            <a:pathLst>
              <a:path w="21600" h="22262">
                <a:moveTo>
                  <a:pt x="0" y="0"/>
                </a:moveTo>
                <a:lnTo>
                  <a:pt x="21600" y="0"/>
                </a:lnTo>
                <a:lnTo>
                  <a:pt x="21600" y="22262"/>
                </a:lnTo>
                <a:lnTo>
                  <a:pt x="0" y="22262"/>
                </a:lnTo>
                <a:close/>
              </a:path>
              <a:path fill="lightenLess" w="21600" h="22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62">
                <a:moveTo>
                  <a:pt x="21600" y="0"/>
                </a:moveTo>
                <a:lnTo>
                  <a:pt x="21600" y="22262"/>
                </a:lnTo>
                <a:lnTo>
                  <a:pt x="20200" y="20862"/>
                </a:lnTo>
                <a:lnTo>
                  <a:pt x="20200" y="1400"/>
                </a:lnTo>
                <a:close/>
              </a:path>
              <a:path fill="darkenLess" w="21600" h="22262">
                <a:moveTo>
                  <a:pt x="21600" y="22262"/>
                </a:moveTo>
                <a:lnTo>
                  <a:pt x="0" y="22262"/>
                </a:lnTo>
                <a:lnTo>
                  <a:pt x="1400" y="20862"/>
                </a:lnTo>
                <a:lnTo>
                  <a:pt x="20200" y="20862"/>
                </a:lnTo>
                <a:close/>
              </a:path>
              <a:path fill="lighten" w="21600" h="22262">
                <a:moveTo>
                  <a:pt x="0" y="22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6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WordArt 10"/>
          <p:cNvSpPr txBox="1"/>
          <p:nvPr/>
        </p:nvSpPr>
        <p:spPr>
          <a:xfrm>
            <a:off x="3635280" y="1052640"/>
            <a:ext cx="367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15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3" name="Text Box 12"/>
          <p:cNvSpPr/>
          <p:nvPr/>
        </p:nvSpPr>
        <p:spPr>
          <a:xfrm>
            <a:off x="973800" y="2852640"/>
            <a:ext cx="691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1" lang="uk-UA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чівники пустелі - ц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4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25" name="AutoShape 11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12"/>
          <p:cNvSpPr/>
          <p:nvPr/>
        </p:nvSpPr>
        <p:spPr>
          <a:xfrm>
            <a:off x="2627280" y="1628640"/>
            <a:ext cx="369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рбе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WordArt 10"/>
          <p:cNvSpPr txBox="1"/>
          <p:nvPr/>
        </p:nvSpPr>
        <p:spPr>
          <a:xfrm>
            <a:off x="2843280" y="549360"/>
            <a:ext cx="547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8" name="Picture 8" descr="Похожее изображение"/>
          <p:cNvPicPr/>
          <p:nvPr/>
        </p:nvPicPr>
        <p:blipFill>
          <a:blip r:embed="rId2"/>
          <a:stretch/>
        </p:blipFill>
        <p:spPr>
          <a:xfrm>
            <a:off x="971640" y="2637000"/>
            <a:ext cx="5715000" cy="3724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30" name="AutoShape 11"/>
          <p:cNvSpPr/>
          <p:nvPr/>
        </p:nvSpPr>
        <p:spPr>
          <a:xfrm>
            <a:off x="7596360" y="5300640"/>
            <a:ext cx="1079280" cy="1187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187640"/>
              <a:gd name="textAreaBottom" fmla="*/ 1117800 h 1187640"/>
            </a:gdLst>
            <a:ahLst/>
            <a:rect l="textAreaLeft" t="textAreaTop" r="textAreaRight" b="textAreaBottom"/>
            <a:pathLst>
              <a:path w="21600" h="23768">
                <a:moveTo>
                  <a:pt x="0" y="0"/>
                </a:moveTo>
                <a:lnTo>
                  <a:pt x="21600" y="0"/>
                </a:lnTo>
                <a:lnTo>
                  <a:pt x="21600" y="23768"/>
                </a:lnTo>
                <a:lnTo>
                  <a:pt x="0" y="23768"/>
                </a:lnTo>
                <a:close/>
              </a:path>
              <a:path fill="lightenLess" w="21600" h="237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8">
                <a:moveTo>
                  <a:pt x="21600" y="0"/>
                </a:moveTo>
                <a:lnTo>
                  <a:pt x="21600" y="23768"/>
                </a:lnTo>
                <a:lnTo>
                  <a:pt x="20200" y="22368"/>
                </a:lnTo>
                <a:lnTo>
                  <a:pt x="20200" y="1400"/>
                </a:lnTo>
                <a:close/>
              </a:path>
              <a:path fill="darkenLess" w="21600" h="23768">
                <a:moveTo>
                  <a:pt x="21600" y="23768"/>
                </a:moveTo>
                <a:lnTo>
                  <a:pt x="0" y="23768"/>
                </a:lnTo>
                <a:lnTo>
                  <a:pt x="1400" y="22368"/>
                </a:lnTo>
                <a:lnTo>
                  <a:pt x="20200" y="22368"/>
                </a:lnTo>
                <a:close/>
              </a:path>
              <a:path fill="lighten" w="21600" h="23768">
                <a:moveTo>
                  <a:pt x="0" y="237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WordArt 10"/>
          <p:cNvSpPr txBox="1"/>
          <p:nvPr/>
        </p:nvSpPr>
        <p:spPr>
          <a:xfrm>
            <a:off x="3276720" y="981000"/>
            <a:ext cx="367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16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2" name="Text Box 11"/>
          <p:cNvSpPr/>
          <p:nvPr/>
        </p:nvSpPr>
        <p:spPr>
          <a:xfrm>
            <a:off x="250920" y="2492280"/>
            <a:ext cx="85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рямоугольник 7"/>
          <p:cNvSpPr/>
          <p:nvPr/>
        </p:nvSpPr>
        <p:spPr>
          <a:xfrm>
            <a:off x="468360" y="2708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якому інструменті гра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ько Клим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535" name="Text Box 10"/>
          <p:cNvSpPr/>
          <p:nvPr/>
        </p:nvSpPr>
        <p:spPr>
          <a:xfrm>
            <a:off x="1476360" y="1700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Дрим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WordArt 10"/>
          <p:cNvSpPr txBox="1"/>
          <p:nvPr/>
        </p:nvSpPr>
        <p:spPr>
          <a:xfrm>
            <a:off x="2843280" y="549360"/>
            <a:ext cx="547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7" name="Picture 8" descr="Картинки по запросу дримба"/>
          <p:cNvPicPr/>
          <p:nvPr/>
        </p:nvPicPr>
        <p:blipFill>
          <a:blip r:embed="rId2"/>
          <a:stretch/>
        </p:blipFill>
        <p:spPr>
          <a:xfrm>
            <a:off x="468360" y="2768760"/>
            <a:ext cx="3598920" cy="318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38" name="Picture 10" descr="Картинки по запросу дримба"/>
          <p:cNvPicPr/>
          <p:nvPr/>
        </p:nvPicPr>
        <p:blipFill>
          <a:blip r:embed="rId3"/>
          <a:stretch/>
        </p:blipFill>
        <p:spPr>
          <a:xfrm>
            <a:off x="4356000" y="2744640"/>
            <a:ext cx="4248360" cy="319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12" descr="38138089_1cda3e6ff787"/>
          <p:cNvPicPr/>
          <p:nvPr/>
        </p:nvPicPr>
        <p:blipFill>
          <a:blip r:embed="rId2"/>
          <a:stretch/>
        </p:blipFill>
        <p:spPr>
          <a:xfrm>
            <a:off x="3564000" y="378936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541" name="Прямоугольник 7" descr=""/>
          <p:cNvPicPr/>
          <p:nvPr/>
        </p:nvPicPr>
        <p:blipFill>
          <a:blip r:embed="rId3"/>
          <a:stretch/>
        </p:blipFill>
        <p:spPr>
          <a:xfrm>
            <a:off x="1401840" y="2494080"/>
            <a:ext cx="7022880" cy="1266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393" name="AutoShape 11">
            <a:hlinkClick r:id="" action="ppaction://hlinkshowjump?jump=nextslide"/>
          </p:cNvPr>
          <p:cNvSpPr/>
          <p:nvPr/>
        </p:nvSpPr>
        <p:spPr>
          <a:xfrm>
            <a:off x="7667640" y="5516640"/>
            <a:ext cx="1224000" cy="1079280"/>
          </a:xfrm>
          <a:custGeom>
            <a:avLst/>
            <a:gdLst>
              <a:gd name="textAreaLeft" fmla="*/ 69840 w 1224000"/>
              <a:gd name="textAreaRight" fmla="*/ 1154160 w 122400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4495" h="21600">
                <a:moveTo>
                  <a:pt x="0" y="0"/>
                </a:moveTo>
                <a:lnTo>
                  <a:pt x="24495" y="0"/>
                </a:lnTo>
                <a:lnTo>
                  <a:pt x="24495" y="21600"/>
                </a:lnTo>
                <a:lnTo>
                  <a:pt x="0" y="21600"/>
                </a:lnTo>
                <a:close/>
              </a:path>
              <a:path fill="lightenLess" w="24495" h="21600">
                <a:moveTo>
                  <a:pt x="0" y="0"/>
                </a:moveTo>
                <a:lnTo>
                  <a:pt x="24495" y="0"/>
                </a:lnTo>
                <a:lnTo>
                  <a:pt x="23095" y="1400"/>
                </a:lnTo>
                <a:lnTo>
                  <a:pt x="1400" y="1400"/>
                </a:lnTo>
                <a:close/>
              </a:path>
              <a:path fill="darken" w="24495" h="21600">
                <a:moveTo>
                  <a:pt x="24495" y="0"/>
                </a:moveTo>
                <a:lnTo>
                  <a:pt x="24495" y="21600"/>
                </a:lnTo>
                <a:lnTo>
                  <a:pt x="23095" y="20200"/>
                </a:lnTo>
                <a:lnTo>
                  <a:pt x="23095" y="1400"/>
                </a:lnTo>
                <a:close/>
              </a:path>
              <a:path fill="darkenLess" w="24495" h="21600">
                <a:moveTo>
                  <a:pt x="24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95" y="20200"/>
                </a:lnTo>
                <a:close/>
              </a:path>
              <a:path fill="lighten" w="24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WordArt 11"/>
          <p:cNvSpPr txBox="1"/>
          <p:nvPr/>
        </p:nvSpPr>
        <p:spPr>
          <a:xfrm>
            <a:off x="3851280" y="692280"/>
            <a:ext cx="367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1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5" name="Прямоугольник 7"/>
          <p:cNvSpPr/>
          <p:nvPr/>
        </p:nvSpPr>
        <p:spPr>
          <a:xfrm>
            <a:off x="395280" y="2637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1717"/>
                </a:solidFill>
                <a:latin typeface="Times New Roman"/>
                <a:ea typeface="Times New Roman"/>
              </a:rPr>
              <a:t>М'язи Сашка Смика порівнюються з м'язами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397" name="AutoShape 16">
            <a:hlinkClick r:id="rId2" action="ppaction://hlinksldjump"/>
          </p:cNvPr>
          <p:cNvSpPr/>
          <p:nvPr/>
        </p:nvSpPr>
        <p:spPr>
          <a:xfrm>
            <a:off x="7020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WordArt 11"/>
          <p:cNvSpPr txBox="1"/>
          <p:nvPr/>
        </p:nvSpPr>
        <p:spPr>
          <a:xfrm>
            <a:off x="2484360" y="981000"/>
            <a:ext cx="561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9" name="Text Box 12"/>
          <p:cNvSpPr/>
          <p:nvPr/>
        </p:nvSpPr>
        <p:spPr>
          <a:xfrm>
            <a:off x="900000" y="5013360"/>
            <a:ext cx="52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арценегг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1" name="Picture 11" descr="Картинки по запросу шварценеггер"/>
          <p:cNvPicPr/>
          <p:nvPr/>
        </p:nvPicPr>
        <p:blipFill>
          <a:blip r:embed="rId3"/>
          <a:stretch/>
        </p:blipFill>
        <p:spPr>
          <a:xfrm>
            <a:off x="2050920" y="2276640"/>
            <a:ext cx="460872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03" name="AutoShape 11">
            <a:hlinkClick r:id="rId2" action="ppaction://hlinksldjump"/>
          </p:cNvPr>
          <p:cNvSpPr/>
          <p:nvPr/>
        </p:nvSpPr>
        <p:spPr>
          <a:xfrm>
            <a:off x="7524720" y="5516640"/>
            <a:ext cx="1225440" cy="1116000"/>
          </a:xfrm>
          <a:custGeom>
            <a:avLst/>
            <a:gdLst>
              <a:gd name="textAreaLeft" fmla="*/ 72000 w 1225440"/>
              <a:gd name="textAreaRight" fmla="*/ 1153440 w 1225440"/>
              <a:gd name="textAreaTop" fmla="*/ 72000 h 1116000"/>
              <a:gd name="textAreaBottom" fmla="*/ 1044000 h 1116000"/>
            </a:gdLst>
            <a:ahLst/>
            <a:rect l="textAreaLeft" t="textAreaTop" r="textAreaRight" b="textAreaBottom"/>
            <a:pathLst>
              <a:path w="23718" h="21600">
                <a:moveTo>
                  <a:pt x="0" y="0"/>
                </a:moveTo>
                <a:lnTo>
                  <a:pt x="23718" y="0"/>
                </a:lnTo>
                <a:lnTo>
                  <a:pt x="23718" y="21600"/>
                </a:lnTo>
                <a:lnTo>
                  <a:pt x="0" y="21600"/>
                </a:lnTo>
                <a:close/>
              </a:path>
              <a:path fill="lightenLess" w="23718" h="21600">
                <a:moveTo>
                  <a:pt x="0" y="0"/>
                </a:moveTo>
                <a:lnTo>
                  <a:pt x="23718" y="0"/>
                </a:lnTo>
                <a:lnTo>
                  <a:pt x="22318" y="1400"/>
                </a:lnTo>
                <a:lnTo>
                  <a:pt x="1400" y="1400"/>
                </a:lnTo>
                <a:close/>
              </a:path>
              <a:path fill="darken" w="23718" h="21600">
                <a:moveTo>
                  <a:pt x="23718" y="0"/>
                </a:moveTo>
                <a:lnTo>
                  <a:pt x="23718" y="21600"/>
                </a:lnTo>
                <a:lnTo>
                  <a:pt x="22318" y="20200"/>
                </a:lnTo>
                <a:lnTo>
                  <a:pt x="22318" y="1400"/>
                </a:lnTo>
                <a:close/>
              </a:path>
              <a:path fill="darkenLess" w="23718" h="21600">
                <a:moveTo>
                  <a:pt x="23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18" y="20200"/>
                </a:lnTo>
                <a:close/>
              </a:path>
              <a:path fill="lighten" w="23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WordArt 9"/>
          <p:cNvSpPr txBox="1"/>
          <p:nvPr/>
        </p:nvSpPr>
        <p:spPr>
          <a:xfrm>
            <a:off x="3851280" y="83664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2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5" name="Text Box 10"/>
          <p:cNvSpPr/>
          <p:nvPr/>
        </p:nvSpPr>
        <p:spPr>
          <a:xfrm>
            <a:off x="395280" y="2708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На якому музичному інструменті гра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головний герой тво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6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07" name="AutoShape 10">
            <a:hlinkClick r:id="rId2" action="ppaction://hlinksldjump"/>
          </p:cNvPr>
          <p:cNvSpPr/>
          <p:nvPr/>
        </p:nvSpPr>
        <p:spPr>
          <a:xfrm>
            <a:off x="738036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WordArt 9"/>
          <p:cNvSpPr txBox="1"/>
          <p:nvPr/>
        </p:nvSpPr>
        <p:spPr>
          <a:xfrm>
            <a:off x="2700360" y="907920"/>
            <a:ext cx="604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9" name="Text Box 10"/>
          <p:cNvSpPr/>
          <p:nvPr/>
        </p:nvSpPr>
        <p:spPr>
          <a:xfrm>
            <a:off x="4932360" y="26370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Скрип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0" name="Picture 10" descr="Картинки по запросу скрипка"/>
          <p:cNvPicPr/>
          <p:nvPr/>
        </p:nvPicPr>
        <p:blipFill>
          <a:blip r:embed="rId3"/>
          <a:stretch/>
        </p:blipFill>
        <p:spPr>
          <a:xfrm>
            <a:off x="1258920" y="2133720"/>
            <a:ext cx="252396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1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12" name="AutoShape 15">
            <a:hlinkClick r:id="rId2" action="ppaction://hlinksldjump"/>
          </p:cNvPr>
          <p:cNvSpPr/>
          <p:nvPr/>
        </p:nvSpPr>
        <p:spPr>
          <a:xfrm>
            <a:off x="7451640" y="5445000"/>
            <a:ext cx="1368360" cy="1116000"/>
          </a:xfrm>
          <a:custGeom>
            <a:avLst/>
            <a:gdLst>
              <a:gd name="textAreaLeft" fmla="*/ 72000 w 1368360"/>
              <a:gd name="textAreaRight" fmla="*/ 1296360 w 1368360"/>
              <a:gd name="textAreaTop" fmla="*/ 72000 h 1116000"/>
              <a:gd name="textAreaBottom" fmla="*/ 1044000 h 1116000"/>
            </a:gdLst>
            <a:ahLst/>
            <a:rect l="textAreaLeft" t="textAreaTop" r="textAreaRight" b="textAreaBottom"/>
            <a:pathLst>
              <a:path w="26483" h="21600">
                <a:moveTo>
                  <a:pt x="0" y="0"/>
                </a:moveTo>
                <a:lnTo>
                  <a:pt x="26483" y="0"/>
                </a:lnTo>
                <a:lnTo>
                  <a:pt x="26483" y="21600"/>
                </a:lnTo>
                <a:lnTo>
                  <a:pt x="0" y="21600"/>
                </a:lnTo>
                <a:close/>
              </a:path>
              <a:path fill="lightenLess" w="26483" h="21600">
                <a:moveTo>
                  <a:pt x="0" y="0"/>
                </a:moveTo>
                <a:lnTo>
                  <a:pt x="26483" y="0"/>
                </a:lnTo>
                <a:lnTo>
                  <a:pt x="25083" y="1400"/>
                </a:lnTo>
                <a:lnTo>
                  <a:pt x="1400" y="1400"/>
                </a:lnTo>
                <a:close/>
              </a:path>
              <a:path fill="darken" w="26483" h="21600">
                <a:moveTo>
                  <a:pt x="26483" y="0"/>
                </a:moveTo>
                <a:lnTo>
                  <a:pt x="26483" y="21600"/>
                </a:lnTo>
                <a:lnTo>
                  <a:pt x="25083" y="20200"/>
                </a:lnTo>
                <a:lnTo>
                  <a:pt x="25083" y="1400"/>
                </a:lnTo>
                <a:close/>
              </a:path>
              <a:path fill="darkenLess" w="26483" h="21600">
                <a:moveTo>
                  <a:pt x="26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3" y="20200"/>
                </a:lnTo>
                <a:close/>
              </a:path>
              <a:path fill="lighten" w="26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WordArt 12"/>
          <p:cNvSpPr txBox="1"/>
          <p:nvPr/>
        </p:nvSpPr>
        <p:spPr>
          <a:xfrm>
            <a:off x="3564000" y="83664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ня 3.</a:t>
            </a:r>
            <a:endParaRPr b="0" lang="en-US" sz="1800" spc="1" strike="noStrike">
              <a:ln w="0">
                <a:noFill/>
              </a:ln>
              <a:solidFill>
                <a:srgbClr val="99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4" name="Прямоугольник 7"/>
          <p:cNvSpPr/>
          <p:nvPr/>
        </p:nvSpPr>
        <p:spPr>
          <a:xfrm>
            <a:off x="468360" y="2637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о кого мав грати пісеньку Клим, стоячи під бан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416" name="AutoShape 10">
            <a:hlinkClick r:id="rId2" action="ppaction://hlinksldjump"/>
          </p:cNvPr>
          <p:cNvSpPr/>
          <p:nvPr/>
        </p:nvSpPr>
        <p:spPr>
          <a:xfrm>
            <a:off x="7812000" y="5445000"/>
            <a:ext cx="1079640" cy="108108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21600" h="21629">
                <a:moveTo>
                  <a:pt x="0" y="0"/>
                </a:moveTo>
                <a:lnTo>
                  <a:pt x="21600" y="0"/>
                </a:lnTo>
                <a:lnTo>
                  <a:pt x="21600" y="21629"/>
                </a:lnTo>
                <a:lnTo>
                  <a:pt x="0" y="21629"/>
                </a:lnTo>
                <a:close/>
              </a:path>
              <a:path fill="lightenLess" w="21600" h="216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9">
                <a:moveTo>
                  <a:pt x="21600" y="0"/>
                </a:moveTo>
                <a:lnTo>
                  <a:pt x="21600" y="21629"/>
                </a:lnTo>
                <a:lnTo>
                  <a:pt x="20200" y="20229"/>
                </a:lnTo>
                <a:lnTo>
                  <a:pt x="20200" y="1400"/>
                </a:lnTo>
                <a:close/>
              </a:path>
              <a:path fill="darkenLess" w="21600" h="21629">
                <a:moveTo>
                  <a:pt x="21600" y="21629"/>
                </a:moveTo>
                <a:lnTo>
                  <a:pt x="0" y="21629"/>
                </a:lnTo>
                <a:lnTo>
                  <a:pt x="1400" y="20229"/>
                </a:lnTo>
                <a:lnTo>
                  <a:pt x="20200" y="20229"/>
                </a:lnTo>
                <a:close/>
              </a:path>
              <a:path fill="lighten" w="21600" h="21629">
                <a:moveTo>
                  <a:pt x="0" y="216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9"/>
                </a:lnTo>
                <a:close/>
              </a:path>
              <a:path fill="darken" w="21600" h="21629">
                <a:moveTo>
                  <a:pt x="10800" y="3851"/>
                </a:moveTo>
                <a:lnTo>
                  <a:pt x="13376" y="6463"/>
                </a:lnTo>
                <a:lnTo>
                  <a:pt x="13376" y="4722"/>
                </a:lnTo>
                <a:lnTo>
                  <a:pt x="15152" y="4722"/>
                </a:lnTo>
                <a:lnTo>
                  <a:pt x="15152" y="8238"/>
                </a:lnTo>
                <a:lnTo>
                  <a:pt x="17763" y="10814"/>
                </a:lnTo>
                <a:lnTo>
                  <a:pt x="16109" y="10814"/>
                </a:lnTo>
                <a:lnTo>
                  <a:pt x="16109" y="18004"/>
                </a:lnTo>
                <a:lnTo>
                  <a:pt x="5491" y="18004"/>
                </a:lnTo>
                <a:lnTo>
                  <a:pt x="5491" y="10814"/>
                </a:lnTo>
                <a:lnTo>
                  <a:pt x="3837" y="10814"/>
                </a:lnTo>
                <a:close/>
              </a:path>
              <a:path fill="darkenLess" w="21600" h="21629">
                <a:moveTo>
                  <a:pt x="13376" y="6463"/>
                </a:moveTo>
                <a:lnTo>
                  <a:pt x="13376" y="4722"/>
                </a:lnTo>
                <a:lnTo>
                  <a:pt x="15152" y="4722"/>
                </a:lnTo>
                <a:lnTo>
                  <a:pt x="15152" y="8238"/>
                </a:lnTo>
                <a:close/>
              </a:path>
              <a:path fill="darkenLess" w="21600" h="21629">
                <a:moveTo>
                  <a:pt x="9877" y="14313"/>
                </a:moveTo>
                <a:lnTo>
                  <a:pt x="11723" y="14313"/>
                </a:lnTo>
                <a:lnTo>
                  <a:pt x="11723" y="18004"/>
                </a:lnTo>
                <a:lnTo>
                  <a:pt x="16109" y="18004"/>
                </a:lnTo>
                <a:lnTo>
                  <a:pt x="16109" y="10814"/>
                </a:lnTo>
                <a:lnTo>
                  <a:pt x="5491" y="10814"/>
                </a:lnTo>
                <a:lnTo>
                  <a:pt x="5491" y="18004"/>
                </a:lnTo>
                <a:lnTo>
                  <a:pt x="9877" y="1800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10"/>
          <p:cNvSpPr/>
          <p:nvPr/>
        </p:nvSpPr>
        <p:spPr>
          <a:xfrm>
            <a:off x="4356000" y="27082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Байбак.</a:t>
            </a:r>
            <a:r>
              <a:rPr b="1" lang="ru-RU" sz="4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WordArt 9"/>
          <p:cNvSpPr txBox="1"/>
          <p:nvPr/>
        </p:nvSpPr>
        <p:spPr>
          <a:xfrm>
            <a:off x="2700360" y="907920"/>
            <a:ext cx="604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а відповід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9" name="Picture 9" descr="Картинки по запросу байбак"/>
          <p:cNvPicPr/>
          <p:nvPr/>
        </p:nvPicPr>
        <p:blipFill>
          <a:blip r:embed="rId3"/>
          <a:stretch/>
        </p:blipFill>
        <p:spPr>
          <a:xfrm>
            <a:off x="900000" y="2205000"/>
            <a:ext cx="2857680" cy="3838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18:21:29Z</dcterms:created>
  <dc:creator>Дом</dc:creator>
  <dc:description/>
  <dc:language>en-US</dc:language>
  <cp:lastModifiedBy>Наталия Приступа</cp:lastModifiedBy>
  <dcterms:modified xsi:type="dcterms:W3CDTF">2020-03-23T15:32:36Z</dcterms:modified>
  <cp:revision>51</cp:revision>
  <dc:subject/>
  <dc:title>Слайд 1</dc:title>
</cp:coreProperties>
</file>