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0.jpeg" ContentType="image/jpeg"/>
  <Override PartName="/ppt/media/image12.png" ContentType="image/png"/>
  <Override PartName="/ppt/media/image8.png" ContentType="image/png"/>
  <Override PartName="/ppt/media/image11.jpeg" ContentType="image/jpeg"/>
  <Override PartName="/ppt/media/image36.jpeg" ContentType="image/jpeg"/>
  <Override PartName="/ppt/media/image40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726-E4BB-45C0-B668-7A6AA9407D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203E-702F-458B-BE3F-D7E9F99C4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02A-16C4-4017-A651-B4B31E7B6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тки к сл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3C1-B576-4583-9792-6693935B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2DB-9DB1-4A48-8582-CBF717B7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32B5E-0745-4985-ABE3-BB1F607B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2B992-7F85-4A37-9BA6-7AF196A4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92428-454C-4E96-884E-E8382C59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4A22-9B04-4CBF-AABC-76EFF55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B1CDB-B786-461B-83E7-8069939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FDE9-3A3D-46D8-A04D-ED73F8F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F68AD-2173-464C-AE44-76E532D7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EBC60-98AE-47C7-A2D0-389D68F3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3100A-6DE5-4586-BAB7-5B580382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E512D-93C6-43FA-8101-A45C17CA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D43-F2D5-4C18-B1E3-48200FA9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EBCFC-C0A6-4103-8BA1-06BF86BF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754B2-FDCE-4FB8-8D64-F3CEA4FF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15432-4D75-4A73-B1CC-0E5B49A8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D721A-001F-4B8D-A171-E2E223F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902CF-1493-4C37-B9D8-3BDB540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FCA81-43D0-42CE-9F74-325066C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D861C-91A2-411F-9AE2-9345DB7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CB90F-8DF8-4DCD-ABED-344A138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00DD4-E3FE-4CBF-9549-1783D0BB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1549-6EDB-4FB3-B65F-4ED16F26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E71-356C-4594-9217-E7ADF218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1313C-A914-439A-89CA-9298FF45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63991-8124-4DCE-9235-7F1040B2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358CE-5E6C-4375-A5F1-E4E8E86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2E68E-F68F-4011-9207-A619C7DB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C5524-D0BC-4FDB-A72C-3E6063CB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8BB2-C217-40FF-80B9-B7E5B00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BFFCC-71FF-4457-8093-361BC121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4B57A-6145-41B2-A85E-653BA41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B2926-92A5-4C11-A9D2-82CE176D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11376-F174-46E6-8405-1B0860E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C75-1F42-4DF4-9B83-8448C399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6734F-EB62-4AB3-A24C-DAB1128D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69AE1-1FB0-4D4A-A3DF-A1E34CE0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9876C-0757-4BA4-9A85-83BD4646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AACDA-28B5-4E11-A81F-09E604CB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D9E58-552B-4777-A514-C6CB3647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D00D7-2C99-4D04-8C0B-787A0437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745AE-6351-45DD-901D-2FC98C3B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98647-4A86-48AA-8F67-DCD2363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BBDEA-DED5-45D6-BB53-58CC4AF9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F2932-791C-4BB5-ABF3-E8DC430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FD46-4024-45FE-BE8F-2F5ED5F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654D-71E5-4330-9891-C34983B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2B9DD-EFDA-4BCF-AF64-CA564793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FD270-2A02-40A0-A664-AF39F9F2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26973-5456-4AA7-BEB8-CEA1E858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56A3F-6696-42B9-B0A0-93CB56C0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1CB74-F3BB-437E-87C8-8907EAB7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EEE1F-BC3F-4E6F-8298-D3195C11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541EB-EB3E-4482-BFE4-6771724F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93D05-C593-49A5-9064-E4FA9D2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3CE08-D4AA-4720-A595-A17AF106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D601-D7AB-4814-B289-300CC5FC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9A954-55D8-4DB8-A752-12612394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97EEE-A849-430B-9BD1-8AE81D43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C30A3-AA27-4CDD-9C36-746F6B1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7F311-22EB-4CDA-93BC-1ED747E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E6105-679A-4F6A-AF85-B7469512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9DB8B-9C4E-4370-95AE-B81B8496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9CDAE-5C0E-4EFD-AAD1-7CEE682A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C2657-71BA-4084-9AFB-35C30804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191C4-A407-4251-AD7C-09F38456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2C862-46CC-436A-8443-A996C178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A7C3-F832-478D-8D90-531B7A5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6DC3A-B83E-43EC-B4FC-C3CFE86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86196-D4E2-4CEE-A08E-A08E158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57297-33D1-4C9C-952A-3257E8F5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28399-E606-4631-AD3D-F4B3064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07D30-6A8C-4921-83C8-1E8F4F2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CE6F9-B727-4720-9C26-91F7D0C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0EF9D-7925-4814-A913-78B36D19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4E5F2-5CC1-47F3-84DC-76AEAA2C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95CBB-648D-42BD-AC5C-92E7AC9B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83DA3-B0E2-466C-85FB-F86EB378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F631-FAC3-42D1-B752-1EB82DBB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8EB4A-9567-43F4-BA9E-385AA312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315CA-D270-4683-B355-E42E05C3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62295-443D-493A-A357-1641D6F3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327E2-2B87-4E33-B2FA-1A0E119F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2D6B4-F5E5-4459-AFC4-C732FE65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714D9-CAAD-4537-B1EB-37E5B7D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7EBF5-76A8-4E6E-A95A-47EC7D4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0639C-931C-44C5-B6D1-6CA70B1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19794-329E-4AFB-AF8F-A4700649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E7E81-FE72-4411-B635-262B80A5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CEF4-6C2A-4CAE-B158-09A63C75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E4EF1-9880-4F08-9C3B-9B4AC3B8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887605-2E8E-42F5-918C-4FB89A3C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7F1C3B-4F22-4BEC-894A-255885C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5EBD4E-4469-40EA-8743-8B0EF549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505BAC-CC93-4146-AD20-717A9709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A603CD-523D-438D-A4CB-1696250D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3810E1-2D18-425E-B770-003EBE1C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C63FE1-3ADC-41C0-990B-8F3BD82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5231F1-940E-444F-A94A-D9C9D9C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006779-5311-4357-9DF7-444F2C4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40F4-9954-4F58-B278-2CFA61A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8E71B7-BBB9-43AC-8242-A4AD4E5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85C14D-BACB-4EE5-A767-30798D33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AA6044-8DFC-4580-A2B1-951898E4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C0ABD3-1C9A-402A-8125-2E8071BC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E2229-C05F-4B11-B30C-5C379730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C5B95-4CE4-4826-A7EF-3124EB55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B7D0F-6BDA-4C27-BC78-B187C54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2A039-0CC8-4783-A788-642A7A11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F8B76-32EB-4BD1-913D-136FA0D6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2E0E8-162A-45C7-A4B5-D06C0C9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983-5E2E-45AA-9384-7402C96C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BCFD-F254-48E2-830D-B748F94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5EC49-A292-44C2-8C66-A903E1EE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58128-6DB5-4774-B307-3BA6EBE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DD539-AD28-4541-8E01-DF9CE926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0B3E0-7E10-4B21-8449-8EC15A34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84BB6-E9DC-432D-B176-8BBAEEB6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A5D17C9-5BB5-4A3E-9496-0CFAAC7A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48517C-BD8F-411B-BAE1-917A568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484A7D-66F9-4D84-A8B8-B7145639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9E332E-3DAE-4B2E-8309-73F94B88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BF2FC1-A6B4-4924-8F03-58DF28D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E18-443F-4723-8A42-3C32D8A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6FC7A0-DCC5-4BFA-B769-D379E68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CAA85A-71E8-49C5-9C2D-F3020197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BB6992-4A0B-4782-A9ED-83AE3696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BECBBF-5198-4F96-AD6B-3592EAB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0CFBD7-DDDD-4452-B60D-4334E0E7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2BF75D-F82D-430F-8548-78C13AF6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AC2D07C-502F-41C4-BA0E-7E9F8C0F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573F0-5C2B-45D0-A582-62DF431F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08A48-535F-4BE2-90C6-B3F1E502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423AE-C199-45BC-82FA-9232F0C1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36EB-400C-42DA-978C-745978EF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D164C-C5E8-4B16-A876-6EAE640A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E7FA7-6C3C-4BD1-8741-C1AACFD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B989A-1E29-4769-9911-3F9CDFE7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2773D-77A6-425F-AE98-6B79D6B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C10ED-9D00-458E-AF64-7432B2C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04896-C15C-4115-89F1-01221853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BCC89-25D6-40AA-8705-0B628E0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7A97F-0ABE-427E-84AB-25692842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B347F-C18B-4230-AE96-CC2C569E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D016-6787-424C-A501-55FB99F3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7868-761D-4B69-9230-EDABA039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3F9C-F227-403D-A2A5-7D11D3F5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BB12-DA8E-4D8B-A0CD-E1FFE3A2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D139-6C55-4D8F-9A1F-41B1567D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01FC-A580-4446-B7E9-388649DD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7058-1DA4-4A0C-A8C5-2494A23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BE8-38E1-407A-B377-507FC329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21DD-E516-4DFD-996A-C226979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DEA1-94DC-4F90-BEEE-C4158DA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BCA8-20DA-4113-A7D6-5396A21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52E2-5541-4F19-8B6E-0C5B319F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4435-7DEE-4DCB-A1CF-7DB29ACB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1BF6-AE5F-4221-ABA2-1D07CA1E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8CAB-DA81-4BEB-B6AC-A08C09F8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E6C9-3BDB-42EF-9C0D-48FCA851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9E83-AEE1-4A5F-8EFA-814D658B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007B-DF1B-473F-8559-4365E816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AF7-BE72-432E-A65B-A099B601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4DF57-1357-4D19-BBA6-8742CFD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CF25-7FA3-4906-97F2-8EAE41B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9864-FD7E-482D-97DE-6D9C6BB8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D52A-8BE7-4AEB-B4AA-6F1122C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03E4-6B33-45B8-8538-046A510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52ED8-DE19-451F-9A3B-6CCF292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01FF-B9D6-4972-A4DC-6AB403DC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B140-26D4-4232-A7CC-6096CA40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8F5D-AED4-4FCE-A991-CD2ABB06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9439-E0C3-40D9-8BA9-18C43B28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6F1-DF16-479C-B4C0-D535B8CA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AEC68-5B86-4712-A999-73B71CE8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4D72C-43FF-43E5-9939-896AFE79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51A8-ADA1-4ACD-A8C3-3E091BCC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87A0-C5E6-4292-AE62-A11CAC10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5CCC-1599-460C-8D6A-A1B0DE4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60F4-C5A7-4E6B-9D6A-BAE4728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FBF7-4472-4BBC-A9B2-3B3775D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81C7-4ECE-4285-83BB-FF6DD9E0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8B516-EB45-4C7B-A49F-D0332AC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3796-CF23-4A06-BA0B-279A6BBF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EFA-059E-4831-B838-27AF09A8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5FDB-2179-4196-9074-FF42D7BC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39EEB-B5BB-4D4F-BBAF-32C27E0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A3DD0-C10D-4965-AD84-813D8318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98285-1339-4CB6-992D-4BAD421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C0411-2E5C-4541-B577-67F85ED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9FA89-84BC-40C8-A88C-130DDB05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2BF1-0C01-49A4-BEF0-91E1943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490CB-6F73-4C0E-A6A5-AE5C3F89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AF887-3B17-42D1-A608-46DB653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81F4-B789-4994-B7FB-CC54A42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CB1-9C82-40F1-82E7-7621A586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8A40-F7C6-4F3D-92DF-293B6B4F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0A2D-2666-47AE-8E9A-7663CC5D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FFA5-3262-4413-A083-A676C714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68AF-183A-44BA-934E-5DF52A4D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26E8-9C93-4409-92CD-3D1E44E6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31774-A858-49B7-967A-43471FCD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D3B7A-534E-4B31-A18B-F180BF8D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1CD42-6753-4803-BCDF-7734E106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F108-A560-4F97-B4F4-4602C6DE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86424-4B6E-47DC-AA13-0932EE4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ADB-279F-47AF-9CB4-190D061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9FFDC-2933-4D0F-8CD9-766F991B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BAADD-A316-41B2-BC1E-A5CDA10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1A3E0-8782-4B09-B84B-1D18762F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D76B-F419-47FA-B155-280C75DB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DD9B-5F3A-49CC-92B7-63170EAC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3B08-1E44-4E50-AF5A-0F3E4719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61D2-022D-4E69-8730-3F4699C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E86A-2B0E-4B6F-8759-FBEA7F86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F6F07-BF49-4FD7-916A-DBF5B700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E967F-6E2E-478C-B555-3CB22BFB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704-1D6F-4F3A-B773-DD99DBD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14C17-BD72-41C0-BBB9-DF4D9079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89BE2-F2B6-4183-A38B-2D466BD1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9BE7-1CE8-4294-A5C1-E636714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5022-617A-438C-9FF5-D1BF540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655A-F454-40A2-93B4-1CCDE406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73BAD-D40F-49DA-A106-79F0D044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074BF-C99A-4BF5-A465-F43FDEAB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E388A-5D43-47A6-8F80-B44E2D4E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CA364-E8EB-46B8-A0A7-06FFBB8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E3274-FD90-4E18-AB4F-EED0547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217.xml"/><Relationship Id="rId35" Type="http://schemas.openxmlformats.org/officeDocument/2006/relationships/slideLayout" Target="../slideLayouts/slideLayout218.xml"/><Relationship Id="rId36" Type="http://schemas.openxmlformats.org/officeDocument/2006/relationships/slideLayout" Target="../slideLayouts/slideLayout219.xml"/><Relationship Id="rId37" Type="http://schemas.openxmlformats.org/officeDocument/2006/relationships/slideLayout" Target="../slideLayouts/slideLayout220.xml"/><Relationship Id="rId38" Type="http://schemas.openxmlformats.org/officeDocument/2006/relationships/slideLayout" Target="../slideLayouts/slideLayout221.xml"/><Relationship Id="rId39" Type="http://schemas.openxmlformats.org/officeDocument/2006/relationships/slideLayout" Target="../slideLayouts/slideLayout222.xml"/><Relationship Id="rId40" Type="http://schemas.openxmlformats.org/officeDocument/2006/relationships/slideLayout" Target="../slideLayouts/slideLayout223.xml"/><Relationship Id="rId41" Type="http://schemas.openxmlformats.org/officeDocument/2006/relationships/slideLayout" Target="../slideLayouts/slideLayout224.xml"/><Relationship Id="rId42" Type="http://schemas.openxmlformats.org/officeDocument/2006/relationships/slideLayout" Target="../slideLayouts/slideLayout225.xml"/><Relationship Id="rId43" Type="http://schemas.openxmlformats.org/officeDocument/2006/relationships/slideLayout" Target="../slideLayouts/slideLayout226.xml"/><Relationship Id="rId44" Type="http://schemas.openxmlformats.org/officeDocument/2006/relationships/slideLayout" Target="../slideLayouts/slideLayout227.xml"/><Relationship Id="rId4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ABF3-92C3-4237-96BC-ABB0CEF06B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1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1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1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1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2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3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3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E5EE-B731-4081-A53F-5C7860A17C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0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1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3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5895-F4AD-4F89-8A4E-23F304E22FF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8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EE3B-0687-48E1-A8F5-6D5E086414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4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85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859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90C4-E976-459A-8ADD-F742C3E9D0F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4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84FD-80C4-4840-B4B6-5A02921467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8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3D4F-9063-465B-9118-83DE16A36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9A50-D2E2-4E2B-AB36-1AEC391366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2153-28A6-4438-A915-A80FC8DDD0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9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0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0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0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411F-F4EE-417C-826B-6D264AAE53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5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6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6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6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6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7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8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0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5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5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5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180D-580B-4FB5-9804-67D9ADD787F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4"/>
    <p:sldLayoutId id="2147483884" r:id="rId35"/>
    <p:sldLayoutId id="2147483885" r:id="rId36"/>
    <p:sldLayoutId id="2147483886" r:id="rId37"/>
    <p:sldLayoutId id="2147483887" r:id="rId38"/>
    <p:sldLayoutId id="2147483888" r:id="rId39"/>
    <p:sldLayoutId id="2147483889" r:id="rId40"/>
    <p:sldLayoutId id="2147483890" r:id="rId41"/>
    <p:sldLayoutId id="2147483891" r:id="rId42"/>
    <p:sldLayoutId id="2147483892" r:id="rId43"/>
    <p:sldLayoutId id="2147483893" r:id="rId44"/>
    <p:sldLayoutId id="2147483894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FC18-434C-445B-B6CE-70C7067AD67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F752-7BB8-48B9-B308-3DC1A5A0E8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4F07-CFCA-4B03-92AC-B6BF29A9089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6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0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21D2-B7CC-4709-8EE7-235B417EA0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4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4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7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9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0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51E1-89BE-4598-B160-D83D4C7D7E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569A-C2B4-4D4B-A94F-7B6C5FBC14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C104-20CF-4E79-AF8B-4C1C34827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8FB5-5558-4B16-A123-762C0764B7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26.xml"/><Relationship Id="rId8" Type="http://schemas.openxmlformats.org/officeDocument/2006/relationships/slide" Target="slide18.xml"/><Relationship Id="rId9" Type="http://schemas.openxmlformats.org/officeDocument/2006/relationships/slide" Target="slide34.xml"/><Relationship Id="rId10" Type="http://schemas.openxmlformats.org/officeDocument/2006/relationships/slide" Target="slide30.xml"/><Relationship Id="rId11" Type="http://schemas.openxmlformats.org/officeDocument/2006/relationships/slide" Target="slide14.xml"/><Relationship Id="rId12" Type="http://schemas.openxmlformats.org/officeDocument/2006/relationships/slide" Target="slide28.xml"/><Relationship Id="rId13" Type="http://schemas.openxmlformats.org/officeDocument/2006/relationships/slide" Target="slide20.xml"/><Relationship Id="rId14" Type="http://schemas.openxmlformats.org/officeDocument/2006/relationships/slide" Target="slide32.xml"/><Relationship Id="rId15" Type="http://schemas.openxmlformats.org/officeDocument/2006/relationships/slide" Target="slide22.xml"/><Relationship Id="rId16" Type="http://schemas.openxmlformats.org/officeDocument/2006/relationships/slide" Target="slide24.xml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360" name="WordArt 11" descr=""/>
          <p:cNvPicPr/>
          <p:nvPr/>
        </p:nvPicPr>
        <p:blipFill>
          <a:blip r:embed="rId2"/>
          <a:stretch/>
        </p:blipFill>
        <p:spPr>
          <a:xfrm>
            <a:off x="603360" y="4932360"/>
            <a:ext cx="8070840" cy="174312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15" descr="C:\Users\Админ\Desktop\Вороніна\voronyna (1).jpg"/>
          <p:cNvPicPr/>
          <p:nvPr/>
        </p:nvPicPr>
        <p:blipFill>
          <a:blip r:embed="rId3"/>
          <a:stretch/>
        </p:blipFill>
        <p:spPr>
          <a:xfrm>
            <a:off x="3059280" y="404640"/>
            <a:ext cx="3241440" cy="360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2" name="Прямоугольник 6" descr=""/>
          <p:cNvPicPr/>
          <p:nvPr/>
        </p:nvPicPr>
        <p:blipFill>
          <a:blip r:embed="rId4"/>
          <a:stretch/>
        </p:blipFill>
        <p:spPr>
          <a:xfrm>
            <a:off x="2773440" y="3932280"/>
            <a:ext cx="3687840" cy="97452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7" descr="C:\Users\Админ\Desktop\Вороніна\ttbb5.jpg"/>
          <p:cNvPicPr/>
          <p:nvPr/>
        </p:nvPicPr>
        <p:blipFill>
          <a:blip r:embed="rId5"/>
          <a:stretch/>
        </p:blipFill>
        <p:spPr>
          <a:xfrm rot="485400">
            <a:off x="7098840" y="357120"/>
            <a:ext cx="1521000" cy="224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4" name="Picture 8" descr="C:\Users\Админ\Desktop\Вороніна\078_Tajemne_tovarystvo_bojaguziv_ta_brehuniv_Lesia_Voronyna.jpg"/>
          <p:cNvPicPr/>
          <p:nvPr/>
        </p:nvPicPr>
        <p:blipFill>
          <a:blip r:embed="rId6"/>
          <a:stretch/>
        </p:blipFill>
        <p:spPr>
          <a:xfrm rot="449400">
            <a:off x="826560" y="2722680"/>
            <a:ext cx="14605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21" name="AutoShape 9">
            <a:hlinkClick r:id="rId2" action="ppaction://hlinksldjump"/>
          </p:cNvPr>
          <p:cNvSpPr/>
          <p:nvPr/>
        </p:nvSpPr>
        <p:spPr>
          <a:xfrm>
            <a:off x="7667640" y="5516640"/>
            <a:ext cx="1224000" cy="1114200"/>
          </a:xfrm>
          <a:custGeom>
            <a:avLst/>
            <a:gdLst>
              <a:gd name="textAreaLeft" fmla="*/ 72000 w 1224000"/>
              <a:gd name="textAreaRight" fmla="*/ 1152000 w 1224000"/>
              <a:gd name="textAreaTop" fmla="*/ 72000 h 1114200"/>
              <a:gd name="textAreaBottom" fmla="*/ 1042200 h 1114200"/>
            </a:gdLst>
            <a:ahLst/>
            <a:rect l="textAreaLeft" t="textAreaTop" r="textAreaRight" b="textAreaBottom"/>
            <a:pathLst>
              <a:path w="23728" h="21600">
                <a:moveTo>
                  <a:pt x="0" y="0"/>
                </a:moveTo>
                <a:lnTo>
                  <a:pt x="23728" y="0"/>
                </a:lnTo>
                <a:lnTo>
                  <a:pt x="23728" y="21600"/>
                </a:lnTo>
                <a:lnTo>
                  <a:pt x="0" y="21600"/>
                </a:lnTo>
                <a:close/>
              </a:path>
              <a:path fill="lightenLess" w="23728" h="21600">
                <a:moveTo>
                  <a:pt x="0" y="0"/>
                </a:moveTo>
                <a:lnTo>
                  <a:pt x="23728" y="0"/>
                </a:lnTo>
                <a:lnTo>
                  <a:pt x="22328" y="1400"/>
                </a:lnTo>
                <a:lnTo>
                  <a:pt x="1400" y="1400"/>
                </a:lnTo>
                <a:close/>
              </a:path>
              <a:path fill="darken" w="23728" h="21600">
                <a:moveTo>
                  <a:pt x="23728" y="0"/>
                </a:moveTo>
                <a:lnTo>
                  <a:pt x="23728" y="21600"/>
                </a:lnTo>
                <a:lnTo>
                  <a:pt x="22328" y="20200"/>
                </a:lnTo>
                <a:lnTo>
                  <a:pt x="22328" y="1400"/>
                </a:lnTo>
                <a:close/>
              </a:path>
              <a:path fill="darkenLess" w="23728" h="21600">
                <a:moveTo>
                  <a:pt x="23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28" y="20200"/>
                </a:lnTo>
                <a:close/>
              </a:path>
              <a:path fill="lighten" w="23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WordArt 8"/>
          <p:cNvSpPr txBox="1"/>
          <p:nvPr/>
        </p:nvSpPr>
        <p:spPr>
          <a:xfrm>
            <a:off x="3924360" y="69228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4.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Text Box 9"/>
          <p:cNvSpPr/>
          <p:nvPr/>
        </p:nvSpPr>
        <p:spPr>
          <a:xfrm>
            <a:off x="611280" y="1700280"/>
            <a:ext cx="808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Що понад усе любила бабуся Клим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25" name="AutoShape 12">
            <a:hlinkClick r:id="rId2" action="ppaction://hlinksldjump"/>
          </p:cNvPr>
          <p:cNvSpPr/>
          <p:nvPr/>
        </p:nvSpPr>
        <p:spPr>
          <a:xfrm>
            <a:off x="7308720" y="544500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WordArt 10"/>
          <p:cNvSpPr txBox="1"/>
          <p:nvPr/>
        </p:nvSpPr>
        <p:spPr>
          <a:xfrm>
            <a:off x="2268360" y="1125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7" name="Text Box 11"/>
          <p:cNvSpPr/>
          <p:nvPr/>
        </p:nvSpPr>
        <p:spPr>
          <a:xfrm>
            <a:off x="5724360" y="256536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8" name="Picture 9" descr="Картинки по запросу квіти анімація"/>
          <p:cNvPicPr/>
          <p:nvPr/>
        </p:nvPicPr>
        <p:blipFill>
          <a:blip r:embed="rId3"/>
          <a:stretch/>
        </p:blipFill>
        <p:spPr>
          <a:xfrm>
            <a:off x="395280" y="2577960"/>
            <a:ext cx="4608360" cy="303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30" name="AutoShape 11">
            <a:hlinkClick r:id="rId2" action="ppaction://hlinksldjump"/>
          </p:cNvPr>
          <p:cNvSpPr/>
          <p:nvPr/>
        </p:nvSpPr>
        <p:spPr>
          <a:xfrm>
            <a:off x="7596360" y="5516640"/>
            <a:ext cx="1258560" cy="1042920"/>
          </a:xfrm>
          <a:custGeom>
            <a:avLst/>
            <a:gdLst>
              <a:gd name="textAreaLeft" fmla="*/ 67320 w 1258560"/>
              <a:gd name="textAreaRight" fmla="*/ 1191240 w 12585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65" h="21600">
                <a:moveTo>
                  <a:pt x="0" y="0"/>
                </a:moveTo>
                <a:lnTo>
                  <a:pt x="26065" y="0"/>
                </a:lnTo>
                <a:lnTo>
                  <a:pt x="26065" y="21600"/>
                </a:lnTo>
                <a:lnTo>
                  <a:pt x="0" y="21600"/>
                </a:lnTo>
                <a:close/>
              </a:path>
              <a:path fill="lightenLess" w="26065" h="21600">
                <a:moveTo>
                  <a:pt x="0" y="0"/>
                </a:moveTo>
                <a:lnTo>
                  <a:pt x="26065" y="0"/>
                </a:lnTo>
                <a:lnTo>
                  <a:pt x="24665" y="1400"/>
                </a:lnTo>
                <a:lnTo>
                  <a:pt x="1400" y="1400"/>
                </a:lnTo>
                <a:close/>
              </a:path>
              <a:path fill="darken" w="26065" h="21600">
                <a:moveTo>
                  <a:pt x="26065" y="0"/>
                </a:moveTo>
                <a:lnTo>
                  <a:pt x="26065" y="21600"/>
                </a:lnTo>
                <a:lnTo>
                  <a:pt x="24665" y="20200"/>
                </a:lnTo>
                <a:lnTo>
                  <a:pt x="24665" y="1400"/>
                </a:lnTo>
                <a:close/>
              </a:path>
              <a:path fill="darkenLess" w="26065" h="21600">
                <a:moveTo>
                  <a:pt x="26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" y="20200"/>
                </a:lnTo>
                <a:close/>
              </a:path>
              <a:path fill="lighten" w="26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9"/>
          <p:cNvSpPr txBox="1"/>
          <p:nvPr/>
        </p:nvSpPr>
        <p:spPr>
          <a:xfrm>
            <a:off x="4211640" y="1052640"/>
            <a:ext cx="345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5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2" name="Text Box 10"/>
          <p:cNvSpPr/>
          <p:nvPr/>
        </p:nvSpPr>
        <p:spPr>
          <a:xfrm>
            <a:off x="445320" y="256536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 якій країні перебували батьки Кли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34" name="Text Box 13"/>
          <p:cNvSpPr/>
          <p:nvPr/>
        </p:nvSpPr>
        <p:spPr>
          <a:xfrm>
            <a:off x="4211640" y="3284640"/>
            <a:ext cx="513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гип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WordArt 14"/>
          <p:cNvSpPr txBox="1"/>
          <p:nvPr/>
        </p:nvSpPr>
        <p:spPr>
          <a:xfrm>
            <a:off x="2195640" y="1125360"/>
            <a:ext cx="64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6" name="AutoShape 10">
            <a:hlinkClick r:id="rId2" action="ppaction://hlinksldjump"/>
          </p:cNvPr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8" descr="Картинки по запросу єгипет"/>
          <p:cNvPicPr/>
          <p:nvPr/>
        </p:nvPicPr>
        <p:blipFill>
          <a:blip r:embed="rId3"/>
          <a:stretch/>
        </p:blipFill>
        <p:spPr>
          <a:xfrm>
            <a:off x="539640" y="2781360"/>
            <a:ext cx="4392720" cy="2927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39" name="AutoShape 11"/>
          <p:cNvSpPr/>
          <p:nvPr/>
        </p:nvSpPr>
        <p:spPr>
          <a:xfrm>
            <a:off x="7667640" y="5300640"/>
            <a:ext cx="1152360" cy="118584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85840"/>
              <a:gd name="textAreaBottom" fmla="*/ 1111320 h 1185840"/>
            </a:gdLst>
            <a:ahLst/>
            <a:rect l="textAreaLeft" t="textAreaTop" r="textAreaRight" b="textAreaBottom"/>
            <a:pathLst>
              <a:path w="21600" h="22227">
                <a:moveTo>
                  <a:pt x="0" y="0"/>
                </a:moveTo>
                <a:lnTo>
                  <a:pt x="21600" y="0"/>
                </a:lnTo>
                <a:lnTo>
                  <a:pt x="21600" y="22227"/>
                </a:lnTo>
                <a:lnTo>
                  <a:pt x="0" y="22227"/>
                </a:lnTo>
                <a:close/>
              </a:path>
              <a:path fill="lightenLess" w="21600" h="22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7">
                <a:moveTo>
                  <a:pt x="21600" y="0"/>
                </a:moveTo>
                <a:lnTo>
                  <a:pt x="21600" y="22227"/>
                </a:lnTo>
                <a:lnTo>
                  <a:pt x="20200" y="20827"/>
                </a:lnTo>
                <a:lnTo>
                  <a:pt x="20200" y="1400"/>
                </a:lnTo>
                <a:close/>
              </a:path>
              <a:path fill="darkenLess" w="21600" h="22227">
                <a:moveTo>
                  <a:pt x="21600" y="22227"/>
                </a:moveTo>
                <a:lnTo>
                  <a:pt x="0" y="22227"/>
                </a:lnTo>
                <a:lnTo>
                  <a:pt x="1400" y="20827"/>
                </a:lnTo>
                <a:lnTo>
                  <a:pt x="20200" y="20827"/>
                </a:lnTo>
                <a:close/>
              </a:path>
              <a:path fill="lighten" w="21600" h="22227">
                <a:moveTo>
                  <a:pt x="0" y="22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WordArt 11"/>
          <p:cNvSpPr txBox="1"/>
          <p:nvPr/>
        </p:nvSpPr>
        <p:spPr>
          <a:xfrm>
            <a:off x="3924360" y="1052640"/>
            <a:ext cx="29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6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1" name="Прямоугольник 7"/>
          <p:cNvSpPr/>
          <p:nvPr/>
        </p:nvSpPr>
        <p:spPr>
          <a:xfrm>
            <a:off x="53964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мав дістати Клим із дна квіткового гор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43" name="AutoShape 10"/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WordArt 11"/>
          <p:cNvSpPr txBox="1"/>
          <p:nvPr/>
        </p:nvSpPr>
        <p:spPr>
          <a:xfrm>
            <a:off x="2627280" y="907920"/>
            <a:ext cx="575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5" name="TextBox 7"/>
          <p:cNvSpPr/>
          <p:nvPr/>
        </p:nvSpPr>
        <p:spPr>
          <a:xfrm>
            <a:off x="4006440" y="3068640"/>
            <a:ext cx="47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юч від маш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Picture 9" descr="Картинки по запросу ключ від машинии"/>
          <p:cNvPicPr/>
          <p:nvPr/>
        </p:nvPicPr>
        <p:blipFill>
          <a:blip r:embed="rId2"/>
          <a:stretch/>
        </p:blipFill>
        <p:spPr>
          <a:xfrm rot="20149800">
            <a:off x="15480" y="1609200"/>
            <a:ext cx="4356000" cy="435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48" name="AutoShape 17"/>
          <p:cNvSpPr/>
          <p:nvPr/>
        </p:nvSpPr>
        <p:spPr>
          <a:xfrm>
            <a:off x="7524720" y="5516640"/>
            <a:ext cx="1152720" cy="1116000"/>
          </a:xfrm>
          <a:custGeom>
            <a:avLst/>
            <a:gdLst>
              <a:gd name="textAreaLeft" fmla="*/ 72000 w 1152720"/>
              <a:gd name="textAreaRight" fmla="*/ 1080720 w 1152720"/>
              <a:gd name="textAreaTop" fmla="*/ 72000 h 1116000"/>
              <a:gd name="textAreaBottom" fmla="*/ 1044000 h 11160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1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1" y="20200"/>
                </a:lnTo>
                <a:lnTo>
                  <a:pt x="20911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1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WordArt 13"/>
          <p:cNvSpPr txBox="1"/>
          <p:nvPr/>
        </p:nvSpPr>
        <p:spPr>
          <a:xfrm>
            <a:off x="3708360" y="1052640"/>
            <a:ext cx="39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7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0" name="Text Box 14"/>
          <p:cNvSpPr/>
          <p:nvPr/>
        </p:nvSpPr>
        <p:spPr>
          <a:xfrm>
            <a:off x="468360" y="2276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марка автомобіля, що стояв у дворі під груше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52" name="AutoShape 10"/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WordArt 10"/>
          <p:cNvSpPr txBox="1"/>
          <p:nvPr/>
        </p:nvSpPr>
        <p:spPr>
          <a:xfrm>
            <a:off x="2700360" y="836640"/>
            <a:ext cx="5975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4" name="Text Box 11"/>
          <p:cNvSpPr/>
          <p:nvPr/>
        </p:nvSpPr>
        <p:spPr>
          <a:xfrm>
            <a:off x="0" y="1341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2"/>
          <p:cNvSpPr/>
          <p:nvPr/>
        </p:nvSpPr>
        <p:spPr>
          <a:xfrm>
            <a:off x="4211640" y="2276640"/>
            <a:ext cx="44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рожець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6" name="Picture 10" descr="Картинки по запросу запорожець старий"/>
          <p:cNvPicPr/>
          <p:nvPr/>
        </p:nvPicPr>
        <p:blipFill>
          <a:blip r:embed="rId2"/>
          <a:stretch/>
        </p:blipFill>
        <p:spPr>
          <a:xfrm>
            <a:off x="1444680" y="3500280"/>
            <a:ext cx="743436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58" name="AutoShape 11"/>
          <p:cNvSpPr/>
          <p:nvPr/>
        </p:nvSpPr>
        <p:spPr>
          <a:xfrm>
            <a:off x="7596360" y="5445000"/>
            <a:ext cx="1152360" cy="1114560"/>
          </a:xfrm>
          <a:custGeom>
            <a:avLst/>
            <a:gdLst>
              <a:gd name="textAreaLeft" fmla="*/ 72000 w 1152360"/>
              <a:gd name="textAreaRight" fmla="*/ 1080360 w 115236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2332" h="21600">
                <a:moveTo>
                  <a:pt x="0" y="0"/>
                </a:moveTo>
                <a:lnTo>
                  <a:pt x="22332" y="0"/>
                </a:lnTo>
                <a:lnTo>
                  <a:pt x="22332" y="21600"/>
                </a:lnTo>
                <a:lnTo>
                  <a:pt x="0" y="21600"/>
                </a:lnTo>
                <a:close/>
              </a:path>
              <a:path fill="lightenLess" w="22332" h="21600">
                <a:moveTo>
                  <a:pt x="0" y="0"/>
                </a:moveTo>
                <a:lnTo>
                  <a:pt x="22332" y="0"/>
                </a:lnTo>
                <a:lnTo>
                  <a:pt x="20932" y="1400"/>
                </a:lnTo>
                <a:lnTo>
                  <a:pt x="1400" y="1400"/>
                </a:lnTo>
                <a:close/>
              </a:path>
              <a:path fill="darken" w="22332" h="21600">
                <a:moveTo>
                  <a:pt x="22332" y="0"/>
                </a:moveTo>
                <a:lnTo>
                  <a:pt x="22332" y="21600"/>
                </a:lnTo>
                <a:lnTo>
                  <a:pt x="20932" y="20200"/>
                </a:lnTo>
                <a:lnTo>
                  <a:pt x="20932" y="1400"/>
                </a:lnTo>
                <a:close/>
              </a:path>
              <a:path fill="darkenLess" w="22332" h="21600">
                <a:moveTo>
                  <a:pt x="22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2" y="20200"/>
                </a:lnTo>
                <a:close/>
              </a:path>
              <a:path fill="lighten" w="22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WordArt 10"/>
          <p:cNvSpPr txBox="1"/>
          <p:nvPr/>
        </p:nvSpPr>
        <p:spPr>
          <a:xfrm>
            <a:off x="3708360" y="981000"/>
            <a:ext cx="385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8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0" name="Прямоугольник 6"/>
          <p:cNvSpPr/>
          <p:nvPr/>
        </p:nvSpPr>
        <p:spPr>
          <a:xfrm>
            <a:off x="539640" y="2637000"/>
            <a:ext cx="80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бабусиному городі хлопець відшукав кущ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62" name="AutoShape 11"/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WordArt 10"/>
          <p:cNvSpPr txBox="1"/>
          <p:nvPr/>
        </p:nvSpPr>
        <p:spPr>
          <a:xfrm>
            <a:off x="2843280" y="549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4" name="TextBox 7"/>
          <p:cNvSpPr/>
          <p:nvPr/>
        </p:nvSpPr>
        <p:spPr>
          <a:xfrm>
            <a:off x="5303880" y="2421000"/>
            <a:ext cx="28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мідо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5" name="Picture 9" descr="Картинки по запросу плмідори куст"/>
          <p:cNvPicPr/>
          <p:nvPr/>
        </p:nvPicPr>
        <p:blipFill>
          <a:blip r:embed="rId2"/>
          <a:stretch/>
        </p:blipFill>
        <p:spPr>
          <a:xfrm>
            <a:off x="755640" y="2276640"/>
            <a:ext cx="3772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4"/>
          <p:cNvSpPr/>
          <p:nvPr/>
        </p:nvSpPr>
        <p:spPr>
          <a:xfrm>
            <a:off x="826920" y="142452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оловна риса дитячого письменника – неймовірна радість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сто від того, що ти живеш на сві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Леся Воро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2843280" y="4005360"/>
            <a:ext cx="151272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8" name="Picture 10" descr="Картинки по запросу леся вороніна"/>
          <p:cNvPicPr/>
          <p:nvPr/>
        </p:nvPicPr>
        <p:blipFill>
          <a:blip r:embed="rId3"/>
          <a:stretch/>
        </p:blipFill>
        <p:spPr>
          <a:xfrm>
            <a:off x="5003640" y="4005360"/>
            <a:ext cx="145440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9" name="Picture 12" descr="Картинки по запросу леся вороніна"/>
          <p:cNvPicPr/>
          <p:nvPr/>
        </p:nvPicPr>
        <p:blipFill>
          <a:blip r:embed="rId4"/>
          <a:stretch/>
        </p:blipFill>
        <p:spPr>
          <a:xfrm>
            <a:off x="7236000" y="4005360"/>
            <a:ext cx="1501560" cy="230328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14" descr="Похожее изображение"/>
          <p:cNvPicPr/>
          <p:nvPr/>
        </p:nvPicPr>
        <p:blipFill>
          <a:blip r:embed="rId5"/>
          <a:stretch/>
        </p:blipFill>
        <p:spPr>
          <a:xfrm>
            <a:off x="611280" y="4005360"/>
            <a:ext cx="1512720" cy="233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67" name="AutoShape 11"/>
          <p:cNvSpPr/>
          <p:nvPr/>
        </p:nvSpPr>
        <p:spPr>
          <a:xfrm>
            <a:off x="7596360" y="5445000"/>
            <a:ext cx="1223640" cy="1114560"/>
          </a:xfrm>
          <a:custGeom>
            <a:avLst/>
            <a:gdLst>
              <a:gd name="textAreaLeft" fmla="*/ 72000 w 1223640"/>
              <a:gd name="textAreaRight" fmla="*/ 1151640 w 122364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3713" h="21600">
                <a:moveTo>
                  <a:pt x="0" y="0"/>
                </a:moveTo>
                <a:lnTo>
                  <a:pt x="23713" y="0"/>
                </a:lnTo>
                <a:lnTo>
                  <a:pt x="23713" y="21600"/>
                </a:lnTo>
                <a:lnTo>
                  <a:pt x="0" y="21600"/>
                </a:lnTo>
                <a:close/>
              </a:path>
              <a:path fill="lightenLess" w="23713" h="21600">
                <a:moveTo>
                  <a:pt x="0" y="0"/>
                </a:moveTo>
                <a:lnTo>
                  <a:pt x="23713" y="0"/>
                </a:lnTo>
                <a:lnTo>
                  <a:pt x="22313" y="1400"/>
                </a:lnTo>
                <a:lnTo>
                  <a:pt x="1400" y="1400"/>
                </a:lnTo>
                <a:close/>
              </a:path>
              <a:path fill="darken" w="23713" h="21600">
                <a:moveTo>
                  <a:pt x="23713" y="0"/>
                </a:moveTo>
                <a:lnTo>
                  <a:pt x="23713" y="21600"/>
                </a:lnTo>
                <a:lnTo>
                  <a:pt x="22313" y="20200"/>
                </a:lnTo>
                <a:lnTo>
                  <a:pt x="22313" y="1400"/>
                </a:lnTo>
                <a:close/>
              </a:path>
              <a:path fill="darkenLess" w="23713" h="21600">
                <a:moveTo>
                  <a:pt x="23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3" y="20200"/>
                </a:lnTo>
                <a:close/>
              </a:path>
              <a:path fill="lighten" w="23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WordArt 10"/>
          <p:cNvSpPr txBox="1"/>
          <p:nvPr/>
        </p:nvSpPr>
        <p:spPr>
          <a:xfrm>
            <a:off x="3419640" y="836640"/>
            <a:ext cx="41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9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9" name="Text Box 11"/>
          <p:cNvSpPr/>
          <p:nvPr/>
        </p:nvSpPr>
        <p:spPr>
          <a:xfrm>
            <a:off x="395280" y="191628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ому належать слова: “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и що, збожеволіли? А якщо мене хтось знайомий побачить?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71" name="AutoShape 10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WordArt 10"/>
          <p:cNvSpPr txBox="1"/>
          <p:nvPr/>
        </p:nvSpPr>
        <p:spPr>
          <a:xfrm>
            <a:off x="2916360" y="549360"/>
            <a:ext cx="518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4211640" y="2565360"/>
            <a:ext cx="45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им Дж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Picture 7" descr="C:\Users\Админ\Desktop\Вороніна\011_Tajemne_tovarystvo_bojaguziv_ta_brehuniv_Lesia_Voronyna.jpg"/>
          <p:cNvPicPr/>
          <p:nvPr/>
        </p:nvPicPr>
        <p:blipFill>
          <a:blip r:embed="rId2"/>
          <a:stretch/>
        </p:blipFill>
        <p:spPr>
          <a:xfrm>
            <a:off x="468360" y="2349360"/>
            <a:ext cx="4032360" cy="364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76" name="AutoShape 9"/>
          <p:cNvSpPr/>
          <p:nvPr/>
        </p:nvSpPr>
        <p:spPr>
          <a:xfrm>
            <a:off x="7451640" y="5445000"/>
            <a:ext cx="1225800" cy="1114560"/>
          </a:xfrm>
          <a:custGeom>
            <a:avLst/>
            <a:gdLst>
              <a:gd name="textAreaLeft" fmla="*/ 72000 w 1225800"/>
              <a:gd name="textAreaRight" fmla="*/ 1153800 w 122580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3755" h="21600">
                <a:moveTo>
                  <a:pt x="0" y="0"/>
                </a:moveTo>
                <a:lnTo>
                  <a:pt x="23755" y="0"/>
                </a:lnTo>
                <a:lnTo>
                  <a:pt x="23755" y="21600"/>
                </a:lnTo>
                <a:lnTo>
                  <a:pt x="0" y="21600"/>
                </a:lnTo>
                <a:close/>
              </a:path>
              <a:path fill="lightenLess" w="23755" h="21600">
                <a:moveTo>
                  <a:pt x="0" y="0"/>
                </a:moveTo>
                <a:lnTo>
                  <a:pt x="23755" y="0"/>
                </a:lnTo>
                <a:lnTo>
                  <a:pt x="22355" y="1400"/>
                </a:lnTo>
                <a:lnTo>
                  <a:pt x="1400" y="1400"/>
                </a:lnTo>
                <a:close/>
              </a:path>
              <a:path fill="darken" w="23755" h="21600">
                <a:moveTo>
                  <a:pt x="23755" y="0"/>
                </a:moveTo>
                <a:lnTo>
                  <a:pt x="23755" y="21600"/>
                </a:lnTo>
                <a:lnTo>
                  <a:pt x="22355" y="20200"/>
                </a:lnTo>
                <a:lnTo>
                  <a:pt x="22355" y="1400"/>
                </a:lnTo>
                <a:close/>
              </a:path>
              <a:path fill="darkenLess" w="23755" h="21600">
                <a:moveTo>
                  <a:pt x="2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5" y="20200"/>
                </a:lnTo>
                <a:close/>
              </a:path>
              <a:path fill="lighten" w="2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WordArt 9"/>
          <p:cNvSpPr txBox="1"/>
          <p:nvPr/>
        </p:nvSpPr>
        <p:spPr>
          <a:xfrm>
            <a:off x="3492360" y="907920"/>
            <a:ext cx="403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0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8" name="Text Box 10"/>
          <p:cNvSpPr/>
          <p:nvPr/>
        </p:nvSpPr>
        <p:spPr>
          <a:xfrm>
            <a:off x="395280" y="1989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ому належать слова: “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У синьомордів надзвичайно тонкий слух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80" name="AutoShape 10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WordArt 10"/>
          <p:cNvSpPr txBox="1"/>
          <p:nvPr/>
        </p:nvSpPr>
        <p:spPr>
          <a:xfrm>
            <a:off x="2771640" y="69228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2" name="Text Box 11"/>
          <p:cNvSpPr/>
          <p:nvPr/>
        </p:nvSpPr>
        <p:spPr>
          <a:xfrm>
            <a:off x="4335480" y="150480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12"/>
          <p:cNvSpPr/>
          <p:nvPr/>
        </p:nvSpPr>
        <p:spPr>
          <a:xfrm>
            <a:off x="5292720" y="263700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4" name="Picture 9" descr="C:\Users\Админ\Desktop\Вороніна\1042895-i_012.jpg"/>
          <p:cNvPicPr/>
          <p:nvPr/>
        </p:nvPicPr>
        <p:blipFill>
          <a:blip r:embed="rId2"/>
          <a:stretch/>
        </p:blipFill>
        <p:spPr>
          <a:xfrm>
            <a:off x="1285920" y="1816200"/>
            <a:ext cx="3139920" cy="4309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86" name="AutoShape 13"/>
          <p:cNvSpPr/>
          <p:nvPr/>
        </p:nvSpPr>
        <p:spPr>
          <a:xfrm>
            <a:off x="7740720" y="5743440"/>
            <a:ext cx="1152360" cy="1114560"/>
          </a:xfrm>
          <a:custGeom>
            <a:avLst/>
            <a:gdLst>
              <a:gd name="textAreaLeft" fmla="*/ 72000 w 1152360"/>
              <a:gd name="textAreaRight" fmla="*/ 1080360 w 115236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2332" h="21600">
                <a:moveTo>
                  <a:pt x="0" y="0"/>
                </a:moveTo>
                <a:lnTo>
                  <a:pt x="22332" y="0"/>
                </a:lnTo>
                <a:lnTo>
                  <a:pt x="22332" y="21600"/>
                </a:lnTo>
                <a:lnTo>
                  <a:pt x="0" y="21600"/>
                </a:lnTo>
                <a:close/>
              </a:path>
              <a:path fill="lightenLess" w="22332" h="21600">
                <a:moveTo>
                  <a:pt x="0" y="0"/>
                </a:moveTo>
                <a:lnTo>
                  <a:pt x="22332" y="0"/>
                </a:lnTo>
                <a:lnTo>
                  <a:pt x="20932" y="1400"/>
                </a:lnTo>
                <a:lnTo>
                  <a:pt x="1400" y="1400"/>
                </a:lnTo>
                <a:close/>
              </a:path>
              <a:path fill="darken" w="22332" h="21600">
                <a:moveTo>
                  <a:pt x="22332" y="0"/>
                </a:moveTo>
                <a:lnTo>
                  <a:pt x="22332" y="21600"/>
                </a:lnTo>
                <a:lnTo>
                  <a:pt x="20932" y="20200"/>
                </a:lnTo>
                <a:lnTo>
                  <a:pt x="20932" y="1400"/>
                </a:lnTo>
                <a:close/>
              </a:path>
              <a:path fill="darkenLess" w="22332" h="21600">
                <a:moveTo>
                  <a:pt x="22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2" y="20200"/>
                </a:lnTo>
                <a:close/>
              </a:path>
              <a:path fill="lighten" w="22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WordArt 10"/>
          <p:cNvSpPr txBox="1"/>
          <p:nvPr/>
        </p:nvSpPr>
        <p:spPr>
          <a:xfrm>
            <a:off x="3492360" y="1125360"/>
            <a:ext cx="367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1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8" name="Text Box 11"/>
          <p:cNvSpPr/>
          <p:nvPr/>
        </p:nvSpPr>
        <p:spPr>
          <a:xfrm>
            <a:off x="324000" y="1989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існю якої групи дуже любить мугикати собі під ніс бабуся Кли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90" name="AutoShape 10"/>
          <p:cNvSpPr/>
          <p:nvPr/>
        </p:nvSpPr>
        <p:spPr>
          <a:xfrm>
            <a:off x="766764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WordArt 10"/>
          <p:cNvSpPr txBox="1"/>
          <p:nvPr/>
        </p:nvSpPr>
        <p:spPr>
          <a:xfrm>
            <a:off x="2987640" y="907920"/>
            <a:ext cx="554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2" name="Picture 8" descr="Картинки по запросу бітлз"/>
          <p:cNvPicPr/>
          <p:nvPr/>
        </p:nvPicPr>
        <p:blipFill>
          <a:blip r:embed="rId2"/>
          <a:stretch/>
        </p:blipFill>
        <p:spPr>
          <a:xfrm>
            <a:off x="1258920" y="2276640"/>
            <a:ext cx="5888160" cy="388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2"/>
          <p:cNvSpPr/>
          <p:nvPr/>
        </p:nvSpPr>
        <p:spPr>
          <a:xfrm>
            <a:off x="684360" y="213372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Що забороняє закон усесвітньої рівнова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AutoShape 13"/>
          <p:cNvSpPr/>
          <p:nvPr/>
        </p:nvSpPr>
        <p:spPr>
          <a:xfrm>
            <a:off x="7524720" y="5445000"/>
            <a:ext cx="1152720" cy="1114560"/>
          </a:xfrm>
          <a:custGeom>
            <a:avLst/>
            <a:gdLst>
              <a:gd name="textAreaLeft" fmla="*/ 72000 w 1152720"/>
              <a:gd name="textAreaRight" fmla="*/ 1080720 w 115272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2339" h="21600">
                <a:moveTo>
                  <a:pt x="0" y="0"/>
                </a:moveTo>
                <a:lnTo>
                  <a:pt x="22339" y="0"/>
                </a:lnTo>
                <a:lnTo>
                  <a:pt x="22339" y="21600"/>
                </a:lnTo>
                <a:lnTo>
                  <a:pt x="0" y="21600"/>
                </a:lnTo>
                <a:close/>
              </a:path>
              <a:path fill="lightenLess" w="22339" h="21600">
                <a:moveTo>
                  <a:pt x="0" y="0"/>
                </a:moveTo>
                <a:lnTo>
                  <a:pt x="22339" y="0"/>
                </a:lnTo>
                <a:lnTo>
                  <a:pt x="20939" y="1400"/>
                </a:lnTo>
                <a:lnTo>
                  <a:pt x="1400" y="1400"/>
                </a:lnTo>
                <a:close/>
              </a:path>
              <a:path fill="darken" w="22339" h="21600">
                <a:moveTo>
                  <a:pt x="22339" y="0"/>
                </a:moveTo>
                <a:lnTo>
                  <a:pt x="22339" y="21600"/>
                </a:lnTo>
                <a:lnTo>
                  <a:pt x="20939" y="20200"/>
                </a:lnTo>
                <a:lnTo>
                  <a:pt x="20939" y="1400"/>
                </a:lnTo>
                <a:close/>
              </a:path>
              <a:path fill="darkenLess" w="22339" h="21600">
                <a:moveTo>
                  <a:pt x="22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9" y="20200"/>
                </a:lnTo>
                <a:close/>
              </a:path>
              <a:path fill="lighten" w="22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WordArt 14"/>
          <p:cNvSpPr txBox="1"/>
          <p:nvPr/>
        </p:nvSpPr>
        <p:spPr>
          <a:xfrm>
            <a:off x="3564000" y="765000"/>
            <a:ext cx="3672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2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98" name="AutoShape 10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WordArt 10"/>
          <p:cNvSpPr txBox="1"/>
          <p:nvPr/>
        </p:nvSpPr>
        <p:spPr>
          <a:xfrm>
            <a:off x="2916360" y="836640"/>
            <a:ext cx="525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7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fffff7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0" name="Picture 8" descr="Картинки по запросу насильство"/>
          <p:cNvPicPr/>
          <p:nvPr/>
        </p:nvPicPr>
        <p:blipFill>
          <a:blip r:embed="rId2"/>
          <a:stretch/>
        </p:blipFill>
        <p:spPr>
          <a:xfrm>
            <a:off x="1116000" y="2276640"/>
            <a:ext cx="61437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02" name="AutoShape 11"/>
          <p:cNvSpPr/>
          <p:nvPr/>
        </p:nvSpPr>
        <p:spPr>
          <a:xfrm>
            <a:off x="7667640" y="5516640"/>
            <a:ext cx="1081080" cy="11142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14200"/>
              <a:gd name="textAreaBottom" fmla="*/ 1044360 h 1114200"/>
            </a:gdLst>
            <a:ahLst/>
            <a:rect l="textAreaLeft" t="textAreaTop" r="textAreaRight" b="textAreaBottom"/>
            <a:pathLst>
              <a:path w="21600" h="22262">
                <a:moveTo>
                  <a:pt x="0" y="0"/>
                </a:moveTo>
                <a:lnTo>
                  <a:pt x="21600" y="0"/>
                </a:lnTo>
                <a:lnTo>
                  <a:pt x="21600" y="22262"/>
                </a:lnTo>
                <a:lnTo>
                  <a:pt x="0" y="22262"/>
                </a:lnTo>
                <a:close/>
              </a:path>
              <a:path fill="lightenLess" w="21600" h="22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62">
                <a:moveTo>
                  <a:pt x="21600" y="0"/>
                </a:moveTo>
                <a:lnTo>
                  <a:pt x="21600" y="22262"/>
                </a:lnTo>
                <a:lnTo>
                  <a:pt x="20200" y="20862"/>
                </a:lnTo>
                <a:lnTo>
                  <a:pt x="20200" y="1400"/>
                </a:lnTo>
                <a:close/>
              </a:path>
              <a:path fill="darkenLess" w="21600" h="22262">
                <a:moveTo>
                  <a:pt x="21600" y="22262"/>
                </a:moveTo>
                <a:lnTo>
                  <a:pt x="0" y="22262"/>
                </a:lnTo>
                <a:lnTo>
                  <a:pt x="1400" y="20862"/>
                </a:lnTo>
                <a:lnTo>
                  <a:pt x="20200" y="20862"/>
                </a:lnTo>
                <a:close/>
              </a:path>
              <a:path fill="lighten" w="21600" h="22262">
                <a:moveTo>
                  <a:pt x="0" y="22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WordArt 10"/>
          <p:cNvSpPr txBox="1"/>
          <p:nvPr/>
        </p:nvSpPr>
        <p:spPr>
          <a:xfrm>
            <a:off x="3708360" y="1052640"/>
            <a:ext cx="36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3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4" name="Прямоугольник 8"/>
          <p:cNvSpPr/>
          <p:nvPr/>
        </p:nvSpPr>
        <p:spPr>
          <a:xfrm>
            <a:off x="395280" y="2637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уди скомандував піти синьомордам Кл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06" name="AutoShape 10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WordArt 9"/>
          <p:cNvSpPr txBox="1"/>
          <p:nvPr/>
        </p:nvSpPr>
        <p:spPr>
          <a:xfrm>
            <a:off x="2987640" y="836640"/>
            <a:ext cx="554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8" name="Text Box 11"/>
          <p:cNvSpPr/>
          <p:nvPr/>
        </p:nvSpPr>
        <p:spPr>
          <a:xfrm>
            <a:off x="4356000" y="220500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о капс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7" descr="C:\Users\Админ\Desktop\Вороніна\1042895-i_014.jpg"/>
          <p:cNvPicPr/>
          <p:nvPr/>
        </p:nvPicPr>
        <p:blipFill>
          <a:blip r:embed="rId2"/>
          <a:stretch/>
        </p:blipFill>
        <p:spPr>
          <a:xfrm>
            <a:off x="1258920" y="2060640"/>
            <a:ext cx="2671560" cy="38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72" name="AutoShape 6">
            <a:hlinkClick r:id="" action="ppaction://hlinkshowjump?jump=nextslide"/>
          </p:cNvPr>
          <p:cNvSpPr/>
          <p:nvPr/>
        </p:nvSpPr>
        <p:spPr>
          <a:xfrm>
            <a:off x="971640" y="1916280"/>
            <a:ext cx="936360" cy="10810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37">
                <a:moveTo>
                  <a:pt x="0" y="0"/>
                </a:moveTo>
                <a:lnTo>
                  <a:pt x="21600" y="0"/>
                </a:lnTo>
                <a:lnTo>
                  <a:pt x="21600" y="24937"/>
                </a:lnTo>
                <a:lnTo>
                  <a:pt x="0" y="24937"/>
                </a:lnTo>
                <a:close/>
              </a:path>
              <a:path fill="lightenLess" w="21600" h="249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7">
                <a:moveTo>
                  <a:pt x="21600" y="0"/>
                </a:moveTo>
                <a:lnTo>
                  <a:pt x="21600" y="24937"/>
                </a:lnTo>
                <a:lnTo>
                  <a:pt x="20200" y="23537"/>
                </a:lnTo>
                <a:lnTo>
                  <a:pt x="20200" y="1400"/>
                </a:lnTo>
                <a:close/>
              </a:path>
              <a:path fill="darkenLess" w="21600" h="24937">
                <a:moveTo>
                  <a:pt x="21600" y="24937"/>
                </a:moveTo>
                <a:lnTo>
                  <a:pt x="0" y="24937"/>
                </a:lnTo>
                <a:lnTo>
                  <a:pt x="1400" y="23537"/>
                </a:lnTo>
                <a:lnTo>
                  <a:pt x="20200" y="23537"/>
                </a:lnTo>
                <a:close/>
              </a:path>
              <a:path fill="lighten" w="21600" h="24937">
                <a:moveTo>
                  <a:pt x="0" y="249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9">
            <a:hlinkClick r:id="rId2" action="ppaction://hlinksldjump"/>
          </p:cNvPr>
          <p:cNvSpPr/>
          <p:nvPr/>
        </p:nvSpPr>
        <p:spPr>
          <a:xfrm>
            <a:off x="1908000" y="1916280"/>
            <a:ext cx="1008360" cy="108108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81080"/>
              <a:gd name="textAreaBottom" fmla="*/ 1015920 h 108108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">
            <a:hlinkClick r:id="rId3" action="ppaction://hlinksldjump"/>
          </p:cNvPr>
          <p:cNvSpPr/>
          <p:nvPr/>
        </p:nvSpPr>
        <p:spPr>
          <a:xfrm>
            <a:off x="2916360" y="1916280"/>
            <a:ext cx="934920" cy="108108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76">
                <a:moveTo>
                  <a:pt x="0" y="0"/>
                </a:moveTo>
                <a:lnTo>
                  <a:pt x="21600" y="0"/>
                </a:lnTo>
                <a:lnTo>
                  <a:pt x="21600" y="24976"/>
                </a:lnTo>
                <a:lnTo>
                  <a:pt x="0" y="24976"/>
                </a:lnTo>
                <a:close/>
              </a:path>
              <a:path fill="lightenLess" w="21600" h="24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76">
                <a:moveTo>
                  <a:pt x="21600" y="0"/>
                </a:moveTo>
                <a:lnTo>
                  <a:pt x="21600" y="24976"/>
                </a:lnTo>
                <a:lnTo>
                  <a:pt x="20200" y="23576"/>
                </a:lnTo>
                <a:lnTo>
                  <a:pt x="20200" y="1400"/>
                </a:lnTo>
                <a:close/>
              </a:path>
              <a:path fill="darkenLess" w="21600" h="24976">
                <a:moveTo>
                  <a:pt x="21600" y="24976"/>
                </a:moveTo>
                <a:lnTo>
                  <a:pt x="0" y="24976"/>
                </a:lnTo>
                <a:lnTo>
                  <a:pt x="1400" y="23576"/>
                </a:lnTo>
                <a:lnTo>
                  <a:pt x="20200" y="23576"/>
                </a:lnTo>
                <a:close/>
              </a:path>
              <a:path fill="lighten" w="21600" h="24976">
                <a:moveTo>
                  <a:pt x="0" y="24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7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18">
            <a:hlinkClick r:id="rId4" action="ppaction://hlinksldjump"/>
          </p:cNvPr>
          <p:cNvSpPr/>
          <p:nvPr/>
        </p:nvSpPr>
        <p:spPr>
          <a:xfrm>
            <a:off x="3851280" y="1916280"/>
            <a:ext cx="1008000" cy="10810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81080"/>
              <a:gd name="textAreaBottom" fmla="*/ 1015920 h 1081080"/>
            </a:gdLst>
            <a:ahLst/>
            <a:rect l="textAreaLeft" t="textAreaTop" r="textAreaRight" b="textAreaBottom"/>
            <a:pathLst>
              <a:path w="21600" h="23165">
                <a:moveTo>
                  <a:pt x="0" y="0"/>
                </a:moveTo>
                <a:lnTo>
                  <a:pt x="21600" y="0"/>
                </a:lnTo>
                <a:lnTo>
                  <a:pt x="21600" y="23165"/>
                </a:lnTo>
                <a:lnTo>
                  <a:pt x="0" y="23165"/>
                </a:lnTo>
                <a:close/>
              </a:path>
              <a:path fill="lightenLess" w="21600" h="23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5">
                <a:moveTo>
                  <a:pt x="21600" y="0"/>
                </a:moveTo>
                <a:lnTo>
                  <a:pt x="21600" y="23165"/>
                </a:lnTo>
                <a:lnTo>
                  <a:pt x="20200" y="21766"/>
                </a:lnTo>
                <a:lnTo>
                  <a:pt x="20200" y="1400"/>
                </a:lnTo>
                <a:close/>
              </a:path>
              <a:path fill="darkenLess" w="21600" h="23165">
                <a:moveTo>
                  <a:pt x="21600" y="23165"/>
                </a:moveTo>
                <a:lnTo>
                  <a:pt x="0" y="23165"/>
                </a:lnTo>
                <a:lnTo>
                  <a:pt x="1400" y="21766"/>
                </a:lnTo>
                <a:lnTo>
                  <a:pt x="20200" y="21766"/>
                </a:lnTo>
                <a:close/>
              </a:path>
              <a:path fill="lighten" w="21600" h="23165">
                <a:moveTo>
                  <a:pt x="0" y="23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19">
            <a:hlinkClick r:id="rId5" action="ppaction://hlinksldjump"/>
          </p:cNvPr>
          <p:cNvSpPr/>
          <p:nvPr/>
        </p:nvSpPr>
        <p:spPr>
          <a:xfrm>
            <a:off x="971640" y="299736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20">
            <a:hlinkClick r:id="rId6" action="ppaction://hlinksldjump"/>
          </p:cNvPr>
          <p:cNvSpPr/>
          <p:nvPr/>
        </p:nvSpPr>
        <p:spPr>
          <a:xfrm>
            <a:off x="2916360" y="299736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21">
            <a:hlinkClick r:id="rId7" action="ppaction://hlinksldjump"/>
          </p:cNvPr>
          <p:cNvSpPr/>
          <p:nvPr/>
        </p:nvSpPr>
        <p:spPr>
          <a:xfrm>
            <a:off x="3851280" y="400536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22">
            <a:hlinkClick r:id="rId8" action="ppaction://hlinksldjump"/>
          </p:cNvPr>
          <p:cNvSpPr/>
          <p:nvPr/>
        </p:nvSpPr>
        <p:spPr>
          <a:xfrm>
            <a:off x="3851280" y="299736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23">
            <a:hlinkClick r:id="rId9" action="ppaction://hlinksldjump"/>
          </p:cNvPr>
          <p:cNvSpPr/>
          <p:nvPr/>
        </p:nvSpPr>
        <p:spPr>
          <a:xfrm>
            <a:off x="3851280" y="501336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24">
            <a:hlinkClick r:id="rId10" action="ppaction://hlinksldjump"/>
          </p:cNvPr>
          <p:cNvSpPr/>
          <p:nvPr/>
        </p:nvSpPr>
        <p:spPr>
          <a:xfrm>
            <a:off x="1908000" y="501336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25">
            <a:hlinkClick r:id="rId11" action="ppaction://hlinksldjump"/>
          </p:cNvPr>
          <p:cNvSpPr/>
          <p:nvPr/>
        </p:nvSpPr>
        <p:spPr>
          <a:xfrm>
            <a:off x="1908000" y="2997360"/>
            <a:ext cx="1008360" cy="1008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26">
            <a:hlinkClick r:id="rId12" action="ppaction://hlinksldjump"/>
          </p:cNvPr>
          <p:cNvSpPr/>
          <p:nvPr/>
        </p:nvSpPr>
        <p:spPr>
          <a:xfrm>
            <a:off x="971640" y="5013360"/>
            <a:ext cx="936360" cy="107964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27">
            <a:hlinkClick r:id="rId13" action="ppaction://hlinksldjump"/>
          </p:cNvPr>
          <p:cNvSpPr/>
          <p:nvPr/>
        </p:nvSpPr>
        <p:spPr>
          <a:xfrm>
            <a:off x="971640" y="400536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28">
            <a:hlinkClick r:id="rId14" action="ppaction://hlinksldjump"/>
          </p:cNvPr>
          <p:cNvSpPr/>
          <p:nvPr/>
        </p:nvSpPr>
        <p:spPr>
          <a:xfrm>
            <a:off x="2916360" y="5013360"/>
            <a:ext cx="934920" cy="1079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42">
                <a:moveTo>
                  <a:pt x="0" y="0"/>
                </a:moveTo>
                <a:lnTo>
                  <a:pt x="21600" y="0"/>
                </a:lnTo>
                <a:lnTo>
                  <a:pt x="21600" y="24942"/>
                </a:lnTo>
                <a:lnTo>
                  <a:pt x="0" y="24942"/>
                </a:lnTo>
                <a:close/>
              </a:path>
              <a:path fill="lightenLess" w="21600" h="24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42">
                <a:moveTo>
                  <a:pt x="21600" y="0"/>
                </a:moveTo>
                <a:lnTo>
                  <a:pt x="21600" y="24942"/>
                </a:lnTo>
                <a:lnTo>
                  <a:pt x="20200" y="23542"/>
                </a:lnTo>
                <a:lnTo>
                  <a:pt x="20200" y="1400"/>
                </a:lnTo>
                <a:close/>
              </a:path>
              <a:path fill="darkenLess" w="21600" h="24942">
                <a:moveTo>
                  <a:pt x="21600" y="24942"/>
                </a:moveTo>
                <a:lnTo>
                  <a:pt x="0" y="24942"/>
                </a:lnTo>
                <a:lnTo>
                  <a:pt x="1400" y="23542"/>
                </a:lnTo>
                <a:lnTo>
                  <a:pt x="20200" y="23542"/>
                </a:lnTo>
                <a:close/>
              </a:path>
              <a:path fill="lighten" w="21600" h="24942">
                <a:moveTo>
                  <a:pt x="0" y="24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42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29">
            <a:hlinkClick r:id="rId15" action="ppaction://hlinksldjump"/>
          </p:cNvPr>
          <p:cNvSpPr/>
          <p:nvPr/>
        </p:nvSpPr>
        <p:spPr>
          <a:xfrm>
            <a:off x="1908000" y="4005360"/>
            <a:ext cx="1008360" cy="1008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AutoShape 30">
            <a:hlinkClick r:id="rId16" action="ppaction://hlinksldjump"/>
          </p:cNvPr>
          <p:cNvSpPr/>
          <p:nvPr/>
        </p:nvSpPr>
        <p:spPr>
          <a:xfrm>
            <a:off x="2916360" y="400536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35"/>
          <p:cNvSpPr/>
          <p:nvPr/>
        </p:nvSpPr>
        <p:spPr>
          <a:xfrm>
            <a:off x="123984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36"/>
          <p:cNvSpPr/>
          <p:nvPr/>
        </p:nvSpPr>
        <p:spPr>
          <a:xfrm>
            <a:off x="3205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WordArt 27"/>
          <p:cNvSpPr txBox="1"/>
          <p:nvPr/>
        </p:nvSpPr>
        <p:spPr>
          <a:xfrm>
            <a:off x="2627280" y="476280"/>
            <a:ext cx="61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ри номер запитання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1" name="Picture 23" descr="C:\Users\Админ\Desktop\Вороніна\058_Tajemne_tovarystvo_bojaguziv_ta_brehuniv_Lesia_Voronyna.jpg"/>
          <p:cNvPicPr/>
          <p:nvPr/>
        </p:nvPicPr>
        <p:blipFill>
          <a:blip r:embed="rId17"/>
          <a:stretch/>
        </p:blipFill>
        <p:spPr>
          <a:xfrm>
            <a:off x="5435640" y="1916280"/>
            <a:ext cx="3048120" cy="41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11" name="AutoShape 13"/>
          <p:cNvSpPr/>
          <p:nvPr/>
        </p:nvSpPr>
        <p:spPr>
          <a:xfrm>
            <a:off x="7667640" y="5373720"/>
            <a:ext cx="1081080" cy="1042920"/>
          </a:xfrm>
          <a:custGeom>
            <a:avLst/>
            <a:gdLst>
              <a:gd name="textAreaLeft" fmla="*/ 67320 w 1081080"/>
              <a:gd name="textAreaRight" fmla="*/ 1013760 w 10810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390" h="21600">
                <a:moveTo>
                  <a:pt x="0" y="0"/>
                </a:moveTo>
                <a:lnTo>
                  <a:pt x="22390" y="0"/>
                </a:lnTo>
                <a:lnTo>
                  <a:pt x="22390" y="21600"/>
                </a:lnTo>
                <a:lnTo>
                  <a:pt x="0" y="21600"/>
                </a:lnTo>
                <a:close/>
              </a:path>
              <a:path fill="lightenLess" w="22390" h="21600">
                <a:moveTo>
                  <a:pt x="0" y="0"/>
                </a:moveTo>
                <a:lnTo>
                  <a:pt x="22390" y="0"/>
                </a:lnTo>
                <a:lnTo>
                  <a:pt x="20990" y="1400"/>
                </a:lnTo>
                <a:lnTo>
                  <a:pt x="1400" y="1400"/>
                </a:lnTo>
                <a:close/>
              </a:path>
              <a:path fill="darken" w="22390" h="21600">
                <a:moveTo>
                  <a:pt x="22390" y="0"/>
                </a:moveTo>
                <a:lnTo>
                  <a:pt x="22390" y="21600"/>
                </a:lnTo>
                <a:lnTo>
                  <a:pt x="20990" y="20200"/>
                </a:lnTo>
                <a:lnTo>
                  <a:pt x="20990" y="1400"/>
                </a:lnTo>
                <a:close/>
              </a:path>
              <a:path fill="darkenLess" w="22390" h="21600">
                <a:moveTo>
                  <a:pt x="2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90" y="20200"/>
                </a:lnTo>
                <a:close/>
              </a:path>
              <a:path fill="lighten" w="2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WordArt 11"/>
          <p:cNvSpPr txBox="1"/>
          <p:nvPr/>
        </p:nvSpPr>
        <p:spPr>
          <a:xfrm>
            <a:off x="3780000" y="907920"/>
            <a:ext cx="36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4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1116000" y="1700280"/>
            <a:ext cx="69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13"/>
          <p:cNvSpPr/>
          <p:nvPr/>
        </p:nvSpPr>
        <p:spPr>
          <a:xfrm>
            <a:off x="250920" y="2205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Жук і Заєць  в кінці твору вирішили виступати в …</a:t>
            </a:r>
            <a:r>
              <a:rPr b="1" lang="uk-UA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16" name="AutoShape 10"/>
          <p:cNvSpPr/>
          <p:nvPr/>
        </p:nvSpPr>
        <p:spPr>
          <a:xfrm>
            <a:off x="7667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0"/>
          <p:cNvSpPr txBox="1"/>
          <p:nvPr/>
        </p:nvSpPr>
        <p:spPr>
          <a:xfrm>
            <a:off x="2916360" y="620640"/>
            <a:ext cx="55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8" name="Text Box 11"/>
          <p:cNvSpPr/>
          <p:nvPr/>
        </p:nvSpPr>
        <p:spPr>
          <a:xfrm>
            <a:off x="1619280" y="184464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Цир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9" name="Picture 8" descr="Картинки по запросу цирк"/>
          <p:cNvPicPr/>
          <p:nvPr/>
        </p:nvPicPr>
        <p:blipFill>
          <a:blip r:embed="rId2"/>
          <a:stretch/>
        </p:blipFill>
        <p:spPr>
          <a:xfrm>
            <a:off x="1116000" y="3068640"/>
            <a:ext cx="68673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21" name="AutoShape 11"/>
          <p:cNvSpPr/>
          <p:nvPr/>
        </p:nvSpPr>
        <p:spPr>
          <a:xfrm>
            <a:off x="7740720" y="5516640"/>
            <a:ext cx="1081080" cy="11142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14200"/>
              <a:gd name="textAreaBottom" fmla="*/ 1044360 h 1114200"/>
            </a:gdLst>
            <a:ahLst/>
            <a:rect l="textAreaLeft" t="textAreaTop" r="textAreaRight" b="textAreaBottom"/>
            <a:pathLst>
              <a:path w="21600" h="22262">
                <a:moveTo>
                  <a:pt x="0" y="0"/>
                </a:moveTo>
                <a:lnTo>
                  <a:pt x="21600" y="0"/>
                </a:lnTo>
                <a:lnTo>
                  <a:pt x="21600" y="22262"/>
                </a:lnTo>
                <a:lnTo>
                  <a:pt x="0" y="22262"/>
                </a:lnTo>
                <a:close/>
              </a:path>
              <a:path fill="lightenLess" w="21600" h="22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62">
                <a:moveTo>
                  <a:pt x="21600" y="0"/>
                </a:moveTo>
                <a:lnTo>
                  <a:pt x="21600" y="22262"/>
                </a:lnTo>
                <a:lnTo>
                  <a:pt x="20200" y="20862"/>
                </a:lnTo>
                <a:lnTo>
                  <a:pt x="20200" y="1400"/>
                </a:lnTo>
                <a:close/>
              </a:path>
              <a:path fill="darkenLess" w="21600" h="22262">
                <a:moveTo>
                  <a:pt x="21600" y="22262"/>
                </a:moveTo>
                <a:lnTo>
                  <a:pt x="0" y="22262"/>
                </a:lnTo>
                <a:lnTo>
                  <a:pt x="1400" y="20862"/>
                </a:lnTo>
                <a:lnTo>
                  <a:pt x="20200" y="20862"/>
                </a:lnTo>
                <a:close/>
              </a:path>
              <a:path fill="lighten" w="21600" h="22262">
                <a:moveTo>
                  <a:pt x="0" y="22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WordArt 10"/>
          <p:cNvSpPr txBox="1"/>
          <p:nvPr/>
        </p:nvSpPr>
        <p:spPr>
          <a:xfrm>
            <a:off x="3635280" y="1052640"/>
            <a:ext cx="36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5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3" name="Text Box 12"/>
          <p:cNvSpPr/>
          <p:nvPr/>
        </p:nvSpPr>
        <p:spPr>
          <a:xfrm>
            <a:off x="973800" y="2852640"/>
            <a:ext cx="69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1" lang="uk-UA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чівники пустелі - ц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25" name="AutoShape 11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12"/>
          <p:cNvSpPr/>
          <p:nvPr/>
        </p:nvSpPr>
        <p:spPr>
          <a:xfrm>
            <a:off x="2627280" y="1628640"/>
            <a:ext cx="369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рб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WordArt 10"/>
          <p:cNvSpPr txBox="1"/>
          <p:nvPr/>
        </p:nvSpPr>
        <p:spPr>
          <a:xfrm>
            <a:off x="2843280" y="549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8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971640" y="2637000"/>
            <a:ext cx="57150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30" name="AutoShape 11"/>
          <p:cNvSpPr/>
          <p:nvPr/>
        </p:nvSpPr>
        <p:spPr>
          <a:xfrm>
            <a:off x="7596360" y="5300640"/>
            <a:ext cx="1079280" cy="1187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187640"/>
              <a:gd name="textAreaBottom" fmla="*/ 1117800 h 1187640"/>
            </a:gdLst>
            <a:ahLst/>
            <a:rect l="textAreaLeft" t="textAreaTop" r="textAreaRight" b="textAreaBottom"/>
            <a:pathLst>
              <a:path w="21600" h="23768">
                <a:moveTo>
                  <a:pt x="0" y="0"/>
                </a:moveTo>
                <a:lnTo>
                  <a:pt x="21600" y="0"/>
                </a:lnTo>
                <a:lnTo>
                  <a:pt x="21600" y="23768"/>
                </a:lnTo>
                <a:lnTo>
                  <a:pt x="0" y="23768"/>
                </a:lnTo>
                <a:close/>
              </a:path>
              <a:path fill="lightenLess" w="21600" h="23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8">
                <a:moveTo>
                  <a:pt x="21600" y="0"/>
                </a:moveTo>
                <a:lnTo>
                  <a:pt x="21600" y="23768"/>
                </a:lnTo>
                <a:lnTo>
                  <a:pt x="20200" y="22368"/>
                </a:lnTo>
                <a:lnTo>
                  <a:pt x="20200" y="1400"/>
                </a:lnTo>
                <a:close/>
              </a:path>
              <a:path fill="darkenLess" w="21600" h="23768">
                <a:moveTo>
                  <a:pt x="21600" y="23768"/>
                </a:moveTo>
                <a:lnTo>
                  <a:pt x="0" y="23768"/>
                </a:lnTo>
                <a:lnTo>
                  <a:pt x="1400" y="22368"/>
                </a:lnTo>
                <a:lnTo>
                  <a:pt x="20200" y="22368"/>
                </a:lnTo>
                <a:close/>
              </a:path>
              <a:path fill="lighten" w="21600" h="23768">
                <a:moveTo>
                  <a:pt x="0" y="23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WordArt 10"/>
          <p:cNvSpPr txBox="1"/>
          <p:nvPr/>
        </p:nvSpPr>
        <p:spPr>
          <a:xfrm>
            <a:off x="3276720" y="981000"/>
            <a:ext cx="36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6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2" name="Text Box 11"/>
          <p:cNvSpPr/>
          <p:nvPr/>
        </p:nvSpPr>
        <p:spPr>
          <a:xfrm>
            <a:off x="250920" y="2492280"/>
            <a:ext cx="85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рямоугольник 7"/>
          <p:cNvSpPr/>
          <p:nvPr/>
        </p:nvSpPr>
        <p:spPr>
          <a:xfrm>
            <a:off x="468360" y="270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кому інструменті гра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ько Клим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35" name="Text Box 10"/>
          <p:cNvSpPr/>
          <p:nvPr/>
        </p:nvSpPr>
        <p:spPr>
          <a:xfrm>
            <a:off x="1476360" y="1700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рим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WordArt 10"/>
          <p:cNvSpPr txBox="1"/>
          <p:nvPr/>
        </p:nvSpPr>
        <p:spPr>
          <a:xfrm>
            <a:off x="2843280" y="549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7" name="Picture 8" descr="Картинки по запросу дримба"/>
          <p:cNvPicPr/>
          <p:nvPr/>
        </p:nvPicPr>
        <p:blipFill>
          <a:blip r:embed="rId2"/>
          <a:stretch/>
        </p:blipFill>
        <p:spPr>
          <a:xfrm>
            <a:off x="468360" y="2768760"/>
            <a:ext cx="3598920" cy="318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8" name="Picture 10" descr="Картинки по запросу дримба"/>
          <p:cNvPicPr/>
          <p:nvPr/>
        </p:nvPicPr>
        <p:blipFill>
          <a:blip r:embed="rId3"/>
          <a:stretch/>
        </p:blipFill>
        <p:spPr>
          <a:xfrm>
            <a:off x="4356000" y="2744640"/>
            <a:ext cx="4248360" cy="319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2" descr="38138089_1cda3e6ff787"/>
          <p:cNvPicPr/>
          <p:nvPr/>
        </p:nvPicPr>
        <p:blipFill>
          <a:blip r:embed="rId2"/>
          <a:stretch/>
        </p:blipFill>
        <p:spPr>
          <a:xfrm>
            <a:off x="3564000" y="378936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541" name="Прямоугольник 7" descr=""/>
          <p:cNvPicPr/>
          <p:nvPr/>
        </p:nvPicPr>
        <p:blipFill>
          <a:blip r:embed="rId3"/>
          <a:stretch/>
        </p:blipFill>
        <p:spPr>
          <a:xfrm>
            <a:off x="1401840" y="2494080"/>
            <a:ext cx="702288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93" name="AutoShape 11">
            <a:hlinkClick r:id="" action="ppaction://hlinkshowjump?jump=nextslide"/>
          </p:cNvPr>
          <p:cNvSpPr/>
          <p:nvPr/>
        </p:nvSpPr>
        <p:spPr>
          <a:xfrm>
            <a:off x="7667640" y="5516640"/>
            <a:ext cx="1224000" cy="107928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95" h="21600">
                <a:moveTo>
                  <a:pt x="0" y="0"/>
                </a:moveTo>
                <a:lnTo>
                  <a:pt x="24495" y="0"/>
                </a:lnTo>
                <a:lnTo>
                  <a:pt x="24495" y="21600"/>
                </a:lnTo>
                <a:lnTo>
                  <a:pt x="0" y="21600"/>
                </a:lnTo>
                <a:close/>
              </a:path>
              <a:path fill="lightenLess" w="24495" h="21600">
                <a:moveTo>
                  <a:pt x="0" y="0"/>
                </a:moveTo>
                <a:lnTo>
                  <a:pt x="24495" y="0"/>
                </a:lnTo>
                <a:lnTo>
                  <a:pt x="23095" y="1400"/>
                </a:lnTo>
                <a:lnTo>
                  <a:pt x="1400" y="1400"/>
                </a:lnTo>
                <a:close/>
              </a:path>
              <a:path fill="darken" w="24495" h="21600">
                <a:moveTo>
                  <a:pt x="24495" y="0"/>
                </a:moveTo>
                <a:lnTo>
                  <a:pt x="24495" y="21600"/>
                </a:lnTo>
                <a:lnTo>
                  <a:pt x="23095" y="20200"/>
                </a:lnTo>
                <a:lnTo>
                  <a:pt x="23095" y="1400"/>
                </a:lnTo>
                <a:close/>
              </a:path>
              <a:path fill="darkenLess" w="24495" h="21600">
                <a:moveTo>
                  <a:pt x="24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5" y="20200"/>
                </a:lnTo>
                <a:close/>
              </a:path>
              <a:path fill="lighten" w="24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WordArt 11"/>
          <p:cNvSpPr txBox="1"/>
          <p:nvPr/>
        </p:nvSpPr>
        <p:spPr>
          <a:xfrm>
            <a:off x="3851280" y="692280"/>
            <a:ext cx="36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5" name="Прямоугольник 7"/>
          <p:cNvSpPr/>
          <p:nvPr/>
        </p:nvSpPr>
        <p:spPr>
          <a:xfrm>
            <a:off x="395280" y="2637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М'язи Сашка Смика порівнюються з м'язами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97" name="AutoShape 16">
            <a:hlinkClick r:id="rId2" action="ppaction://hlinksldjump"/>
          </p:cNvPr>
          <p:cNvSpPr/>
          <p:nvPr/>
        </p:nvSpPr>
        <p:spPr>
          <a:xfrm>
            <a:off x="7020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WordArt 11"/>
          <p:cNvSpPr txBox="1"/>
          <p:nvPr/>
        </p:nvSpPr>
        <p:spPr>
          <a:xfrm>
            <a:off x="2484360" y="981000"/>
            <a:ext cx="561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9" name="Text Box 12"/>
          <p:cNvSpPr/>
          <p:nvPr/>
        </p:nvSpPr>
        <p:spPr>
          <a:xfrm>
            <a:off x="900000" y="50133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рценегг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11" descr="Картинки по запросу шварценеггер"/>
          <p:cNvPicPr/>
          <p:nvPr/>
        </p:nvPicPr>
        <p:blipFill>
          <a:blip r:embed="rId3"/>
          <a:stretch/>
        </p:blipFill>
        <p:spPr>
          <a:xfrm>
            <a:off x="2050920" y="2276640"/>
            <a:ext cx="460872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03" name="AutoShape 11">
            <a:hlinkClick r:id="rId2" action="ppaction://hlinksldjump"/>
          </p:cNvPr>
          <p:cNvSpPr/>
          <p:nvPr/>
        </p:nvSpPr>
        <p:spPr>
          <a:xfrm>
            <a:off x="7524720" y="5516640"/>
            <a:ext cx="1225440" cy="1116000"/>
          </a:xfrm>
          <a:custGeom>
            <a:avLst/>
            <a:gdLst>
              <a:gd name="textAreaLeft" fmla="*/ 72000 w 1225440"/>
              <a:gd name="textAreaRight" fmla="*/ 1153440 w 1225440"/>
              <a:gd name="textAreaTop" fmla="*/ 72000 h 1116000"/>
              <a:gd name="textAreaBottom" fmla="*/ 1044000 h 1116000"/>
            </a:gdLst>
            <a:ahLst/>
            <a:rect l="textAreaLeft" t="textAreaTop" r="textAreaRight" b="textAreaBottom"/>
            <a:pathLst>
              <a:path w="23718" h="21600">
                <a:moveTo>
                  <a:pt x="0" y="0"/>
                </a:moveTo>
                <a:lnTo>
                  <a:pt x="23718" y="0"/>
                </a:lnTo>
                <a:lnTo>
                  <a:pt x="23718" y="21600"/>
                </a:lnTo>
                <a:lnTo>
                  <a:pt x="0" y="21600"/>
                </a:lnTo>
                <a:close/>
              </a:path>
              <a:path fill="lightenLess" w="23718" h="21600">
                <a:moveTo>
                  <a:pt x="0" y="0"/>
                </a:moveTo>
                <a:lnTo>
                  <a:pt x="23718" y="0"/>
                </a:lnTo>
                <a:lnTo>
                  <a:pt x="22318" y="1400"/>
                </a:lnTo>
                <a:lnTo>
                  <a:pt x="1400" y="1400"/>
                </a:lnTo>
                <a:close/>
              </a:path>
              <a:path fill="darken" w="23718" h="21600">
                <a:moveTo>
                  <a:pt x="23718" y="0"/>
                </a:moveTo>
                <a:lnTo>
                  <a:pt x="23718" y="21600"/>
                </a:lnTo>
                <a:lnTo>
                  <a:pt x="22318" y="20200"/>
                </a:lnTo>
                <a:lnTo>
                  <a:pt x="22318" y="1400"/>
                </a:lnTo>
                <a:close/>
              </a:path>
              <a:path fill="darkenLess" w="23718" h="21600">
                <a:moveTo>
                  <a:pt x="23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8" y="20200"/>
                </a:lnTo>
                <a:close/>
              </a:path>
              <a:path fill="lighten" w="23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WordArt 9"/>
          <p:cNvSpPr txBox="1"/>
          <p:nvPr/>
        </p:nvSpPr>
        <p:spPr>
          <a:xfrm>
            <a:off x="3851280" y="836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2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5" name="Text Box 10"/>
          <p:cNvSpPr/>
          <p:nvPr/>
        </p:nvSpPr>
        <p:spPr>
          <a:xfrm>
            <a:off x="395280" y="2708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На якому музичному інструменті гр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головний герой тв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07" name="AutoShape 10">
            <a:hlinkClick r:id="rId2" action="ppaction://hlinksldjump"/>
          </p:cNvPr>
          <p:cNvSpPr/>
          <p:nvPr/>
        </p:nvSpPr>
        <p:spPr>
          <a:xfrm>
            <a:off x="7380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WordArt 9"/>
          <p:cNvSpPr txBox="1"/>
          <p:nvPr/>
        </p:nvSpPr>
        <p:spPr>
          <a:xfrm>
            <a:off x="2700360" y="90792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9" name="Text Box 10"/>
          <p:cNvSpPr/>
          <p:nvPr/>
        </p:nvSpPr>
        <p:spPr>
          <a:xfrm>
            <a:off x="4932360" y="2637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Скрип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10" descr="Картинки по запросу скрипка"/>
          <p:cNvPicPr/>
          <p:nvPr/>
        </p:nvPicPr>
        <p:blipFill>
          <a:blip r:embed="rId3"/>
          <a:stretch/>
        </p:blipFill>
        <p:spPr>
          <a:xfrm>
            <a:off x="1258920" y="2133720"/>
            <a:ext cx="25239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12" name="AutoShape 15">
            <a:hlinkClick r:id="rId2" action="ppaction://hlinksldjump"/>
          </p:cNvPr>
          <p:cNvSpPr/>
          <p:nvPr/>
        </p:nvSpPr>
        <p:spPr>
          <a:xfrm>
            <a:off x="7451640" y="5445000"/>
            <a:ext cx="1368360" cy="1116000"/>
          </a:xfrm>
          <a:custGeom>
            <a:avLst/>
            <a:gdLst>
              <a:gd name="textAreaLeft" fmla="*/ 72000 w 1368360"/>
              <a:gd name="textAreaRight" fmla="*/ 1296360 w 1368360"/>
              <a:gd name="textAreaTop" fmla="*/ 72000 h 1116000"/>
              <a:gd name="textAreaBottom" fmla="*/ 1044000 h 1116000"/>
            </a:gdLst>
            <a:ahLst/>
            <a:rect l="textAreaLeft" t="textAreaTop" r="textAreaRight" b="textAreaBottom"/>
            <a:pathLst>
              <a:path w="26483" h="21600">
                <a:moveTo>
                  <a:pt x="0" y="0"/>
                </a:moveTo>
                <a:lnTo>
                  <a:pt x="26483" y="0"/>
                </a:lnTo>
                <a:lnTo>
                  <a:pt x="26483" y="21600"/>
                </a:lnTo>
                <a:lnTo>
                  <a:pt x="0" y="21600"/>
                </a:lnTo>
                <a:close/>
              </a:path>
              <a:path fill="lightenLess" w="26483" h="21600">
                <a:moveTo>
                  <a:pt x="0" y="0"/>
                </a:moveTo>
                <a:lnTo>
                  <a:pt x="26483" y="0"/>
                </a:lnTo>
                <a:lnTo>
                  <a:pt x="25083" y="1400"/>
                </a:lnTo>
                <a:lnTo>
                  <a:pt x="1400" y="1400"/>
                </a:lnTo>
                <a:close/>
              </a:path>
              <a:path fill="darken" w="26483" h="21600">
                <a:moveTo>
                  <a:pt x="26483" y="0"/>
                </a:moveTo>
                <a:lnTo>
                  <a:pt x="26483" y="21600"/>
                </a:lnTo>
                <a:lnTo>
                  <a:pt x="25083" y="20200"/>
                </a:lnTo>
                <a:lnTo>
                  <a:pt x="25083" y="1400"/>
                </a:lnTo>
                <a:close/>
              </a:path>
              <a:path fill="darkenLess" w="26483" h="21600">
                <a:moveTo>
                  <a:pt x="26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3" y="20200"/>
                </a:lnTo>
                <a:close/>
              </a:path>
              <a:path fill="lighten" w="26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WordArt 12"/>
          <p:cNvSpPr txBox="1"/>
          <p:nvPr/>
        </p:nvSpPr>
        <p:spPr>
          <a:xfrm>
            <a:off x="3564000" y="836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3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4" name="Прямоугольник 7"/>
          <p:cNvSpPr/>
          <p:nvPr/>
        </p:nvSpPr>
        <p:spPr>
          <a:xfrm>
            <a:off x="468360" y="2637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 кого мав грати пісеньку Клим, стоячи під ба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16" name="AutoShape 10">
            <a:hlinkClick r:id="rId2" action="ppaction://hlinksldjump"/>
          </p:cNvPr>
          <p:cNvSpPr/>
          <p:nvPr/>
        </p:nvSpPr>
        <p:spPr>
          <a:xfrm>
            <a:off x="7812000" y="5445000"/>
            <a:ext cx="1079640" cy="10810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10800" y="3851"/>
                </a:moveTo>
                <a:lnTo>
                  <a:pt x="13376" y="6463"/>
                </a:lnTo>
                <a:lnTo>
                  <a:pt x="13376" y="4722"/>
                </a:lnTo>
                <a:lnTo>
                  <a:pt x="15152" y="4722"/>
                </a:lnTo>
                <a:lnTo>
                  <a:pt x="15152" y="8238"/>
                </a:lnTo>
                <a:lnTo>
                  <a:pt x="17763" y="10814"/>
                </a:lnTo>
                <a:lnTo>
                  <a:pt x="16109" y="10814"/>
                </a:lnTo>
                <a:lnTo>
                  <a:pt x="16109" y="18004"/>
                </a:lnTo>
                <a:lnTo>
                  <a:pt x="5491" y="18004"/>
                </a:lnTo>
                <a:lnTo>
                  <a:pt x="5491" y="10814"/>
                </a:lnTo>
                <a:lnTo>
                  <a:pt x="3837" y="10814"/>
                </a:lnTo>
                <a:close/>
              </a:path>
              <a:path fill="darkenLess" w="21600" h="21629">
                <a:moveTo>
                  <a:pt x="13376" y="6463"/>
                </a:moveTo>
                <a:lnTo>
                  <a:pt x="13376" y="4722"/>
                </a:lnTo>
                <a:lnTo>
                  <a:pt x="15152" y="4722"/>
                </a:lnTo>
                <a:lnTo>
                  <a:pt x="15152" y="8238"/>
                </a:lnTo>
                <a:close/>
              </a:path>
              <a:path fill="darkenLess" w="21600" h="21629">
                <a:moveTo>
                  <a:pt x="9877" y="14313"/>
                </a:moveTo>
                <a:lnTo>
                  <a:pt x="11723" y="14313"/>
                </a:lnTo>
                <a:lnTo>
                  <a:pt x="11723" y="18004"/>
                </a:lnTo>
                <a:lnTo>
                  <a:pt x="16109" y="18004"/>
                </a:lnTo>
                <a:lnTo>
                  <a:pt x="16109" y="10814"/>
                </a:lnTo>
                <a:lnTo>
                  <a:pt x="5491" y="10814"/>
                </a:lnTo>
                <a:lnTo>
                  <a:pt x="5491" y="18004"/>
                </a:lnTo>
                <a:lnTo>
                  <a:pt x="9877" y="1800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0"/>
          <p:cNvSpPr/>
          <p:nvPr/>
        </p:nvSpPr>
        <p:spPr>
          <a:xfrm>
            <a:off x="4356000" y="27082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айбак.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WordArt 9"/>
          <p:cNvSpPr txBox="1"/>
          <p:nvPr/>
        </p:nvSpPr>
        <p:spPr>
          <a:xfrm>
            <a:off x="2700360" y="90792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9" name="Picture 9" descr="Картинки по запросу байбак"/>
          <p:cNvPicPr/>
          <p:nvPr/>
        </p:nvPicPr>
        <p:blipFill>
          <a:blip r:embed="rId3"/>
          <a:stretch/>
        </p:blipFill>
        <p:spPr>
          <a:xfrm>
            <a:off x="900000" y="22050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8:21:29Z</dcterms:created>
  <dc:creator>Дом</dc:creator>
  <dc:description/>
  <dc:language>en-US</dc:language>
  <cp:lastModifiedBy>Наталия Приступа</cp:lastModifiedBy>
  <dcterms:modified xsi:type="dcterms:W3CDTF">2020-03-23T15:32:36Z</dcterms:modified>
  <cp:revision>51</cp:revision>
  <dc:subject/>
  <dc:title>Слайд 1</dc:title>
</cp:coreProperties>
</file>