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1E7-E9DA-4933-976D-CE8DA0C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440-1F2F-4C55-BAED-1684B91E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8AD-1F8A-4085-B77D-70C041C3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4DC-DB11-401A-99BE-0860B1D1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860-A4DA-4137-82C8-5732C796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F54-92F3-4572-A191-5DBB5682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2AA-B7E6-4D6E-9D29-29BF67A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51E-41A8-439D-B706-D096152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6B9-44AB-414D-94EB-AFB5E955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809-6BF7-443F-9958-46B74C7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272-E417-4E58-89D8-6E4922ED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D2D-C866-4E5E-B5CD-A468291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3BC-7BF7-4990-B138-CBA6ADF5CF74}" type="slidenum">
              <a:rPr b="1" i="1" lang="uk-UA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341360"/>
            <a:ext cx="735804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ff"/>
                </a:solidFill>
                <a:latin typeface="Century Schoolbook"/>
              </a:rPr>
              <a:t>Презентація методичної роботи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187280" y="4869000"/>
            <a:ext cx="2378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Реалізація індивідуальної форми робо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15960" y="5950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загальнення досвіду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44680" y="3502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моосві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786200" y="3502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ставництво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30840" y="5950080"/>
            <a:ext cx="33130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сультації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0755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0066ff"/>
                </a:solidFill>
                <a:latin typeface="Bookman Old Style"/>
              </a:rPr>
              <a:t>Реалізація загальношкільних і групових форм робо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84360" y="3502080"/>
            <a:ext cx="316692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едметні тижні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435640" y="3502080"/>
            <a:ext cx="3240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испути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87640" y="6093000"/>
            <a:ext cx="3311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ференції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538200" y="2708280"/>
            <a:ext cx="338616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дагогічна виставка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643280" y="2709720"/>
            <a:ext cx="34578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сідання творчої груп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2643120" y="5929200"/>
            <a:ext cx="34578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нкурс “Учитель року”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Форми організації методичної робо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348000" y="2676600"/>
            <a:ext cx="2057400" cy="1257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3505320" y="2959200"/>
            <a:ext cx="171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Методич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рада школ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1014480" y="166680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WordArt 14"/>
          <p:cNvSpPr txBox="1"/>
          <p:nvPr/>
        </p:nvSpPr>
        <p:spPr>
          <a:xfrm>
            <a:off x="1243080" y="200988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Творч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зві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586480" y="166680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AutoShape 16"/>
          <p:cNvSpPr/>
          <p:nvPr/>
        </p:nvSpPr>
        <p:spPr>
          <a:xfrm>
            <a:off x="611280" y="414972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6156360" y="4005360"/>
            <a:ext cx="194292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WordArt 18"/>
          <p:cNvSpPr txBox="1"/>
          <p:nvPr/>
        </p:nvSpPr>
        <p:spPr>
          <a:xfrm>
            <a:off x="5700600" y="1895400"/>
            <a:ext cx="171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Предмет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тиж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5" name="WordArt 19"/>
          <p:cNvSpPr txBox="1"/>
          <p:nvPr/>
        </p:nvSpPr>
        <p:spPr>
          <a:xfrm>
            <a:off x="853920" y="4365720"/>
            <a:ext cx="1486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Відкри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уро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6" name="WordArt 20"/>
          <p:cNvSpPr txBox="1"/>
          <p:nvPr/>
        </p:nvSpPr>
        <p:spPr>
          <a:xfrm>
            <a:off x="6254640" y="4221000"/>
            <a:ext cx="1486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Робота на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метод темою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7" name="AutoShape 21"/>
          <p:cNvSpPr/>
          <p:nvPr/>
        </p:nvSpPr>
        <p:spPr>
          <a:xfrm>
            <a:off x="2500200" y="5148360"/>
            <a:ext cx="3543480" cy="1089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WordArt 22"/>
          <p:cNvSpPr txBox="1"/>
          <p:nvPr/>
        </p:nvSpPr>
        <p:spPr>
          <a:xfrm>
            <a:off x="2728800" y="5491080"/>
            <a:ext cx="308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Georgia"/>
              </a:rPr>
              <a:t>Методичні об’єдна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Georgia"/>
              <a:ea typeface="Georgia"/>
            </a:endParaRPr>
          </a:p>
        </p:txBody>
      </p:sp>
      <p:sp>
        <p:nvSpPr>
          <p:cNvPr id="169" name="Line 34"/>
          <p:cNvSpPr/>
          <p:nvPr/>
        </p:nvSpPr>
        <p:spPr>
          <a:xfrm flipH="1" flipV="1">
            <a:off x="2957040" y="2124000"/>
            <a:ext cx="139860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Line 35"/>
          <p:cNvSpPr/>
          <p:nvPr/>
        </p:nvSpPr>
        <p:spPr>
          <a:xfrm flipV="1">
            <a:off x="4356000" y="2124000"/>
            <a:ext cx="123048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Line 36"/>
          <p:cNvSpPr/>
          <p:nvPr/>
        </p:nvSpPr>
        <p:spPr>
          <a:xfrm>
            <a:off x="4356000" y="378936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Line 37"/>
          <p:cNvSpPr/>
          <p:nvPr/>
        </p:nvSpPr>
        <p:spPr>
          <a:xfrm flipH="1">
            <a:off x="2556000" y="378936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Line 38"/>
          <p:cNvSpPr/>
          <p:nvPr/>
        </p:nvSpPr>
        <p:spPr>
          <a:xfrm>
            <a:off x="4356000" y="378936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Методичні об</a:t>
            </a:r>
            <a:r>
              <a:rPr b="1" i="1" lang="en-US" sz="4400" spc="-1" strike="noStrike">
                <a:solidFill>
                  <a:srgbClr val="0066ff"/>
                </a:solidFill>
                <a:latin typeface="Bookman Old Style"/>
              </a:rPr>
              <a:t>’</a:t>
            </a: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єдн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0920" y="14126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Це об'єднання вчителів як одного предмета, так і декількох, котре націлене на конкретне переосмислення загальнодидактичних, загально-педагогічних положень стосовно конкретного уроку або виховного захо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і теми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их об</a:t>
            </a:r>
            <a:r>
              <a:rPr b="1" i="1" lang="en-US" sz="3400" spc="-1" strike="noStrike">
                <a:solidFill>
                  <a:srgbClr val="0066ff"/>
                </a:solidFill>
                <a:latin typeface="Bookman Old Style"/>
              </a:rPr>
              <a:t>’</a:t>
            </a: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єднан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360" y="126792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Початкових клас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ормування творчої активності молодших школярів в умовах запровадження Концепції нової української школи”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Природничо-математичного цик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ормування професійної мобільності вчителів природничо-математичного циклу в умовах запровадження Концепції нової української ш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Суспільно-гуманітарного цик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Формування потреби різнобічного розвитку здібностей і нахилів школярів в умовах запровадження Концепції нової української ш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Технолого-естетичного цик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Творча самореалізація та духовно-естетичне самовдосконалення школярів  в умовах запровадження Концепції нової української ш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ff"/>
                </a:solidFill>
                <a:uFillTx/>
                <a:latin typeface="Georgia"/>
              </a:rPr>
              <a:t>Класних керівни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“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вання і розвиток соціально-активної, гуманістично- спрямованої особистості для розвитку мобільності учнів в умовах     запровадження Концепції нової української школи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Склад 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ої ради школ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56800" y="1417680"/>
            <a:ext cx="76438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енко Ю.В., заступник директора з навчальної роботи – голова методичної ра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рюкова А.І., вчитель іноземної мови  – секрета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и методичної рад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 О.В., керівник методичного об′єднання природничо-математичного циклу, вчитель мате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нко Л.С., керівник методичного об′єднання початкових класів, вчитель початкових клас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ут А.М., керівник методичного об′єднання суспільно-гуманітарного циклу, вчитель української мов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нець І.В., заступник директора з навчально-виховної роботи, практичний психоло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енко І.В., керівник методичного об′єднання технолого-естетичного циклу, вчитель фізичної культу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пкасова К.С., керівник методичного об′єднання класних керівників, учитель хімії та біолог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Робота з молодими вчителями</a:t>
            </a:r>
            <a:r>
              <a:rPr b="1" i="1" lang="uk-UA" sz="3400" spc="-1" strike="noStrike">
                <a:solidFill>
                  <a:srgbClr val="c0504d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4360" y="1599840"/>
            <a:ext cx="7775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Справжнім учителем мож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стати після кількох років робо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в хорошому педагогічному колектив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А. Макарен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man Old Style"/>
              </a:rPr>
              <a:t>З чого ж починається ця діяльність? Спочатку для визначення структури та планування методичної роботи з молодими спеціалістами здійснюється діагностування, а також ознайомлення з необхідною первинною інформацією. Потім – анкетування, яке дає змогу виявити труднощі в роботі молодих колег та сконцентрувати діяльність на подолання недолі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66ff"/>
                </a:solidFill>
                <a:latin typeface="Bookman Old Style"/>
              </a:rPr>
              <a:t>Школа молодого вчител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Запровадження ЕП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71640" y="1844280"/>
            <a:ext cx="561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Суть керівництва сучасною школою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полягає в тому, щоб у найважчій справ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привселюдно створювався, дозрівав 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Запроваджувався найкращий досвід на основі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передових педагогічних ід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6600"/>
                </a:solidFill>
                <a:latin typeface="Times New Roman"/>
              </a:rPr>
              <a:t>В.Сухомлинськ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3399"/>
                </a:solidFill>
                <a:latin typeface="Bookman Old Style"/>
              </a:rPr>
              <a:t>Ефективний педагогічний досвід –</a:t>
            </a: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це результат творчої діяльності педагога з елементами новизни, спрямований на виконання актуальних завдань навчання і вихо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900000" y="1389240"/>
            <a:ext cx="3279960" cy="24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Методична робота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456920"/>
            <a:ext cx="761832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0000"/>
                </a:solidFill>
                <a:latin typeface="Bookman Old Style"/>
              </a:rPr>
              <a:t>це складний творчий процес, якому притаманні свої закономірності, мета і завдання, тому й будується ця робота за схемою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3357720"/>
            <a:ext cx="309744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Діагностуванн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042920" y="4076640"/>
            <a:ext cx="309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Контроль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042920" y="4797360"/>
            <a:ext cx="309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Виявлення проблем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42920" y="5516640"/>
            <a:ext cx="3097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етодична діяльність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5364000" y="3139920"/>
            <a:ext cx="3168720" cy="3168720"/>
          </a:xfrm>
          <a:prstGeom prst="verticalScroll">
            <a:avLst>
              <a:gd name="adj" fmla="val 12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НАВЧАЛЬНО-</a:t>
            </a:r>
            <a:endParaRPr b="1" i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ВИХОВНИЙ </a:t>
            </a:r>
            <a:endParaRPr b="1" i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Bookman Old Style"/>
              </a:rPr>
              <a:t>ПРОЦЕС</a:t>
            </a:r>
            <a:endParaRPr b="1" i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5560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556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55600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4140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138560" y="429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140360" y="501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14036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Форми і методи розповсюдження досвід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4"/>
          <p:cNvSpPr/>
          <p:nvPr/>
        </p:nvSpPr>
        <p:spPr>
          <a:xfrm rot="10800000">
            <a:off x="684000" y="1915920"/>
            <a:ext cx="2879640" cy="1512720"/>
          </a:xfrm>
          <a:prstGeom prst="cloudCallout">
            <a:avLst>
              <a:gd name="adj1" fmla="val -82143"/>
              <a:gd name="adj2" fmla="val 77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едагогічна рада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AutoShape 5"/>
          <p:cNvSpPr/>
          <p:nvPr/>
        </p:nvSpPr>
        <p:spPr>
          <a:xfrm rot="10800000">
            <a:off x="1476000" y="3860280"/>
            <a:ext cx="3097080" cy="1654200"/>
          </a:xfrm>
          <a:prstGeom prst="cloudCallout">
            <a:avLst>
              <a:gd name="adj1" fmla="val -46157"/>
              <a:gd name="adj2" fmla="val 1928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Творчі звіти вчителів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AutoShape 6"/>
          <p:cNvSpPr/>
          <p:nvPr/>
        </p:nvSpPr>
        <p:spPr>
          <a:xfrm rot="10800000">
            <a:off x="4787640" y="4149360"/>
            <a:ext cx="3095640" cy="1654200"/>
          </a:xfrm>
          <a:prstGeom prst="cloudCallout">
            <a:avLst>
              <a:gd name="adj1" fmla="val 86458"/>
              <a:gd name="adj2" fmla="val 1973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Теоретичні та практичні семінар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0" name="AutoShape 7"/>
          <p:cNvSpPr/>
          <p:nvPr/>
        </p:nvSpPr>
        <p:spPr>
          <a:xfrm flipH="1" rot="10800000">
            <a:off x="5039280" y="2061720"/>
            <a:ext cx="2987640" cy="1654200"/>
          </a:xfrm>
          <a:prstGeom prst="cloudCallout">
            <a:avLst>
              <a:gd name="adj1" fmla="val -65412"/>
              <a:gd name="adj2" fmla="val 84064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Шкільні методичні об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єднанн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Bookman Old Style"/>
              </a:rPr>
              <a:t>Атест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- це неперервний процес та очікуване педагогом задоволення базової, професійної, концептуальної потреби – потреби у визнанні, у конструктивній само- і взаємооцінці себе і всієї діяльн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ED00019_"/>
          <p:cNvPicPr/>
          <p:nvPr/>
        </p:nvPicPr>
        <p:blipFill>
          <a:blip r:embed="rId1"/>
          <a:stretch/>
        </p:blipFill>
        <p:spPr>
          <a:xfrm>
            <a:off x="1116000" y="4975200"/>
            <a:ext cx="15843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Bookman Old Style"/>
              </a:rPr>
              <a:t>Форми атестації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26920" y="5373720"/>
            <a:ext cx="7777440" cy="792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ВЧУС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1979640" y="4581360"/>
            <a:ext cx="6624720" cy="792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АПРОБ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276720" y="3789360"/>
            <a:ext cx="5327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ЗАПРОВАДЖ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4572000" y="2997360"/>
            <a:ext cx="4032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РОПАГ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651640" y="2205000"/>
            <a:ext cx="2952720" cy="7923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ДЕМОНСТР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6659640" y="1413000"/>
            <a:ext cx="1944720" cy="79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ДРУКУЮ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AutoShape 12"/>
          <p:cNvSpPr/>
          <p:nvPr/>
        </p:nvSpPr>
        <p:spPr>
          <a:xfrm rot="3423600">
            <a:off x="3282120" y="-318240"/>
            <a:ext cx="720720" cy="6973920"/>
          </a:xfrm>
          <a:prstGeom prst="upArrow">
            <a:avLst>
              <a:gd name="adj1" fmla="val 50000"/>
              <a:gd name="adj2" fmla="val 241908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08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Творчий учитель</a:t>
            </a:r>
            <a:r>
              <a:rPr b="1" i="1" lang="uk-U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57160" y="404280"/>
            <a:ext cx="750096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Monotype Corsiva"/>
              </a:rPr>
              <a:t>У праці – честь і добре ім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’</a:t>
            </a:r>
            <a:r>
              <a:rPr b="1" i="1" lang="uk-UA" sz="3600" spc="-1" strike="noStrike">
                <a:solidFill>
                  <a:srgbClr val="0000ff"/>
                </a:solidFill>
                <a:latin typeface="Monotype Corsiva"/>
              </a:rPr>
              <a:t>я людини. Будь майстром, поетом, художником у справі, яку ти любиш. Немає такої професії, в якій людина не змогла б піднятись на вершини майстерност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Bookman Old Style"/>
              </a:rPr>
              <a:t>В. Сухомлинський</a:t>
            </a:r>
            <a:r>
              <a:rPr b="0" lang="uk-UA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C:\Users\User\Desktop\784259453.gif"/>
          <p:cNvPicPr/>
          <p:nvPr/>
        </p:nvPicPr>
        <p:blipFill>
          <a:blip r:embed="rId1"/>
          <a:stretch/>
        </p:blipFill>
        <p:spPr>
          <a:xfrm>
            <a:off x="1071720" y="4643280"/>
            <a:ext cx="23810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Структура 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методичної робо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635280" y="2924280"/>
            <a:ext cx="2160720" cy="1152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етодичн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рада 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348000" y="1628640"/>
            <a:ext cx="2448000" cy="649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едагогічна рад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6157800" y="1628640"/>
            <a:ext cx="2301840" cy="64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Наради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ри директорові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156360" y="2637000"/>
            <a:ext cx="2303280" cy="16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Форми роботи: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едконференції;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- педконсультації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611280" y="2708280"/>
            <a:ext cx="2665440" cy="165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ланування роботи;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Засідання МР.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1619280" y="4653000"/>
            <a:ext cx="2521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508720" y="4581360"/>
            <a:ext cx="2376360" cy="79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етодичні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об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єднанн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684360" y="5661000"/>
            <a:ext cx="1728720" cy="934920"/>
          </a:xfrm>
          <a:prstGeom prst="hexagon">
            <a:avLst>
              <a:gd name="adj" fmla="val 46226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ол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ЕПД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2700360" y="5661000"/>
            <a:ext cx="1871640" cy="934920"/>
          </a:xfrm>
          <a:prstGeom prst="hexagon">
            <a:avLst>
              <a:gd name="adj" fmla="val 50048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ол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олодого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вчител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4788000" y="5661000"/>
            <a:ext cx="1871640" cy="934920"/>
          </a:xfrm>
          <a:prstGeom prst="hexagon">
            <a:avLst>
              <a:gd name="adj" fmla="val 50048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Творчі груп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6804000" y="5661000"/>
            <a:ext cx="1728720" cy="934920"/>
          </a:xfrm>
          <a:prstGeom prst="hexagon">
            <a:avLst>
              <a:gd name="adj" fmla="val 46226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кільні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МО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579600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18"/>
          <p:cNvSpPr/>
          <p:nvPr/>
        </p:nvSpPr>
        <p:spPr>
          <a:xfrm flipV="1">
            <a:off x="4572000" y="2276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579600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Line 20"/>
          <p:cNvSpPr/>
          <p:nvPr/>
        </p:nvSpPr>
        <p:spPr>
          <a:xfrm flipH="1">
            <a:off x="327636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Line 21"/>
          <p:cNvSpPr/>
          <p:nvPr/>
        </p:nvSpPr>
        <p:spPr>
          <a:xfrm flipH="1">
            <a:off x="2771280" y="393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4572000" y="393372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Line 23"/>
          <p:cNvSpPr/>
          <p:nvPr/>
        </p:nvSpPr>
        <p:spPr>
          <a:xfrm flipH="1">
            <a:off x="1692000" y="544500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2843280" y="544500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5796000" y="5373720"/>
            <a:ext cx="936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6659640" y="5373720"/>
            <a:ext cx="1297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Функції методичної </a:t>
            </a:r>
            <a:br>
              <a:rPr sz="3400"/>
            </a:b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роботи у школ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763640" y="1413000"/>
            <a:ext cx="5688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ІАГНОСТИКА ПЕДАГОГІЧНИХ КАДРІВ 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2276640"/>
            <a:ext cx="2808000" cy="158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Мета, завдання МР –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тановлення, розвиток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та вдосконалення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едагогічної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творчої майстерності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вчителя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203640" y="4149720"/>
            <a:ext cx="295272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езультати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діагностування педкадрів –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творення, визначення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тратегії розвитку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едколективу школи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116000" y="6021360"/>
            <a:ext cx="7128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ідвищення рівня начальних досягнень учнів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64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24000" y="2205000"/>
            <a:ext cx="2736720" cy="352908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529080"/>
              <a:gd name="textAreaBottom" fmla="*/ 3395520 h 3529080"/>
            </a:gdLst>
            <a:ahLst/>
            <a:rect l="textAreaLeft" t="textAreaTop" r="textAreaRight" b="textAreaBottom"/>
            <a:pathLst>
              <a:path w="21600" h="27853">
                <a:moveTo>
                  <a:pt x="3600" y="0"/>
                </a:moveTo>
                <a:arcTo wR="3600" hR="3600" stAng="16200000" swAng="-5400000"/>
                <a:lnTo>
                  <a:pt x="0" y="24253"/>
                </a:lnTo>
                <a:arcTo wR="3600" hR="3600" stAng="10800000" swAng="-5400000"/>
                <a:lnTo>
                  <a:pt x="18000" y="27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99cc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ff"/>
                </a:solidFill>
                <a:latin typeface="Times New Roman"/>
              </a:rPr>
              <a:t>ЗМІСТ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відпрацювання цінностей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особистості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кожного вчителя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удосконалення професійної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майстерності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підвищення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педагогічної культури та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педагогічної технік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оволодіння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інноваційними методами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навчання та виховання.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6300720" y="2205000"/>
            <a:ext cx="2664000" cy="3529080"/>
          </a:xfrm>
          <a:custGeom>
            <a:avLst/>
            <a:gdLst>
              <a:gd name="textAreaLeft" fmla="*/ 129960 w 2664000"/>
              <a:gd name="textAreaRight" fmla="*/ 2534040 w 2664000"/>
              <a:gd name="textAreaTop" fmla="*/ 129960 h 3529080"/>
              <a:gd name="textAreaBottom" fmla="*/ 3399120 h 3529080"/>
            </a:gdLst>
            <a:ahLst/>
            <a:rect l="textAreaLeft" t="textAreaTop" r="textAreaRight" b="textAreaBottom"/>
            <a:pathLst>
              <a:path w="21600" h="28613">
                <a:moveTo>
                  <a:pt x="3600" y="0"/>
                </a:moveTo>
                <a:arcTo wR="3600" hR="3600" stAng="16200000" swAng="-5400000"/>
                <a:lnTo>
                  <a:pt x="0" y="25013"/>
                </a:lnTo>
                <a:arcTo wR="3600" hR="3600" stAng="10800000" swAng="-5400000"/>
                <a:lnTo>
                  <a:pt x="18000" y="28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99ccff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ff"/>
                </a:solidFill>
                <a:latin typeface="Times New Roman"/>
              </a:rPr>
              <a:t>ФОРМИ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курси підвищення 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кваліфікації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предметі МО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проблемні семінар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семінари-практикум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методичні тижні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виставк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конференції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фахові конкурси;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- творчі групи</a:t>
            </a:r>
            <a:endParaRPr b="1" i="1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00ff"/>
                </a:solidFill>
                <a:latin typeface="Bookman Old Style"/>
              </a:rPr>
              <a:t>Працюємо над темою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2428560"/>
            <a:ext cx="771552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ення професійного рівня педагогів з метою підвищення результативності навчально-виховного процесу в умовах запровадження Концепції нової української школи</a:t>
            </a: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66ff"/>
                </a:solidFill>
                <a:latin typeface="Bookman Old Style"/>
              </a:rPr>
              <a:t>Схема реалізації методичної проблеми школ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>
            <a:lum contrast="12000"/>
          </a:blip>
          <a:srcRect l="0" t="17289" r="0" b="0"/>
          <a:stretch/>
        </p:blipFill>
        <p:spPr>
          <a:xfrm>
            <a:off x="684360" y="1844640"/>
            <a:ext cx="784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8"/>
          <p:cNvSpPr/>
          <p:nvPr/>
        </p:nvSpPr>
        <p:spPr>
          <a:xfrm>
            <a:off x="2195640" y="1341360"/>
            <a:ext cx="4752720" cy="3959280"/>
          </a:xfrm>
          <a:prstGeom prst="pie">
            <a:avLst/>
          </a:prstGeom>
          <a:gradFill rotWithShape="0">
            <a:gsLst>
              <a:gs pos="0">
                <a:srgbClr val="ccffcc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ff"/>
                </a:solidFill>
                <a:latin typeface="Bookman Old Style"/>
              </a:rPr>
              <a:t>Принципи </a:t>
            </a:r>
            <a:br>
              <a:rPr sz="2400"/>
            </a:br>
            <a:r>
              <a:rPr b="1" i="1" lang="uk-UA" sz="2400" spc="-1" strike="noStrike">
                <a:solidFill>
                  <a:srgbClr val="0066ff"/>
                </a:solidFill>
                <a:latin typeface="Bookman Old Style"/>
              </a:rPr>
              <a:t>методичної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ff"/>
                </a:solidFill>
                <a:latin typeface="Bookman Old Style"/>
              </a:rPr>
              <a:t>роботи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WordArt 9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11"/>
          <p:cNvSpPr txBox="1"/>
          <p:nvPr/>
        </p:nvSpPr>
        <p:spPr>
          <a:xfrm rot="19521600">
            <a:off x="4716360" y="5013000"/>
            <a:ext cx="356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ультура знань 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оральні цінн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8" name="WordArt 12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99" name="WordArt 13"/>
          <p:cNvSpPr txBox="1"/>
          <p:nvPr/>
        </p:nvSpPr>
        <p:spPr>
          <a:xfrm rot="3028800">
            <a:off x="1207800" y="4848120"/>
            <a:ext cx="2590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Індивідуальні +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олектив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форми 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0" name="WordArt 14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WordArt 15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WordArt 16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3" name="WordArt 17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4" name="WordArt 18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5" name="WordArt 19"/>
          <p:cNvSpPr txBox="1"/>
          <p:nvPr/>
        </p:nvSpPr>
        <p:spPr>
          <a:xfrm rot="19521600">
            <a:off x="4716360" y="5013000"/>
            <a:ext cx="356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ультура знань 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оральні цінн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6" name="WordArt 20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7" name="WordArt 21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8" name="WordArt 22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09" name="WordArt 23"/>
          <p:cNvSpPr txBox="1"/>
          <p:nvPr/>
        </p:nvSpPr>
        <p:spPr>
          <a:xfrm rot="3028800">
            <a:off x="1207800" y="4848120"/>
            <a:ext cx="2590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Індивідуальні +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олективн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форми 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0" name="WordArt 24"/>
          <p:cNvSpPr txBox="1"/>
          <p:nvPr/>
        </p:nvSpPr>
        <p:spPr>
          <a:xfrm rot="19521600">
            <a:off x="4716360" y="5013000"/>
            <a:ext cx="3564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Культура знань 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оральні цінності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1" name="WordArt 25"/>
          <p:cNvSpPr txBox="1"/>
          <p:nvPr/>
        </p:nvSpPr>
        <p:spPr>
          <a:xfrm rot="3529800">
            <a:off x="5991120" y="2585880"/>
            <a:ext cx="2664000" cy="46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Науков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2" name="WordArt 26"/>
          <p:cNvSpPr txBox="1"/>
          <p:nvPr/>
        </p:nvSpPr>
        <p:spPr>
          <a:xfrm>
            <a:off x="3276720" y="404640"/>
            <a:ext cx="296208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актичн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спрямован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113" name="WordArt 27"/>
          <p:cNvSpPr txBox="1"/>
          <p:nvPr/>
        </p:nvSpPr>
        <p:spPr>
          <a:xfrm rot="18658200">
            <a:off x="188640" y="2410920"/>
            <a:ext cx="296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Прогностичні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 rot="19619400">
            <a:off x="1834920" y="271116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208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044720" y="2295720"/>
            <a:ext cx="2158560" cy="34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AutoShape 6"/>
          <p:cNvSpPr/>
          <p:nvPr/>
        </p:nvSpPr>
        <p:spPr>
          <a:xfrm rot="2347200">
            <a:off x="6251400" y="4506840"/>
            <a:ext cx="1582920" cy="1152720"/>
          </a:xfrm>
          <a:custGeom>
            <a:avLst/>
            <a:gdLst>
              <a:gd name="textAreaLeft" fmla="*/ 0 w 1582920"/>
              <a:gd name="textAreaRight" fmla="*/ 1583280 w 158292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5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AutoShape 7"/>
          <p:cNvSpPr/>
          <p:nvPr/>
        </p:nvSpPr>
        <p:spPr>
          <a:xfrm rot="19499400">
            <a:off x="1093320" y="4451040"/>
            <a:ext cx="1584360" cy="1150920"/>
          </a:xfrm>
          <a:custGeom>
            <a:avLst/>
            <a:gdLst>
              <a:gd name="textAreaLeft" fmla="*/ 0 w 1584360"/>
              <a:gd name="textAreaRight" fmla="*/ 1584720 w 158436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210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5520600" y="2457720"/>
            <a:ext cx="2426760" cy="331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4284720" y="1557360"/>
            <a:ext cx="0" cy="41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276720" y="260280"/>
            <a:ext cx="2087280" cy="1800360"/>
          </a:xfrm>
          <a:custGeom>
            <a:avLst/>
            <a:gdLst>
              <a:gd name="textAreaLeft" fmla="*/ 476280 w 2087280"/>
              <a:gd name="textAreaRight" fmla="*/ 1611000 w 2087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1619280" y="5157720"/>
            <a:ext cx="5616720" cy="1484280"/>
          </a:xfrm>
          <a:prstGeom prst="cloudCallout">
            <a:avLst>
              <a:gd name="adj1" fmla="val -54976"/>
              <a:gd name="adj2" fmla="val 50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Bookman Old Style"/>
              </a:rPr>
              <a:t>Форми методичної роботи</a:t>
            </a:r>
            <a:endParaRPr b="1" i="1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AutoShape 14"/>
          <p:cNvSpPr/>
          <p:nvPr/>
        </p:nvSpPr>
        <p:spPr>
          <a:xfrm rot="19619400">
            <a:off x="178920" y="314136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208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AutoShape 15"/>
          <p:cNvSpPr/>
          <p:nvPr/>
        </p:nvSpPr>
        <p:spPr>
          <a:xfrm rot="2290200">
            <a:off x="5635440" y="2823840"/>
            <a:ext cx="1441440" cy="1152360"/>
          </a:xfrm>
          <a:custGeom>
            <a:avLst/>
            <a:gdLst>
              <a:gd name="textAreaLeft" fmla="*/ 0 w 1441440"/>
              <a:gd name="textAreaRight" fmla="*/ 1441800 w 144144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6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AutoShape 16"/>
          <p:cNvSpPr/>
          <p:nvPr/>
        </p:nvSpPr>
        <p:spPr>
          <a:xfrm rot="2110200">
            <a:off x="7381440" y="292428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7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7021440" y="836640"/>
            <a:ext cx="2087640" cy="180036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0" y="765000"/>
            <a:ext cx="2087640" cy="180036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4284720" y="4005360"/>
            <a:ext cx="1584360" cy="115236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2700360" y="3716280"/>
            <a:ext cx="1584360" cy="1152720"/>
          </a:xfrm>
          <a:custGeom>
            <a:avLst/>
            <a:gdLst>
              <a:gd name="textAreaLeft" fmla="*/ 0 w 1584360"/>
              <a:gd name="textAreaRight" fmla="*/ 1584720 w 158436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4284720" y="220500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WordArt 24"/>
          <p:cNvSpPr txBox="1"/>
          <p:nvPr/>
        </p:nvSpPr>
        <p:spPr>
          <a:xfrm rot="19546800">
            <a:off x="428760" y="1196640"/>
            <a:ext cx="12636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Групов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форм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1" name="WordArt 25"/>
          <p:cNvSpPr txBox="1"/>
          <p:nvPr/>
        </p:nvSpPr>
        <p:spPr>
          <a:xfrm rot="2031600">
            <a:off x="7348320" y="1228680"/>
            <a:ext cx="1406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Індиві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дуальн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форм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2" name="WordArt 26"/>
          <p:cNvSpPr txBox="1"/>
          <p:nvPr/>
        </p:nvSpPr>
        <p:spPr>
          <a:xfrm>
            <a:off x="3635280" y="692280"/>
            <a:ext cx="144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Загально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шкільн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форм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3" name="WordArt 27"/>
          <p:cNvSpPr txBox="1"/>
          <p:nvPr/>
        </p:nvSpPr>
        <p:spPr>
          <a:xfrm rot="19546800">
            <a:off x="314280" y="3336480"/>
            <a:ext cx="1378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Творчі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груп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4" name="WordArt 28"/>
          <p:cNvSpPr txBox="1"/>
          <p:nvPr/>
        </p:nvSpPr>
        <p:spPr>
          <a:xfrm rot="19546800">
            <a:off x="1249200" y="4581000"/>
            <a:ext cx="137808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Школ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ПП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5" name="WordArt 29"/>
          <p:cNvSpPr txBox="1"/>
          <p:nvPr/>
        </p:nvSpPr>
        <p:spPr>
          <a:xfrm rot="19546800">
            <a:off x="1836360" y="2854080"/>
            <a:ext cx="152244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заємовід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ідуван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урокі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6" name="WordArt 30"/>
          <p:cNvSpPr txBox="1"/>
          <p:nvPr/>
        </p:nvSpPr>
        <p:spPr>
          <a:xfrm>
            <a:off x="4356000" y="2349360"/>
            <a:ext cx="109080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Нарад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7" name="AutoShape 31"/>
          <p:cNvSpPr/>
          <p:nvPr/>
        </p:nvSpPr>
        <p:spPr>
          <a:xfrm rot="1909200">
            <a:off x="2987280" y="184428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00ff00"/>
              </a:gs>
              <a:gs pos="100000">
                <a:srgbClr val="ccffcc"/>
              </a:gs>
            </a:gsLst>
            <a:lin ang="169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WordArt 32"/>
          <p:cNvSpPr txBox="1"/>
          <p:nvPr/>
        </p:nvSpPr>
        <p:spPr>
          <a:xfrm>
            <a:off x="4356000" y="4221000"/>
            <a:ext cx="1440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Конференції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39" name="WordArt 33"/>
          <p:cNvSpPr txBox="1"/>
          <p:nvPr/>
        </p:nvSpPr>
        <p:spPr>
          <a:xfrm rot="2235000">
            <a:off x="3005280" y="1989000"/>
            <a:ext cx="1090440" cy="5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Диспу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0" name="WordArt 34"/>
          <p:cNvSpPr txBox="1"/>
          <p:nvPr/>
        </p:nvSpPr>
        <p:spPr>
          <a:xfrm>
            <a:off x="2771640" y="3860640"/>
            <a:ext cx="14400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Робота над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методтемою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1" name="WordArt 35"/>
          <p:cNvSpPr txBox="1"/>
          <p:nvPr/>
        </p:nvSpPr>
        <p:spPr>
          <a:xfrm rot="2578800">
            <a:off x="5673240" y="3141720"/>
            <a:ext cx="1368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амоосві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2" name="WordArt 36"/>
          <p:cNvSpPr txBox="1"/>
          <p:nvPr/>
        </p:nvSpPr>
        <p:spPr>
          <a:xfrm rot="2578800">
            <a:off x="6300360" y="4723920"/>
            <a:ext cx="14400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3" name="WordArt 37"/>
          <p:cNvSpPr txBox="1"/>
          <p:nvPr/>
        </p:nvSpPr>
        <p:spPr>
          <a:xfrm rot="2578800">
            <a:off x="7430760" y="3131640"/>
            <a:ext cx="14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Узагальненн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досвід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1:01:46Z</dcterms:created>
  <dc:creator>User</dc:creator>
  <dc:description/>
  <dc:language>en-US</dc:language>
  <cp:lastModifiedBy>Сергей</cp:lastModifiedBy>
  <dcterms:modified xsi:type="dcterms:W3CDTF">2016-11-12T19:16:33Z</dcterms:modified>
  <cp:revision>69</cp:revision>
  <dc:subject/>
  <dc:title>Слайд 1</dc:title>
</cp:coreProperties>
</file>