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wmf" ContentType="image/x-wmf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2F2-35ED-4FC4-AA3A-BE4927D2BA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7FB-3144-44F8-BD95-3293F179E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102-BDEB-42EB-8125-1A607E23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3AC-8D64-47D9-8A6E-7E85AC93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EE1C6-8A4D-4246-AD33-C947929B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B318-8965-4357-A5CD-A45F407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D9971-7E74-4E5B-B47F-D053198D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F7F76-4CF7-4F36-83B7-E64653D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AFAD-866A-484B-A638-66A7F7F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A57C5-709C-415D-BD03-76925AB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8EBD4-99BC-4343-82EC-9605624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C29E-FB16-4BE9-B55D-5D419D41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F6D0F-8674-45B1-9AE7-E02A98F6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8528F-718C-4233-BF22-95E04EF5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667-8D88-49C9-8A63-F7E0C076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F9B45-5A95-4BCA-93C2-15D38297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4510C-5AFC-4A02-8C4A-F3EBEC2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7748A-4EAF-4DB0-8FD3-F3026BE7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7FA29-1171-4EEA-9E4E-1DFEEA6F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DE5AB-D32E-4E6C-974B-223B3268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E218B-C5F2-4D82-860B-8501F3D0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02784-8665-4AA2-8A4B-3748086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F5008-3960-4466-AB72-2DD712C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85541-40E8-4399-B309-F9F19EF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99E71-70F3-44DB-ACC7-7CDE7AB0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562-935F-4C37-A7FD-BFC00336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552E2-28DE-4C28-89D7-9DEE1F0B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9F081-86D1-4787-98E2-2721C874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0CCCE-C6E1-4433-BE03-4DE42B10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301A4-36D2-404A-AE3F-CF2F2C29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88CDD-CAC4-4280-907C-3D7EA3E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AF646-6C57-4DEE-A774-F445044E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4CB17-199D-4C05-9074-53DA817A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1F331-8EC4-436C-A864-550129B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6A355-DF61-4E84-A51B-89D22F6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272DF-01E4-40B5-9478-635A3E1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F6AC-8EFB-4756-A924-261438EC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9E1EE-2258-4039-89AD-7223FEBE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17FF-EA4A-424C-8790-F674E799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6B559-B0B4-4CDC-AC60-5DF0A56A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82D56-27BF-45E8-8890-D1E3D7BE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B33F8-87C0-4D12-898C-AA6F3D1C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42B64-9C50-4BF6-B207-0BBC831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D23E7-42B3-45EA-A4DF-58DE490A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D95ED-2F2C-4E2A-A7A9-B89969AC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A470E-9735-4612-96B8-424FE7B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B33B0-2ABF-474E-A8FE-A3D7ADC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C893-B88A-42EC-BAD9-1677599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7EAEE-FACE-4245-B888-4C70CD4D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44D84-00D6-4037-9752-B2EFAC8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06DE8-B0C0-4D96-B976-373C6C0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00930-95BB-4C16-9476-1FAFA0D1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981F4-55B2-4D28-A3A2-25BC54DD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6453E-3E14-408B-814D-387AA2D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90358-4876-4B0E-8206-14EF94E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CB5A6-4DB2-4A2A-A915-7A67B8CF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BB315-8FCE-4D6E-B0EB-B0787DF0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2F988-5AAD-468D-A861-63E625C3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867-E067-43A7-A413-E3306C4E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672D8-6C7C-4266-9715-F13E609E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673D8-8B95-445A-B530-BCE5AD1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49DC2-02E1-465D-8AAD-C69AB98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FAD76-8AF1-4A6C-8798-3C7C995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6257B-509A-4BB2-ACD1-BA32944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C5267-2FF5-43D0-8259-265D2BFD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267C2-36AE-4720-996C-EB39DAB6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909EC-E8F1-49AC-A2D3-5DA61DD5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94608-A1C5-4764-821A-7538363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DF6D3-CB9F-40F1-B313-BBABD2C7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C67F-B9CF-40B5-957B-1F62DE31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1B465-8631-4942-95DC-26F285A5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89DE7-7641-432A-B271-147063C3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E0581-F7E7-407C-82E2-7327690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C8E7B-C3CB-48DB-9793-B80DE53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C7E33-3D87-4EAD-A9C8-C3E3D53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8290D-60A4-404A-984A-462440B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93F85-88D9-4287-82C7-D467E838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574D9-B867-43CE-9FE5-45C6C54D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557B1-D2A9-4E32-A198-A067700B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0E70-9F19-4405-B95B-9968B74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C314-E01E-4079-9B8E-79AC2C17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51C-CC93-4048-BB97-005C92B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195-EAB6-47E2-AA6B-4EBB5F6A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F68A-EF3A-4B3A-9CAC-90031FF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D580-11F1-4452-87A9-F01D2C0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458-072F-4EC0-8EC4-11E20B6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53B3-ED2E-4B82-98DE-77AACB14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D356-05CD-4F0E-93DA-214A6B7B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90DC-FE8D-4BB5-8D77-16978F77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5DD6-C99A-4DD5-8126-3CD97CCF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9AFD-754B-47AE-A1A5-41F9CBC2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30C7-B269-4F7A-BE0D-C4163E8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4427-D237-485B-B9C9-03CD1947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A03-DAD6-4A5B-81B2-F1875389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E425-3CE0-4BB1-A7A6-8FD96CE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CF77-45C3-4EF6-AFBB-5939898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486A-26C8-4746-910A-98CB22E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CEC9-6606-42B5-A56F-A130856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DD4D-ABEB-4ECB-AB30-F05565D8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FFF3-8230-4C15-ACAD-4192365F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EC19-B8FF-4D5B-B2A2-1763DDB7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A3AC-8985-4550-8CF5-BDBCA09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AA09-7364-41AE-BBED-D998A89D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B5C3-9A04-4269-AB62-675C316F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8AA-5702-449E-9976-5DC4B521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A58B-7E5E-49C5-8ADC-E687A9C5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1D125-6C4C-4997-A5B0-8D52202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51A9-A5F0-42E9-A7A2-CFC02318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799F-E16D-4156-9B88-0343FF6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3D93-7F70-46EE-9376-4FD056F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0CEE-039A-4FC7-AE64-E0A8BEA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F3B7-5EB6-44AD-9931-1D942EA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CD7E-6414-4960-B506-11F65A0A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8774-2EE1-4AC2-A158-EFC379CF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28AD-A754-455D-BE22-D00CF344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A3A-84AA-4C8D-A285-D7F8111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ED8F-7FB1-40F4-B4FC-950BDEA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72926-1755-421E-B360-C2E48529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A8E4F-01D7-4D98-A5D6-F92F3DD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E1DF-C81E-464E-9F7D-54521C57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AECD-DC9D-4EEC-85EE-06759750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39DE-ADA8-477E-9FE1-9D26588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8575-9DA5-4CA2-B6EC-4AB5977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EF26-D916-41A8-93A6-1D4D3B4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7DEB-13FE-4EB6-BD72-0F8406A0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11FD-73EB-45FD-B4EF-AF7F7253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8E7-F037-450C-9755-2FBF5D78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8B9C-EF14-4298-AE7C-9994AFD7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961B-8C6E-4C09-9D27-050E37BB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1F99-B8C3-43F5-98AE-6F22AEE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1EF9E-2A7D-4C03-BB65-0CC9C79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23686-C3E1-4FD0-8ADD-1B4377CA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69D6-2CDB-46AF-8DBC-0949946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DF226-5FAB-4830-98D1-BBEFE8B4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10859-1978-4F0B-97BD-F52C8FB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955B3-2FCB-4294-84A6-EF83EFB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A6BAC-BF2A-40F8-B512-80EF6B18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A1D-2753-40E6-BB4D-DBE81DF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468B-E2C1-4701-BB5E-FB53183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11C8-64EE-4AC0-910E-3C19D92E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E3F6-D4E3-4727-A58C-54046664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45EF-88BD-4A94-B0E1-28C9F516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B48E-616A-4A9C-A87C-17FDFE9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0FE2-F5C7-408B-ADBF-08839135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E6DE-9572-42B4-AFD4-CA54FA96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4764-7F65-4386-8836-6FC4441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61F2-976F-458C-87CA-8898A6E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693D-1F82-4964-A673-8750E37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A7D-41DB-40A1-A2F0-F1FB421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DD12-ED85-42E8-B23D-BA9BD4B0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D760C-048D-4371-B2D4-AC35D837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1557-72C1-4E19-8625-EAADBA1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C518-6604-4DE3-9BAA-38BC67C9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DDE87-346A-4525-90AE-877E1176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55967-E6F3-48CF-B5D5-2562563E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9684F-4929-4A4F-8077-EAC41F6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1A867-BD7A-47E4-ABF9-4E506D48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75F4-F767-4ED2-8B1A-7515CFE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5ACCB-1CB5-47A5-A32D-8FB9167B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ABF-8A50-4E4B-A9A0-9A30074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7CE5-D61B-46FE-82EF-DCA7349D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DE09-CEE6-44DB-9EB3-01B9DED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294A-94AE-4A6E-B483-011B653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ECC1-1FA1-4B79-B8FF-FF2D8D2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D03C3-6166-471C-996D-3A0E679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E35A-7862-44E9-A3BB-AB4AC4B4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738F-051D-474C-AA49-B5B45C9D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5E4AF-255D-4819-94A1-0EDAF546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1E51-3527-4062-80F5-5EAEAD62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8151-A7AF-46EC-B176-CB62125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975A-86D9-4BF8-A540-DFCFA61FADDE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E0A8-47C4-4D88-B142-4A77CD240F10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449B-5541-4D07-A4A1-C3131BA2444D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F916-AF89-4F37-90A6-9E7BBD82CF93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147-4EBD-4E1A-A634-61C3A14900A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59B9-61B7-422A-A5ED-A120C0676754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120" cy="3840480"/>
              <a:chOff x="1511640" y="1511640"/>
              <a:chExt cx="612612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12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E45-2479-464B-A593-3234C85888EA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51F-5BDA-41BA-A7C1-E3A1DC2416AB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0B5-D9BB-491A-8384-B223ED0E3E41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D0C3-A128-47B3-AA9C-6AF64258B177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F91-CEC3-49E4-A1C8-86539AE920DC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5697-2DD8-4EB9-A4DE-6304E8435D20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F97B-9379-4DD1-B971-579D65315E89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280" y="536400"/>
              <a:ext cx="8058600" cy="5772960"/>
              <a:chOff x="548280" y="536400"/>
              <a:chExt cx="805860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280" y="536400"/>
                <a:ext cx="805860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32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2F4-4B3C-42BD-87E0-B17DA22EB388}" type="slidenum">
              <a:rPr b="0" lang="ru-RU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результати навчальних досягнень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учнів школи за підсумками </a:t>
            </a:r>
            <a:br>
              <a:rPr sz="2900"/>
            </a:br>
            <a:r>
              <a:rPr b="1" lang="uk-UA" sz="2900" spc="-1" strike="noStrike">
                <a:solidFill>
                  <a:srgbClr val="002060"/>
                </a:solidFill>
                <a:latin typeface="Garamond"/>
              </a:rPr>
              <a:t>І семестру 2021/2022 навчального року</a:t>
            </a:r>
            <a:endParaRPr b="0" lang="en-US" sz="29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82864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Garamond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учнів 10-11 класів за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85880" y="2708280"/>
            <a:ext cx="76024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22" name="Объект 12"/>
          <p:cNvGraphicFramePr/>
          <p:nvPr/>
        </p:nvGraphicFramePr>
        <p:xfrm>
          <a:off x="785880" y="1700280"/>
          <a:ext cx="7781760" cy="30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700280"/>
                    <a:ext cx="77817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137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Якість знань учнів в І семестрі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2021-2022 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25" name="Диаграмма 3" descr=""/>
          <p:cNvPicPr/>
          <p:nvPr/>
        </p:nvPicPr>
        <p:blipFill>
          <a:blip r:embed="rId1"/>
          <a:stretch/>
        </p:blipFill>
        <p:spPr>
          <a:xfrm>
            <a:off x="901800" y="2060640"/>
            <a:ext cx="74134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ᐈ Логотип лаборатории рисунки, векторные картинки эмблема ..."/>
          <p:cNvPicPr/>
          <p:nvPr/>
        </p:nvPicPr>
        <p:blipFill>
          <a:blip r:embed="rId1"/>
          <a:stretch/>
        </p:blipFill>
        <p:spPr>
          <a:xfrm>
            <a:off x="2268360" y="2708280"/>
            <a:ext cx="3838680" cy="297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1628280"/>
            <a:ext cx="6554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  <a:ea typeface="Arial"/>
              </a:rPr>
              <a:t>Дякую за увагу!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transition spd="slow">
    <p:split dir="in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3"/>
          <p:cNvSpPr/>
          <p:nvPr/>
        </p:nvSpPr>
        <p:spPr>
          <a:xfrm>
            <a:off x="2340000" y="476280"/>
            <a:ext cx="59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Якість знань по рівням досягн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за </a:t>
            </a:r>
            <a:r>
              <a:rPr b="1" lang="en-US" sz="2400" spc="-1" strike="noStrike">
                <a:solidFill>
                  <a:srgbClr val="83992a"/>
                </a:solidFill>
                <a:latin typeface="Garamond"/>
              </a:rPr>
              <a:t>I </a:t>
            </a: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семестр 2021/2022 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992a"/>
                </a:solidFill>
                <a:latin typeface="Garamond"/>
              </a:rPr>
              <a:t>(кількість учнів</a:t>
            </a:r>
            <a:r>
              <a:rPr b="0" lang="uk-UA" sz="1800" spc="-1" strike="noStrike">
                <a:solidFill>
                  <a:srgbClr val="83992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352440"/>
            <a:ext cx="7920000" cy="1347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699" name="Диаграмма 1" descr=""/>
          <p:cNvPicPr/>
          <p:nvPr/>
        </p:nvPicPr>
        <p:blipFill>
          <a:blip r:embed="rId1"/>
          <a:stretch/>
        </p:blipFill>
        <p:spPr>
          <a:xfrm>
            <a:off x="755640" y="1716120"/>
            <a:ext cx="7632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160" y="260280"/>
            <a:ext cx="77835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Garamond"/>
              </a:rPr>
              <a:t>Якість знань учнів в 5-11 класах</a:t>
            </a:r>
            <a:br>
              <a:rPr sz="4000"/>
            </a:b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1" name="Диаграмма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6978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160" y="404640"/>
            <a:ext cx="792612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Середній бал по класу </a:t>
            </a: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у 5-11класах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04" name="Диаграмма 5" descr=""/>
          <p:cNvPicPr/>
          <p:nvPr/>
        </p:nvPicPr>
        <p:blipFill>
          <a:blip r:embed="rId1"/>
          <a:stretch/>
        </p:blipFill>
        <p:spPr>
          <a:xfrm>
            <a:off x="2286000" y="2060640"/>
            <a:ext cx="4572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75675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З ПРЕДМЕТІВ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  <p:graphicFrame>
        <p:nvGraphicFramePr>
          <p:cNvPr id="707" name="Объект 6"/>
          <p:cNvGraphicFramePr/>
          <p:nvPr/>
        </p:nvGraphicFramePr>
        <p:xfrm>
          <a:off x="971640" y="1268280"/>
          <a:ext cx="75913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5913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515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5-9 класів за І семестр 2021/2022 навчального року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0880" y="2060640"/>
            <a:ext cx="5318280" cy="80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1" name="Диаграмма 1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40872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8483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Порівняльний аналіз якості знань учнів 5-9 класів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 за </a:t>
            </a:r>
            <a:r>
              <a:rPr b="1" lang="en-US" sz="2800" spc="-1" strike="noStrike">
                <a:solidFill>
                  <a:srgbClr val="002060"/>
                </a:solidFill>
                <a:latin typeface="Garamond"/>
              </a:rPr>
              <a:t>I </a:t>
            </a: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еместр</a:t>
            </a:r>
            <a:br>
              <a:rPr sz="36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03280" y="3644640"/>
            <a:ext cx="709632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4" name="Диаграмма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2864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Garamond"/>
              </a:rPr>
              <a:t>Якість знань учнів  у 5-9 класах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716" name="Диаграмма 3" descr=""/>
          <p:cNvPicPr/>
          <p:nvPr/>
        </p:nvPicPr>
        <p:blipFill>
          <a:blip r:embed="rId1"/>
          <a:stretch/>
        </p:blipFill>
        <p:spPr>
          <a:xfrm>
            <a:off x="1116000" y="1414440"/>
            <a:ext cx="698508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792612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МОНІТОРИНГ ЯКОСТІ ЗНАНЬ УЧНІВ </a:t>
            </a:r>
            <a:br>
              <a:rPr sz="2800"/>
            </a:br>
            <a:r>
              <a:rPr b="1" lang="uk-UA" sz="2800" spc="-1" strike="noStrike">
                <a:solidFill>
                  <a:srgbClr val="002060"/>
                </a:solidFill>
                <a:latin typeface="Garamond"/>
              </a:rPr>
              <a:t>старшої школи за І семестр 2021/2022 навчального року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78000" y="3735000"/>
            <a:ext cx="6595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9" name="Диаграмма 1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79261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8:25:00Z</dcterms:created>
  <dc:creator>Елена Анатольевна</dc:creator>
  <dc:description/>
  <dc:language>en-US</dc:language>
  <cp:lastModifiedBy>User</cp:lastModifiedBy>
  <dcterms:modified xsi:type="dcterms:W3CDTF">2022-01-05T07:39:13Z</dcterms:modified>
  <cp:revision>99</cp:revision>
  <dc:subject/>
  <dc:title>Этикет общения</dc:title>
</cp:coreProperties>
</file>