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wmf" ContentType="image/x-wmf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2036-D515-46EA-A388-D2314AB75E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9433-A89E-47E6-95DE-4932CD481E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4560-7F38-464A-B161-B285DF5B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F08-119A-438D-AAFF-C8905C83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E969E-A849-4570-8117-93404A17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9A6B9-7932-4B7F-A49E-D4AD5B68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F8178-41B9-4566-83B1-ECE74F52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9C431-6160-414A-8C43-D8620699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C19A3-54CC-470D-A000-CCDC00EA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888E9-6FB8-45E2-B500-5757DDAF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98BAD-26AB-42C4-9FA1-4D18061C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C48CB-CD95-4A3F-82AD-65CAF7A4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ECCCA-7514-4ED0-8679-AFDB890D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FE5E8-784C-4367-A13A-0EE2E22E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1B70-B6DA-4260-BD52-DD68117A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07441-395C-4FE0-B8A8-3C288750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BE37B-1B17-4CCE-B4FB-A649AD6A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BD242-09D5-46D0-8289-C666AA41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11347-BC91-48AE-B43B-64AA4777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F661E-2F52-4A28-A77D-8A6C2EF2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22FB6-BF26-41B3-8E8A-0014CAB4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33A6B-D2A8-4F2B-A0DC-18EF5B25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FA960-0B10-4054-ADFB-84B3DB57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060FF-2F12-4620-A786-0F2042DA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B4DE6-8E1D-482D-A0AE-F881521F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1688-EFC0-4013-9887-73628EE3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2DDD0-A25F-4470-A8AC-F6631DB7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DF91E-2E07-468C-86F3-F35BD488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3463A-95E3-4ECD-9E9E-0462D531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52C31-8857-4A53-BF2B-CE1CF200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932CF-0D9C-4655-B2ED-144FFC2D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ADDBB-9375-40C9-A6E9-1B6699D0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54052-A824-4A8C-9F42-E9C576BF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B23D5-1BA4-4E58-816E-F009F0DE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F5439-1533-45E2-B81D-CE24E71E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6735A-D0D4-446B-A0FE-1F91AB93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7F83-C9FE-4B84-ABB6-FA1709DC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8CB9C-8384-48CB-A6B4-09974ED7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DAA1D-5F5B-41E7-A4C8-A8773777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8D3AE-D475-4645-8A61-18B2F418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7CDA3-2F54-4846-8B5A-5CE35C5D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821F3-C6C9-47F3-9B73-55174CEB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028E6-77AF-4B38-80DB-87674537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773D8-FC92-4C69-9129-36212971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084BC-6383-462B-8FCD-D3A68682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1CBB3-B5EF-4F3F-947B-BEC94E4A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347B2-DFEC-4627-AE97-6225D904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DA27-117D-4CB6-B392-FF3A57D8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9FB4B-07A4-4976-8C46-F350CD07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0F6E2-01A6-42EF-8708-2BA36CC2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A00F0-BFEB-4C2D-BC4F-C44130DB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3DAA6-FCB0-46BC-BF93-7C6F604A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D8482-2015-4D08-BD99-D2BD5FEB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875BC1-44C6-4DDD-B862-D7957C9F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69D9D-5276-4528-B65C-DAD24F29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3D1C7-49B0-470B-AB23-9A8BDE43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30FB7E-0540-4CC0-BA1B-A11DF5A3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24A80-3118-4635-8E01-9C09E7EE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8125-28A4-445A-BC72-07151517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296A39-86C2-46FB-BF80-0066C0B5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E8008B-C854-437B-8911-23930774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DC42B-3774-4625-A476-4E1F3B64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C4D830-0406-4508-9302-CF9B74F1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ECFAF4-2713-43BD-8495-E46CCF4A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DB5AB6-A6B6-496B-89D2-263F21B6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1474A-192C-474B-942B-1E27521A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64E6CF-D2B9-4FBB-ADFD-D2623F70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2A9416-793C-4878-B0F6-469DDD87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01B6F3-35A3-4C5C-8507-34E56F93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AEB6-A43D-432B-8BA2-30DB6EDA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2E2545-8E63-4C46-908B-994DDF70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250D76-32BF-4535-8EF6-6F806354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765B5D-687D-4031-ADB7-3E96BB6E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8057F3-67F1-46F5-A863-A0F9C72A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CC3005-8C37-4C6D-AB4A-64D2EAD6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90F9A5-CABF-4C32-86CD-4797F060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B0A217-1220-4B50-932F-DE456DBE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D2C7BA-2001-4452-B2C9-2923ED4A4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C70C19-F774-4C46-8398-EBAFAC6D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2118-8917-44D0-9667-2F6AE8A4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F381-D371-44E4-A463-386AE42F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337D-B82E-4017-9A40-F100AA1D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4A5C-733D-402F-A889-C3FB250E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2FAA-4514-40B9-830F-A6A430E6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BA62-1AAF-445D-8EB0-A0E4AB21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ECC2-157F-494A-B82D-EC4EC88E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9669-7161-41F2-B65A-F8CA6120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8AFE-CCED-41A2-99CA-554075BC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96826-8EF2-4880-8D1A-F24BCBC4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495A0-7CC1-4D1B-91F5-7431E250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3DE7C-FEF4-4615-A63E-575CEA8D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2D3AD-8209-4663-AAE6-E4E2EB31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5E564-91C3-4D34-B43C-C2EBA7F1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A2D5-AAA9-4788-9064-B131C99E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7A2F0-F21E-492C-AD92-0D6F2A1E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58F52-60F5-44EF-AB2B-AA19FECD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CC962-162B-4813-BD20-2262EC2C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D2CC7-18DB-47CD-A1A6-1F82567A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C5967-8738-4120-B003-9C7CF939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41290-52C3-401B-AFA6-54A3F08D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E9188-0C27-4C6B-A1D7-733E979A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75F1E-F4C6-46DA-A26B-46EF173A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61FB3-D9C5-42EE-8650-0D2E1939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2BE78-3829-449A-9375-04863C12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01E9-7214-4F5B-B033-63234D28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407FB-036F-4E02-B347-F311E5D1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E8F70-BA8D-4EE4-8A17-22303EF4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93D6E-3BCB-43AE-BCC9-799F3B95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B1D68-5E32-47A9-B6CB-500A6A03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8DEA3-2DAC-4AB6-9876-506EC7B2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812C1-8549-4E36-A5D3-5317E982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839D3-ECAD-45C0-B688-9DB06747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73008-9F60-4FE7-B4BB-F5EB0571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3F9B8-7A95-4376-98AC-E7A15F19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82DA9-D593-4A3F-B5FC-4A65C79C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EE79-6DA6-4003-90A1-844FD826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87FB8-F82A-48F8-8ED5-99E6D71F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2C0D1-C8A2-43BE-8626-A31FCF6E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911B5-D226-46A4-8312-91962260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E4002-5211-4E91-B141-8047A048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48618-8D19-44C2-B2C1-FDF38BB3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D077A-5F94-4E78-95CF-1EC3AC88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5A55F-C2A3-4910-A4E7-D5F68FBC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36930-E3F5-40B8-88EC-93C18BD6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EDB29-967E-4D90-AF88-2A4BC923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E4724-86F0-49B9-A0DD-604F9D36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C4B-4BBC-42FA-88BB-0484C020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A19A3-E853-44FC-AD24-8A48DC9E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A2428-4EE5-4C2C-A5C9-0CE49CF4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641EC-AA0C-46BC-96D7-88D3C335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F48AD-6B5F-4B6D-9B25-2FCBF601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80549-DEDA-4082-835C-4653764D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DD4F2-1F68-4F22-9380-9E59B232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EB5DB-B35A-47EE-8EED-CAF7B5D0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0C3F0-5C11-4995-9EF9-3AB50633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66CB4-7B05-4F23-95B6-58101F1C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5663D-923A-485F-8D65-B9BAB6AB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0ADA-2E54-4680-85EC-C62C1D70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CBFE3-10AD-4687-96BA-FE20034A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31183-86A3-4B1B-91F7-219E51CF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120AE-4416-4D24-A842-AD6A33CF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D61E6-AEA8-409C-BA32-57E2926E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3E6D3-C1D9-4C86-BAE9-B1A9DFE7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07B05-6BA1-41FD-B86B-2E74639A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0B9F7-8819-4164-85E9-F72D5EB8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97CFC-07F7-40BE-B75A-3CFB944C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4361E-34D5-498F-BB0F-76A1045A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F603E-A13C-41BE-998B-9AE18664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A52C-8CAF-4E94-B368-A77525F0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28B92-E461-43C3-B913-5769F25A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85A63-1F9F-4270-AAC8-AF508D89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93B3B-690B-43B7-AEB1-A85B6507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B8E7B-4A5F-40C0-8DF8-7BB319D1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85E70-5A91-44C0-AD32-3CDD7E62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382C1-5D3B-4855-8192-4C3D507F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AE4DD-74E9-4587-B373-3ED13FC4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DFBAE-A51C-449D-A7D0-74E8E34B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EBDD4-BE40-48FC-8783-522D99E2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0C3CC-3908-4189-86A1-6B4E099F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6CBC-EC31-49AA-AA81-BCCDC1CC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2681B-E08D-4ABF-BF93-124645BC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EFCAD-B23F-49FF-9518-86F8EFE8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E1930-7058-4C91-8238-F92C099F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374E2-D1FF-4C25-BBE7-EFA70FF7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C73B1-1BB8-45ED-94E9-589925FA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5CB1A-DED4-4E38-8855-41FAAA8B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35AFD-BBEF-4FDC-81C3-1253C330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15BF5-FC67-4EFB-8354-977C454A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767FB-E8E6-452C-A4B7-E545D757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2E505-DB18-44E1-8BA2-E12288C7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1933-42F8-4D4B-9F8E-F1DADDA59240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4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44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TextBox 11"/>
          <p:cNvSpPr/>
          <p:nvPr/>
        </p:nvSpPr>
        <p:spPr>
          <a:xfrm>
            <a:off x="849240" y="9050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2"/>
          <p:cNvSpPr/>
          <p:nvPr/>
        </p:nvSpPr>
        <p:spPr>
          <a:xfrm>
            <a:off x="7634160" y="28274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18"/>
          <p:cNvSpPr/>
          <p:nvPr/>
        </p:nvSpPr>
        <p:spPr>
          <a:xfrm>
            <a:off x="1278000" y="414036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99C2-1AB4-439B-978B-E5D4DB4306F1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3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4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TextBox 11"/>
          <p:cNvSpPr/>
          <p:nvPr/>
        </p:nvSpPr>
        <p:spPr>
          <a:xfrm>
            <a:off x="878040" y="8967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2"/>
          <p:cNvSpPr/>
          <p:nvPr/>
        </p:nvSpPr>
        <p:spPr>
          <a:xfrm>
            <a:off x="7650000" y="2608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25"/>
          <p:cNvSpPr/>
          <p:nvPr/>
        </p:nvSpPr>
        <p:spPr>
          <a:xfrm>
            <a:off x="1278000" y="34290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A37E-2BC4-45D6-80E8-6CB191D42938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54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54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Straight Connector 14"/>
          <p:cNvSpPr/>
          <p:nvPr/>
        </p:nvSpPr>
        <p:spPr>
          <a:xfrm>
            <a:off x="1278000" y="34290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B45F-A1F9-4FCF-A430-92C071053DB7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5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3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5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8" name="Straight Connector 13"/>
          <p:cNvSpPr/>
          <p:nvPr/>
        </p:nvSpPr>
        <p:spPr>
          <a:xfrm>
            <a:off x="1278000" y="23544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0701-E2A4-4E6E-94CF-79E81462FB47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64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2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64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Straight Connector 13"/>
          <p:cNvSpPr/>
          <p:nvPr/>
        </p:nvSpPr>
        <p:spPr>
          <a:xfrm>
            <a:off x="6245280" y="906480"/>
            <a:ext cx="0" cy="496872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0F92-571B-4535-BAF4-63A9157B379F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Picture 7" descr="SD-PanelTitle-R1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Rectangle 10"/>
            <p:cNvGrpSpPr/>
            <p:nvPr/>
          </p:nvGrpSpPr>
          <p:grpSpPr>
            <a:xfrm>
              <a:off x="1511640" y="1511640"/>
              <a:ext cx="6126120" cy="3840480"/>
              <a:chOff x="1511640" y="1511640"/>
              <a:chExt cx="6126120" cy="3840480"/>
            </a:xfrm>
          </p:grpSpPr>
          <p:pic>
            <p:nvPicPr>
              <p:cNvPr id="51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1511640" y="1511640"/>
                <a:ext cx="6126120" cy="384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515240" y="1519920"/>
                <a:ext cx="6112800" cy="38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" name="Picture 11" descr="HDRibbonTitle-UniformTrim.png"/>
            <p:cNvPicPr/>
            <p:nvPr/>
          </p:nvPicPr>
          <p:blipFill>
            <a:blip r:embed="rId5"/>
            <a:srcRect l="0" t="0" r="47963" b="0"/>
            <a:stretch/>
          </p:blipFill>
          <p:spPr>
            <a:xfrm>
              <a:off x="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2" descr="HDRibbonTitle-UniformTrim.png"/>
            <p:cNvPicPr/>
            <p:nvPr/>
          </p:nvPicPr>
          <p:blipFill>
            <a:blip r:embed="rId6"/>
            <a:srcRect l="0" t="0" r="47963" b="0"/>
            <a:stretch/>
          </p:blipFill>
          <p:spPr>
            <a:xfrm>
              <a:off x="748008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Straight Connector 14"/>
          <p:cNvSpPr/>
          <p:nvPr/>
        </p:nvSpPr>
        <p:spPr>
          <a:xfrm>
            <a:off x="2019240" y="3471840"/>
            <a:ext cx="511344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065640" y="5054760"/>
            <a:ext cx="672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922040" y="5054760"/>
            <a:ext cx="406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816240" y="5054760"/>
            <a:ext cx="414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92B6-6211-4CC1-8014-526514A54CD1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98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10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Straight Connector 6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BE03-1F51-4C95-B2AC-75F1A427F677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47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14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Straight Connector 30"/>
          <p:cNvSpPr/>
          <p:nvPr/>
        </p:nvSpPr>
        <p:spPr>
          <a:xfrm>
            <a:off x="1278000" y="359892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6F51-8BCD-4409-90AC-E4A2FE373D8C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96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198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0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Straight Connector 7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3F7C-06C2-484A-B6A2-63F050B32FB1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245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6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247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9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Straight Connector 40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FF47-AD8C-4503-A494-56DDC6B5B0D7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294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5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29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8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Straight Connector 13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CA0E-A467-4BD0-9DBA-F56122D584F6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34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4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34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Straight Connector 15"/>
          <p:cNvSpPr/>
          <p:nvPr/>
        </p:nvSpPr>
        <p:spPr>
          <a:xfrm>
            <a:off x="1278000" y="2913120"/>
            <a:ext cx="23335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F47D-C972-4380-AF53-1BF13BD4A528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3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3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3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Straight Connector 14"/>
          <p:cNvSpPr/>
          <p:nvPr/>
        </p:nvSpPr>
        <p:spPr>
          <a:xfrm>
            <a:off x="1278000" y="414036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3CA8-A530-48E8-8419-63C79361D846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922400" y="1811160"/>
            <a:ext cx="5308560" cy="151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900" spc="-1" strike="noStrike">
                <a:solidFill>
                  <a:srgbClr val="002060"/>
                </a:solidFill>
                <a:latin typeface="Garamond"/>
              </a:rPr>
              <a:t>результати навчальних досягнень</a:t>
            </a:r>
            <a:br>
              <a:rPr sz="2900"/>
            </a:br>
            <a:r>
              <a:rPr b="1" lang="uk-UA" sz="2900" spc="-1" strike="noStrike">
                <a:solidFill>
                  <a:srgbClr val="002060"/>
                </a:solidFill>
                <a:latin typeface="Garamond"/>
              </a:rPr>
              <a:t>учнів школи за підсумками </a:t>
            </a:r>
            <a:br>
              <a:rPr sz="2900"/>
            </a:br>
            <a:r>
              <a:rPr b="1" lang="uk-UA" sz="2900" spc="-1" strike="noStrike">
                <a:solidFill>
                  <a:srgbClr val="002060"/>
                </a:solidFill>
                <a:latin typeface="Garamond"/>
              </a:rPr>
              <a:t>І семестру 2021/2022 навчального року</a:t>
            </a:r>
            <a:endParaRPr b="0" lang="en-US" sz="29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3520" y="188640"/>
            <a:ext cx="828648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Garamond"/>
              </a:rPr>
              <a:t> 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Порівняльний аналіз якості учнів 10-11 класів за</a:t>
            </a: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Garamond"/>
              </a:rPr>
              <a:t>I </a:t>
            </a: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семестр</a:t>
            </a:r>
            <a:br>
              <a:rPr sz="3600"/>
            </a:b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785880" y="2708280"/>
            <a:ext cx="76024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722" name="Объект 12"/>
          <p:cNvGraphicFramePr/>
          <p:nvPr/>
        </p:nvGraphicFramePr>
        <p:xfrm>
          <a:off x="785880" y="1700280"/>
          <a:ext cx="7781760" cy="302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3" name="Объект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1700280"/>
                    <a:ext cx="77817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1376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Якість знань учнів в І семестрі </a:t>
            </a: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2021-2022  навчального року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725" name="Диаграмма 3" descr=""/>
          <p:cNvPicPr/>
          <p:nvPr/>
        </p:nvPicPr>
        <p:blipFill>
          <a:blip r:embed="rId1"/>
          <a:stretch/>
        </p:blipFill>
        <p:spPr>
          <a:xfrm>
            <a:off x="901800" y="2060640"/>
            <a:ext cx="741348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ᐈ Логотип лаборатории рисунки, векторные картинки эмблема ..."/>
          <p:cNvPicPr/>
          <p:nvPr/>
        </p:nvPicPr>
        <p:blipFill>
          <a:blip r:embed="rId1"/>
          <a:stretch/>
        </p:blipFill>
        <p:spPr>
          <a:xfrm>
            <a:off x="2268360" y="2708280"/>
            <a:ext cx="3838680" cy="297180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160" y="1628280"/>
            <a:ext cx="6554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Garamond"/>
                <a:ea typeface="Arial"/>
              </a:rPr>
              <a:t>Дякую за увагу!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p:transition spd="slow">
    <p:split dir="in" orient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Прямоугольник 3"/>
          <p:cNvSpPr/>
          <p:nvPr/>
        </p:nvSpPr>
        <p:spPr>
          <a:xfrm>
            <a:off x="2340000" y="476280"/>
            <a:ext cx="59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3992a"/>
                </a:solidFill>
                <a:latin typeface="Garamond"/>
              </a:rPr>
              <a:t>Якість знань по рівням досягн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3992a"/>
                </a:solidFill>
                <a:latin typeface="Garamond"/>
              </a:rPr>
              <a:t>за </a:t>
            </a:r>
            <a:r>
              <a:rPr b="1" lang="en-US" sz="2400" spc="-1" strike="noStrike">
                <a:solidFill>
                  <a:srgbClr val="83992a"/>
                </a:solidFill>
                <a:latin typeface="Garamond"/>
              </a:rPr>
              <a:t>I </a:t>
            </a:r>
            <a:r>
              <a:rPr b="1" lang="uk-UA" sz="2400" spc="-1" strike="noStrike">
                <a:solidFill>
                  <a:srgbClr val="83992a"/>
                </a:solidFill>
                <a:latin typeface="Garamond"/>
              </a:rPr>
              <a:t>семестр 2021/2022 н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3992a"/>
                </a:solidFill>
                <a:latin typeface="Garamond"/>
              </a:rPr>
              <a:t>(кількість учнів</a:t>
            </a:r>
            <a:r>
              <a:rPr b="0" lang="uk-UA" sz="1800" spc="-1" strike="noStrike">
                <a:solidFill>
                  <a:srgbClr val="83992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68360" y="352440"/>
            <a:ext cx="7920000" cy="13478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699" name="Диаграмма 1" descr=""/>
          <p:cNvPicPr/>
          <p:nvPr/>
        </p:nvPicPr>
        <p:blipFill>
          <a:blip r:embed="rId1"/>
          <a:stretch/>
        </p:blipFill>
        <p:spPr>
          <a:xfrm>
            <a:off x="755640" y="1716120"/>
            <a:ext cx="76327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33160" y="260280"/>
            <a:ext cx="778356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Garamond"/>
              </a:rPr>
              <a:t>Якість знань учнів в 5-11 класах</a:t>
            </a:r>
            <a:br>
              <a:rPr sz="4000"/>
            </a:b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701" name="Диаграмма 1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669780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3160" y="404640"/>
            <a:ext cx="792612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Garamond"/>
              </a:rPr>
              <a:t>Середній бал по класу </a:t>
            </a:r>
            <a:br>
              <a:rPr sz="3600"/>
            </a:br>
            <a:r>
              <a:rPr b="1" lang="uk-UA" sz="3600" spc="-1" strike="noStrike">
                <a:solidFill>
                  <a:srgbClr val="002060"/>
                </a:solidFill>
                <a:latin typeface="Garamond"/>
              </a:rPr>
              <a:t>у 5-11класах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278000" y="3735000"/>
            <a:ext cx="6595920" cy="10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704" name="Диаграмма 5" descr=""/>
          <p:cNvPicPr/>
          <p:nvPr/>
        </p:nvPicPr>
        <p:blipFill>
          <a:blip r:embed="rId1"/>
          <a:stretch/>
        </p:blipFill>
        <p:spPr>
          <a:xfrm>
            <a:off x="2286000" y="2060640"/>
            <a:ext cx="457200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756756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МОНІТОРИНГ ЯКОСТІ ЗНАНЬ УЧНІВ З ПРЕДМЕТІВ 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278000" y="3735000"/>
            <a:ext cx="6595920" cy="10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  <p:graphicFrame>
        <p:nvGraphicFramePr>
          <p:cNvPr id="707" name="Объект 6"/>
          <p:cNvGraphicFramePr/>
          <p:nvPr/>
        </p:nvGraphicFramePr>
        <p:xfrm>
          <a:off x="971640" y="1268280"/>
          <a:ext cx="759132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75913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35156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Garamond"/>
              </a:rPr>
              <a:t>МОНІТОРИНГ ЯКОСТІ ЗНАНЬ УЧНІВ </a:t>
            </a:r>
            <a:br>
              <a:rPr sz="2400"/>
            </a:br>
            <a:r>
              <a:rPr b="1" lang="uk-UA" sz="2400" spc="-1" strike="noStrike">
                <a:solidFill>
                  <a:srgbClr val="002060"/>
                </a:solidFill>
                <a:latin typeface="Garamond"/>
              </a:rPr>
              <a:t>5-9 класів за І семестр 2021/2022 навчального року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740880" y="2060640"/>
            <a:ext cx="5318280" cy="802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11" name="Диаграмма 1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6408720" cy="3959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848360" cy="18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Порівняльний аналіз якості знань учнів 5-9 класів</a:t>
            </a: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 за </a:t>
            </a:r>
            <a:r>
              <a:rPr b="1" lang="en-US" sz="2800" spc="-1" strike="noStrike">
                <a:solidFill>
                  <a:srgbClr val="002060"/>
                </a:solidFill>
                <a:latin typeface="Garamond"/>
              </a:rPr>
              <a:t>I </a:t>
            </a: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семестр</a:t>
            </a:r>
            <a:br>
              <a:rPr sz="3600"/>
            </a:b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403280" y="3644640"/>
            <a:ext cx="709632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14" name="Диаграмма 1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70400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2864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1" lang="uk-UA" sz="3600" spc="-1" strike="noStrike">
                <a:solidFill>
                  <a:srgbClr val="002060"/>
                </a:solidFill>
                <a:latin typeface="Garamond"/>
              </a:rPr>
              <a:t>Якість знань учнів  у 5-9 класах</a:t>
            </a:r>
            <a:endParaRPr b="0" lang="en-US" sz="36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716" name="Диаграмма 3" descr=""/>
          <p:cNvPicPr/>
          <p:nvPr/>
        </p:nvPicPr>
        <p:blipFill>
          <a:blip r:embed="rId1"/>
          <a:stretch/>
        </p:blipFill>
        <p:spPr>
          <a:xfrm>
            <a:off x="1116000" y="1414440"/>
            <a:ext cx="6985080" cy="4967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3160" y="475920"/>
            <a:ext cx="792612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МОНІТОРИНГ ЯКОСТІ ЗНАНЬ УЧНІВ </a:t>
            </a: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старшої школи за І семестр 2021/2022 навчального року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78000" y="3735000"/>
            <a:ext cx="659592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19" name="Диаграмма 1" descr=""/>
          <p:cNvPicPr/>
          <p:nvPr/>
        </p:nvPicPr>
        <p:blipFill>
          <a:blip r:embed="rId1"/>
          <a:stretch/>
        </p:blipFill>
        <p:spPr>
          <a:xfrm>
            <a:off x="533520" y="2205000"/>
            <a:ext cx="792612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8:25:00Z</dcterms:created>
  <dc:creator>Елена Анатольевна</dc:creator>
  <dc:description/>
  <dc:language>en-US</dc:language>
  <cp:lastModifiedBy>User</cp:lastModifiedBy>
  <dcterms:modified xsi:type="dcterms:W3CDTF">2022-01-05T07:39:13Z</dcterms:modified>
  <cp:revision>99</cp:revision>
  <dc:subject/>
  <dc:title>Этикет общения</dc:title>
</cp:coreProperties>
</file>