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wmf" ContentType="image/x-wmf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990-9A26-4483-A2C9-1CE0E3ED7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3916-900C-417D-9A0A-2F1124A76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633-1481-46A4-8A90-B8684B3C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502-5BB5-4B07-A091-03DE1FF4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2080B-9C60-459B-A00F-EA321EF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CEC18-2A17-401D-8F34-0FA41FC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A1E75-249A-4E5E-977F-B14F5FF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1B418-737C-44D0-A49C-BA15C63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09D8A-09FF-4C3A-93AF-6988B08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545CD-7955-48DE-BF56-6E7D0B7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C2339-2A91-43C0-B808-FC9AB6D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B5ED-E53F-4E4F-A154-DBAE47AD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C655A-27B7-47B5-A556-2CCAE4A2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874E-8B10-4627-A302-A7AACAB1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834-3652-46DC-A3F7-089BF51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5C273-861D-4FD2-B1C6-1C4E3B5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7EEC5-7DD0-45AD-BAEA-60367F4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FEFFC-E385-4AC6-82E9-8340B54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ECAB-03C1-43AB-AC43-E3BAFDD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BB337-B4BC-40AC-9B5D-2DCD4E2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C523-1129-4DB1-8BC9-41F1C45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E4A0F-20FE-4E88-8BBA-802C7AF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EE593-7428-4B5B-9137-B664B22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198E2-CA5B-4FF9-A934-822EEAA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9B7DA-2B15-4BDD-9863-A3CADC5E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56D-8DEB-48A6-BF52-59455146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FCD27-A97B-43DF-BD0D-BDFD8AB2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C58E8-987F-4E23-89F1-47EE2328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259D-2A16-4876-B0BB-3B2515B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24126-D1FB-4236-AA85-8BF6B30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AEE8-2EC4-4996-8C70-AB57DC3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2CB59-F960-4CE4-9726-50D6D26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68209-F68E-40F1-A818-7F5A40EA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0E60E-2874-4029-AB30-C3C9B64A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9B14-CC98-4B9C-8B29-66594D0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F3DBC-587C-4434-8C2E-7DA4F4D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B414-100F-4166-9099-A03974AD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65535-FBDB-49C3-8625-C0CEFAC8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36EE-C431-40D3-9B8C-8F10A81F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1F2F-53FD-42C7-9B6A-38506F68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D5A11-97F5-43D7-826A-E453AB33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B4EAA-A392-4E75-9B11-789A19B6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16298-AFC5-44F5-8495-C9E6F506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7DA63-3F7D-4237-81CD-4E02F2A0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E9865-5504-4513-92AF-C4571F4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9E5CB-33A5-49A4-8F3C-AEDD340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05DAF-E086-4E84-9FF6-15CF417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F64-EB37-4357-B324-F7D11F7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675F8-69BC-4CEB-ACCF-D046449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002E0-BECC-4A79-B8E7-8FE4A41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48AE9-A913-4BFD-BADE-6917516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9AA8D-1E7E-4117-9906-670A065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F1CD9-0294-4B24-8968-7C74B54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FF4E9-1142-40FD-9E3F-10AB9396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B05C0-081C-40BC-B49C-8EF11D2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6B911-75FA-46EC-BB66-7235F9E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2D360-076E-49BA-8FC1-F4B94A6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16C11-AF16-4FC5-82A2-303E0808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ECDC-516F-48D4-B9CC-5F527FB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0160B-AC59-40B3-86BA-FD84DE0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44CE2-4C92-4C39-8016-4DB40057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B101B-5FAC-4C69-B8AE-CAB6C15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C0F9F-0C8A-4143-9EF6-DE9BB1B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EBA43-BBA6-4E2E-BAD0-E4A224A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6CC29-56AC-40FB-B4A9-35320E9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F2E68-D770-47F1-954E-6A7A356E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4FD2E-8547-4CAD-BD2E-16A6DCA1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41452-E097-4559-917A-157DE380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094EF-21BC-4B3C-9E5D-33F016E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05E-9DC1-4B44-8EF3-6699195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73BB1-E240-4592-BD32-AE10AF5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C332B-DA4E-4F91-9B2C-69F886B7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B68E5-F642-48CB-B8BD-47D2FDB1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BB1A0-A36C-4790-BFBC-8578304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94138-3BA0-4506-8458-595C3F1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E4A08-D38A-48EC-9936-1EE3FD0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DAD8B-D28A-4B26-97F3-F41286E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0E5B2-E2F9-48A5-8051-3D0A6572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D7CAA-EBB0-41F1-8FD9-97BCFEBF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BD73-5DB6-4127-95BD-25F4B3F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695-CEC2-46E9-A471-375980A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25F7-E55D-41FA-9764-C47DFD0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7B2-48EC-44B7-A571-8AF6F8DA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25E-E4B9-41F3-BE5E-E94834C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11A6-F3D8-4831-AC43-1D8895F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128-F13F-427F-B4E4-27E87FB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297E-56ED-42BF-87BA-40047017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0B27-846F-4E0B-9732-DC8067A6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A0C7-8F2E-40B7-B606-1D61BB2C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CC37-7117-4DEA-BC82-3E1DA78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6830-6BC4-405D-BA1E-73ACB79E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672C-47D4-41E2-800D-7CDAFF8E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27F6-463F-4AA4-8860-AF6FD067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9A3-59B6-4A12-97FC-91509B1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6E5F-2F6A-44D4-A9B2-54B67F2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8A81-CB7F-4B1F-9F53-44FE951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2509-329B-4B2D-8AF3-D8379ACA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738D-65B0-4E82-A11F-E7916AA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92A8-61B7-44E9-92A7-D867B77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D9CE-2100-4570-9214-D95EF6D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8F25-70D7-4A89-97C5-320A6400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1F23-BEF0-4227-B51C-B21CB19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BA39-C664-47EB-8B19-E12E3AED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52DA-8C8C-45BC-86B3-874972B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9A4-3575-4069-BEC4-CC5F335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65C7-F744-4C18-91B7-AAD1845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7B81-4148-4731-9506-3C6D5D7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0D24-831F-456C-9C6C-C8CCD491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E640-836C-49E2-8D1A-1F7B76D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A2A3-6E92-4493-A712-A29B8FA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50FE-3F95-4A37-A62C-B3E4A21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55ED-8592-4F28-B456-467F949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97818-87C3-4192-9B52-A2762585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A98CC-1697-47F2-B4CE-90CA30B6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DE862-C221-48CE-9A5F-304982C9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1A2-099E-49AD-8B09-5A9F1F3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BFEC-5685-4F28-BD01-F1895904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20D6-7C66-46E3-A5DB-482BF784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14E7-7FEC-4941-BC46-1E38FE3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BAB7-6655-4482-88FE-ACFA88D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A2C6-51D5-49B5-8479-7DB67FAF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130F-EE24-4BAE-968F-110B071D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8EE9-AB4A-49AA-A87B-7BACC07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B727-551B-4E70-8C9F-90142A56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4BFD-5876-4AF5-8292-312A32A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C1EE-5E23-4D42-8969-02BE5771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4F1-CEF7-42E1-96FD-29F1B652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A865-C9D9-42F1-BDD6-8D492DAD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95A8-BC18-4EB6-B62B-70446077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7268-416D-4628-BE2F-2E7E023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D679-2231-4A0D-A313-DE9E2C3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3088-96F0-46D8-B67B-1A188DC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E57D-E499-4A1B-97EF-CA4031E0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91FD-8B5A-48AC-A81D-6C79EA03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D981-E373-4051-A557-A493BBA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6273-56BF-44DD-930B-3A45E15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5E35-F744-4011-8871-C6CCDCE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BE2-0B5D-4482-B60F-7759DAA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2C66-0D53-4093-9D81-8B89648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C8C1-68F7-4593-AE0C-5F3654F6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D98A-04C7-4446-B6DA-ECCF962A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1D11E-9D98-4F0A-A4AF-12043443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2B7C-2CBE-4B64-80B9-DD4D2C0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3AB9E-9B61-4AE5-BEE9-23713650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FA58B-38A5-4356-83D6-4D6949BF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213C-6C4E-4624-B7F2-1DC4CE1C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A2BB-F02D-4F3D-921A-DBA22DC7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6425-6D31-496D-A39F-6907E04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7E5-5CE1-413F-B7CE-A3F266E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3A87-8B1D-4894-B5AB-6CDC45E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3A11-8948-4E6F-8697-D854248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06818-0854-4CF5-AFCC-2C58D17B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5D342-2F56-4AAA-BF16-FB08370B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618D-C4C3-4C1A-AC0B-7FD05FA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BD97-9ACC-40D5-9A1D-57643F43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E19FF-81EC-47B7-A2C3-BB2D392C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10E3-AF42-457B-8FCE-B10C355A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711B-CD47-441A-8167-08D159E8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21B3-7622-4A71-BA32-A2B1DA8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275-50B9-4CE7-9F1D-D6177A0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A8CDB-9CB2-4103-94FF-821191A0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49A9-3826-473E-85A8-5FCAAC3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6C5B0-AF8A-4833-9A81-D4F9787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7D3FD-ACCD-4826-8B45-E58ACA6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5645-AD34-45F9-A52E-F94FA9D8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52CC2-F796-4A92-8CBE-9442FDB0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7C5F-3D2E-4AAA-935C-6BCA7EE4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45B3-8DFD-4344-85E8-5BDCBAE1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FCC5D-15C4-4398-ACB0-4C0AAEB3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40C65-6713-495E-9FFF-2380D8A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D82-7DF2-41BA-8418-CAB615977B3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3FDA-2460-4DCB-8C35-D1C746F2499F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9DC-0F57-4EBA-A59D-A04329C81AA9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3211-7D19-47B5-B06E-537DDC1AA2FF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8A4-CE42-495E-BB2D-659463B17FA2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B4A-AACC-4930-94DA-CC9AAAFE67D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120" cy="3840480"/>
              <a:chOff x="1511640" y="1511640"/>
              <a:chExt cx="612612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12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5851-0307-44CE-AEA8-512463DF1D36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B342-4BA3-4BF1-80FD-00088BF1E522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3857-BFDB-41EB-8385-3E77FC55F47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BDD-9E13-4059-B6E8-D6B4B65698B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7A2-114B-4160-83E8-5968281B5E7A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2E26-0013-4201-8A87-EC5C04A11A6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7ABE-DE7C-4B63-9261-A38575E9595D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986E-C4DC-4BD0-9DD6-E725917615D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результати навчальних досягнень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учнів школи за підсумками 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І семестру 2021/2022 навчального року</a:t>
            </a:r>
            <a:endParaRPr b="0" lang="en-US" sz="29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864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Garamond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учнів 10-11 класів за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85880" y="2708280"/>
            <a:ext cx="7602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2" name="Объект 12"/>
          <p:cNvGraphicFramePr/>
          <p:nvPr/>
        </p:nvGraphicFramePr>
        <p:xfrm>
          <a:off x="785880" y="1700280"/>
          <a:ext cx="778176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700280"/>
                    <a:ext cx="77817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3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Якість знань учнів в І семестрі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2021-2022 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25" name="Диаграмма 3" descr=""/>
          <p:cNvPicPr/>
          <p:nvPr/>
        </p:nvPicPr>
        <p:blipFill>
          <a:blip r:embed="rId1"/>
          <a:stretch/>
        </p:blipFill>
        <p:spPr>
          <a:xfrm>
            <a:off x="901800" y="2060640"/>
            <a:ext cx="7413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ᐈ Логотип лаборатории рисунки, векторные картинки эмблема ..."/>
          <p:cNvPicPr/>
          <p:nvPr/>
        </p:nvPicPr>
        <p:blipFill>
          <a:blip r:embed="rId1"/>
          <a:stretch/>
        </p:blipFill>
        <p:spPr>
          <a:xfrm>
            <a:off x="2268360" y="2708280"/>
            <a:ext cx="3838680" cy="297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1628280"/>
            <a:ext cx="6554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  <a:ea typeface="Arial"/>
              </a:rPr>
              <a:t>Дякую за увагу!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split dir="in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2340000" y="476280"/>
            <a:ext cx="59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Якість знань по рівням досягн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за </a:t>
            </a:r>
            <a:r>
              <a:rPr b="1" lang="en-US" sz="2400" spc="-1" strike="noStrike">
                <a:solidFill>
                  <a:srgbClr val="83992a"/>
                </a:solidFill>
                <a:latin typeface="Garamond"/>
              </a:rPr>
              <a:t>I </a:t>
            </a: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семестр 2021/2022 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(кількість учнів</a:t>
            </a:r>
            <a:r>
              <a:rPr b="0" lang="uk-UA" sz="1800" spc="-1" strike="noStrike">
                <a:solidFill>
                  <a:srgbClr val="83992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7920000" cy="1347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9" name="Диаграмма 1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77835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</a:rPr>
              <a:t>Якість знань учнів в 5-11 класах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1" name="Диаграмма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697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792612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Середній бал по класу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у 5-11класах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4" name="Диаграмма 5" descr=""/>
          <p:cNvPicPr/>
          <p:nvPr/>
        </p:nvPicPr>
        <p:blipFill>
          <a:blip r:embed="rId1"/>
          <a:stretch/>
        </p:blipFill>
        <p:spPr>
          <a:xfrm>
            <a:off x="2286000" y="2060640"/>
            <a:ext cx="4572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7567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З ПРЕДМЕТІВ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graphicFrame>
        <p:nvGraphicFramePr>
          <p:cNvPr id="707" name="Объект 6"/>
          <p:cNvGraphicFramePr/>
          <p:nvPr/>
        </p:nvGraphicFramePr>
        <p:xfrm>
          <a:off x="971640" y="1268280"/>
          <a:ext cx="759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59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515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5-9 класів за І семестр 2021/2022 навчального року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0880" y="2060640"/>
            <a:ext cx="5318280" cy="80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1" name="Диаграмма 1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4087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знань учнів 5-9 класів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за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70963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4" name="Диаграмма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2864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Якість знань учнів  у 5-9 класах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6" name="Диаграмма 3" descr=""/>
          <p:cNvPicPr/>
          <p:nvPr/>
        </p:nvPicPr>
        <p:blipFill>
          <a:blip r:embed="rId1"/>
          <a:stretch/>
        </p:blipFill>
        <p:spPr>
          <a:xfrm>
            <a:off x="1116000" y="141444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79261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таршої школи за І семестр 2021/2022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9" name="Диаграмма 1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7926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25:00Z</dcterms:created>
  <dc:creator>Елена Анатольевна</dc:creator>
  <dc:description/>
  <dc:language>en-US</dc:language>
  <cp:lastModifiedBy>User</cp:lastModifiedBy>
  <dcterms:modified xsi:type="dcterms:W3CDTF">2022-01-05T07:39:13Z</dcterms:modified>
  <cp:revision>99</cp:revision>
  <dc:subject/>
  <dc:title>Этикет общения</dc:title>
</cp:coreProperties>
</file>