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wmf" ContentType="image/x-wmf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C948-6357-43B5-82D9-E7E86D4D3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BE3-B23B-4EC8-9DF3-457B3E60C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77D-FBB6-4957-948B-BE04C98E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20B-DB4E-499A-B851-ABAE08F5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898EF-F1BD-4D06-A7FE-B576537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2E703-2CCB-4451-84B7-6D5BAFB1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3883-799D-4849-B837-D6D29B67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4F558-4156-4ED8-BD2A-ACD559B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58224-682D-40B0-B40B-06119DB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791E-71ED-4ABA-AE28-D73F2B1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1C70A-46F4-4304-82BC-64CFDAA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C0F2-1915-4A82-94E3-F77546E5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5BA5-91EA-4422-A238-966E1AAF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6EBD3-B6FF-4433-82AF-E7C8987D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D6C-4DD4-4D54-8FE6-6B223FA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2B925-28FC-46C4-AC4D-EDEE20E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4D91E-C510-4ED2-9B5C-327F76D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E338-374B-438D-B8E7-D262CCDB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BC42A-ED3C-4BF2-A493-58671CBD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064FB-68EB-48F8-8417-D5EF08A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0A970-C0EC-47F6-8516-CE6D0C5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FA609-0EA3-4758-B956-AAAB3E6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ACEF5-0FF3-452F-B7F2-515AC05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C133E-4EB6-4F09-9CCC-D6EEC8E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D2A0A-E9FF-4DC5-8246-959CAEF7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11F-BDC5-4E34-9F5E-BE6C41DF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BEC5-0BD3-4DD1-879E-C144A185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51BDC-581E-4A47-886F-F5BBAC7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8B625-080F-4BE0-9097-B6225ABA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7201A-FBEC-4CBB-BC0D-8E40D12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4204A-25DA-4CAD-BBE5-D4E50FD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3B0F-5964-4DC6-A952-255E6C52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BB8E7-7B73-4925-8592-8B15DAB5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5266F-FE10-4425-92C5-AF2CE7E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D962-A1DE-402F-AA5C-235396A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620B3-9ABD-4A02-BBF5-929A6F0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E91-BFF1-486F-A752-FD3E986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67002-A332-452F-B53B-45C9AC5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61C51-794F-4A90-82EE-E0773327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9F18-C8F7-48B2-9E0F-3CB4152C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FE68F-256A-4924-816A-AE08595D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DC6B7-02DE-47DB-9522-2726052C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DD9CB-0172-417F-855A-4B7FCAD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340A7-4E0B-4024-A638-C7D9D50B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B0F10-0B53-4729-9370-AE603AE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0988-4FF0-4F72-97C2-E48B6DA1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1B605-5331-415E-A33F-3B01C0C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A58A-B64D-42DC-8BCD-39D6B3A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511CC-6BFF-45B2-BE46-4591DE5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AE948-FCF6-4539-B907-0A75BB9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7B4E8-32C5-4A3D-ABE0-F5A9115B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6354B-D797-4CC5-8257-578BE201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6B2BA-3559-4302-AA17-8D4F7F7E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A8B51-2669-4FEC-AF55-0C721A09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378A7-500D-4F4E-9B59-CB08020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32396-C2E1-48EB-85F4-6ACE0AE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E418E-F12D-4D96-87AF-C5F5C2BA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A6532-A70E-418B-875E-12D1D58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FCDE-948A-41AE-B6E7-062FD4D5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24D7E-2999-45BE-A873-43F24184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2D3E7-F5A9-4DA7-B28D-CD5A10B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91E4C-739E-4C74-AEAE-094EF7F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8E93C-05B6-44FC-B762-9E0A9FC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2088F-337E-43A8-8BB2-1816263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E254B-9DC9-4FEF-93F2-9F0D56F9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A0D50-C4A1-4EBE-BCDC-5DFB8DB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E8DDE-6DD5-4085-A55F-BF34E200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A4F43-8335-4B78-BE90-4CA3983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01021-9441-4452-B5E7-D4C001E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DD0-62A2-4580-B38D-4D99531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E7D9E-F4F3-457D-8F5B-BAAA90B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9A2B4-06F9-4670-A6B4-64DEF8C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E7F62-A132-4FC0-B9B3-8953BCB1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C1764-DB4A-4142-B368-F4EF0DB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EE85E-65A7-4AD3-A20A-493FE59A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7AAF8-E663-4356-9FC5-6EEBFBE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70FE7-A1ED-444B-BC24-8BB68EE7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4092A-3B1C-41F8-91C6-B1D34AF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5270E-EF73-4A24-8C14-02EE998B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A6F1-6542-43DB-B58E-E98FD72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26D3-FAFD-43EE-A028-CB4C68A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834-4A51-4261-8ECE-99172BE1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18F-44F5-482A-AB43-878122B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5FF-3FAE-4169-B278-9E2399B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E4E-B8DF-4A9E-957D-8254612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7BE-A7C0-4BF0-BB71-721BB95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94C6-2E22-407D-997F-C6C78DCD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6A03-69CD-4EDD-94DC-F1F14EB4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B66E-DD12-4589-B791-5013652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4392-A917-4497-B58E-AC5245B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90B1-D630-4661-9F54-D475AEF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70A0-CC01-4A4C-BCDD-688006B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145B-54D3-49A8-B4C6-B40E107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201-C28A-4EC7-B461-5AEAA2D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6454-8957-4B6C-8685-31D4DD7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F71D-C75A-4D66-A516-626F593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6D2A-B9E0-42C3-AFE7-879B64E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E516-B80E-4C5B-AE96-95219A3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2E47-C9A3-44F9-83E1-FEAACDAC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9699-CF3B-4B38-BC12-A8840DA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8BFB-7129-458C-8FD2-D3ABF29B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8A41-B494-467D-86E7-D97282F5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5BF1-8F6F-4F2D-A7AE-1AC0935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3EE8-4214-49D8-9579-F10EB636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BE6-E175-4FB3-A3EB-624881F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0AE4-D085-4C81-950A-3141DC3D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B66D-3E93-4AB9-A75D-DFC4670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4CBE-CE7B-4FD6-91BC-9F820ECF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BE44-12C5-44FC-AD7F-E7C13D1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A165-CF38-4D23-8C04-6880705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DA5C-83A8-43BE-BC0A-8B022EB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024F-6CD7-4BCA-BDF1-D9EA50C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012B-C0B4-4E35-BE2F-D2D18A5A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3220-F6AA-499A-BCE5-9BF54B7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FAB3-FC8F-4FFE-B298-F8BC9A22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CE5-7715-4F9D-9FAB-1FC84E2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FE014-739F-440E-8E86-6965700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A115-123A-4CF4-A78E-F83A8C5B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A146-43EC-4176-90CE-6F8EDE0E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6A64-00D1-4901-81F4-D6CA6EE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0468-14B3-414D-B329-A52BA44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CD2C-AD96-4484-B955-2B721C9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122E-2DBE-481D-910C-5C68BD6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1A97-1958-4613-B416-763A4C4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EA67-FBC1-497D-927C-87E9F6B3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DA33-50C9-42B5-9D9C-DB095168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93F-B919-4CFA-901B-FA153E8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98D1-37D2-4E51-93AC-A7FF58C2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F7A4-5F9A-4AF5-8173-B36BD90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3F1F-FB55-4FD7-9247-AD6E2DB4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41CD-A71B-4657-9DD8-451A81F8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6475-69D2-4593-9A72-807B1C24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8375-3ED8-4B80-9606-189EE030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5BE6-5AAD-43AE-93F3-6564BA6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29CA-21D4-4D4C-85E9-203AD70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03B3-D208-4801-9538-A837637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AF0F-7DE2-439E-9145-0A258EC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7BC-10E7-46B4-B23B-CC2D823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0D13-C835-436B-BF66-FAF6943C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DD77E-F9A9-4234-A495-8CCF9D5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B07F-9689-4384-971F-3FA5CC22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EA3A-0E5C-488F-8E08-318B5718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78BB-4D28-4D7E-B323-F4855883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1FD6-61AC-467C-ACA0-F3FA0CD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D86D-424A-4CFA-89A4-0D3D6307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348C6-C7C6-4F8B-BCB0-55F7F1D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3242-B4E5-4D64-9C45-12D72A7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6822-3B1F-483F-BE5C-E77FFE4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B0A-B131-4FBD-9F52-FF77328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F767-3593-436F-B244-8E4437F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74FF-DE85-4EB2-B13B-D885A46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52BCF-D741-493A-A7FE-56AD04A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7BB9-0837-4DCA-AC00-4068FF66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7D09-1E9B-438B-9811-F95CA5B9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23B46-7FE1-43EF-906C-2A004BD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01F8-D096-44A1-9AA4-A7C6616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2489-8ABB-4B11-B3A1-B09AF35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D56ED-9E2B-48E1-AD46-2AA9F59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BF4C-48FB-411A-B2E3-883BDE42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FB4-188C-401F-8268-11241EF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DE96-356E-4398-A1EF-0D5EB4A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2BC9-D404-4DCD-AC99-3A9F4C1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2375-FFF9-4473-A8E0-C6CF139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A4FE-8F26-419D-90FC-811CDF3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568EF-760C-4FA1-AB60-3681B48B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DE58-4103-4C78-BCAA-A217A3C9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77E5-6512-4FB1-96CE-76762F41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770BC-8D41-4C23-B3CF-3954789A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D43B6-0880-45BA-A566-A21F8D3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AA181-76DE-460C-9053-A45B48C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3F0-3B5E-4844-882F-D3EAA0A9879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814-54FD-43F0-9290-876A756BD43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5D0-B314-4AF4-9C97-3EA3981B2C2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F5C-B447-419A-8757-64D8553332C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7A3-4837-4DCF-B0C1-262D5511557D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CB5B-F287-4A51-BC34-873BD9C3477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120" cy="3840480"/>
              <a:chOff x="1511640" y="1511640"/>
              <a:chExt cx="612612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12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321-7346-4989-8BCD-DD4FE47D7D8A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789-DECD-436F-AE41-4BBDC0B8A87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7396-8D78-4908-83CC-F789F8783F1A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776-D510-462B-9FBD-12C1D340D39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65A8-C3E3-4079-9BA4-318605A01DC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53C-8599-4D50-B14A-47EC1CA0E55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A9B-F01D-41AF-98B4-73CF31CB1E9B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C98-C630-483B-B5F7-9FDF135A667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результати навчальних досягнень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учнів школи за підсумками 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І семестру 2021/2022 навчального року</a:t>
            </a:r>
            <a:endParaRPr b="0" lang="en-US" sz="29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864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Garamond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учнів 10-11 класів за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85880" y="2708280"/>
            <a:ext cx="7602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2" name="Объект 12"/>
          <p:cNvGraphicFramePr/>
          <p:nvPr/>
        </p:nvGraphicFramePr>
        <p:xfrm>
          <a:off x="785880" y="1700280"/>
          <a:ext cx="778176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700280"/>
                    <a:ext cx="77817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3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Якість знань учнів в І семестрі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2021-2022 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25" name="Диаграмма 3" descr=""/>
          <p:cNvPicPr/>
          <p:nvPr/>
        </p:nvPicPr>
        <p:blipFill>
          <a:blip r:embed="rId1"/>
          <a:stretch/>
        </p:blipFill>
        <p:spPr>
          <a:xfrm>
            <a:off x="901800" y="2060640"/>
            <a:ext cx="7413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ᐈ Логотип лаборатории рисунки, векторные картинки эмблема ..."/>
          <p:cNvPicPr/>
          <p:nvPr/>
        </p:nvPicPr>
        <p:blipFill>
          <a:blip r:embed="rId1"/>
          <a:stretch/>
        </p:blipFill>
        <p:spPr>
          <a:xfrm>
            <a:off x="2268360" y="2708280"/>
            <a:ext cx="3838680" cy="297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1628280"/>
            <a:ext cx="6554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  <a:ea typeface="Arial"/>
              </a:rPr>
              <a:t>Дякую за увагу!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split dir="in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2340000" y="476280"/>
            <a:ext cx="59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Якість знань по рівням досягн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за </a:t>
            </a:r>
            <a:r>
              <a:rPr b="1" lang="en-US" sz="2400" spc="-1" strike="noStrike">
                <a:solidFill>
                  <a:srgbClr val="83992a"/>
                </a:solidFill>
                <a:latin typeface="Garamond"/>
              </a:rPr>
              <a:t>I </a:t>
            </a: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семестр 2021/2022 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(кількість учнів</a:t>
            </a:r>
            <a:r>
              <a:rPr b="0" lang="uk-UA" sz="1800" spc="-1" strike="noStrike">
                <a:solidFill>
                  <a:srgbClr val="83992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7920000" cy="1347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9" name="Диаграмма 1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77835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</a:rPr>
              <a:t>Якість знань учнів в 5-11 класах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1" name="Диаграмма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697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792612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Середній бал по класу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у 5-11класах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4" name="Диаграмма 5" descr=""/>
          <p:cNvPicPr/>
          <p:nvPr/>
        </p:nvPicPr>
        <p:blipFill>
          <a:blip r:embed="rId1"/>
          <a:stretch/>
        </p:blipFill>
        <p:spPr>
          <a:xfrm>
            <a:off x="2286000" y="2060640"/>
            <a:ext cx="4572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7567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З ПРЕДМЕТІВ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graphicFrame>
        <p:nvGraphicFramePr>
          <p:cNvPr id="707" name="Объект 6"/>
          <p:cNvGraphicFramePr/>
          <p:nvPr/>
        </p:nvGraphicFramePr>
        <p:xfrm>
          <a:off x="971640" y="1268280"/>
          <a:ext cx="759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59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515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5-9 класів за І семестр 2021/2022 навчального року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0880" y="2060640"/>
            <a:ext cx="5318280" cy="80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1" name="Диаграмма 1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4087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знань учнів 5-9 класів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за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70963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4" name="Диаграмма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2864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Якість знань учнів  у 5-9 класах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6" name="Диаграмма 3" descr=""/>
          <p:cNvPicPr/>
          <p:nvPr/>
        </p:nvPicPr>
        <p:blipFill>
          <a:blip r:embed="rId1"/>
          <a:stretch/>
        </p:blipFill>
        <p:spPr>
          <a:xfrm>
            <a:off x="1116000" y="141444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79261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таршої школи за І семестр 2021/2022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9" name="Диаграмма 1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7926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25:00Z</dcterms:created>
  <dc:creator>Елена Анатольевна</dc:creator>
  <dc:description/>
  <dc:language>en-US</dc:language>
  <cp:lastModifiedBy>User</cp:lastModifiedBy>
  <dcterms:modified xsi:type="dcterms:W3CDTF">2022-01-05T07:39:13Z</dcterms:modified>
  <cp:revision>99</cp:revision>
  <dc:subject/>
  <dc:title>Этикет общения</dc:title>
</cp:coreProperties>
</file>