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A430-1070-4A84-AEE5-8C78372E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55F0-C75C-4A2D-B1DB-E9145E2F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91C5-B123-4BD9-84C6-24A54C21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CC17-BC82-4D52-933B-4AA498D4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7B52-B6BE-4179-9F70-75AB6C50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6843-502D-4B12-A411-31B99C23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314D-484A-4B23-9F56-46C4BE06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2572-DC1D-4536-882B-7A8F7791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01D8-8779-4F00-8E68-A4D93112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F38C-BA1D-406A-9FF9-781AFF90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2EA9-CA46-4846-9D49-D9E03973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AAF4-0DA1-461A-A544-0D12695B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D028-161C-4D0F-849E-5005F162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FC58-AAB7-4B14-B0C6-B0ED48E9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DAFF-2726-4DE7-AC55-B56DFD7F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0D5D-8440-43C0-8EAF-4E27C390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A70D-A517-462A-81B2-E246FA7C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B0F4E-340D-4B84-A9AB-B645F554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F9001-D9C3-4249-A714-05F6D1CC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7E551-7BAB-4671-96C9-BDBE0072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6622A-9CAE-489B-8EFD-F8025CF3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7FDC5-1169-455A-BE4F-E3AA3AAA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E885-8C18-4508-8C57-5318FCD9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1032C-273D-4FD0-9210-5839414A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58A7C-109E-4C06-AFCE-912A43DB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69285-A978-49EC-A35C-FBCF8895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11E37-9885-4506-8F75-885CE3A5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2AF10-227F-49FF-96C7-7C5E5B5E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E9F80-FF5A-4EE9-9B00-D29A761F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21E07-EBC2-415F-8972-2720DB31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A7A11-546B-4503-B574-10CAB3F2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24444-CE55-4604-8768-DF41B2C8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27972-9CEF-4589-9369-415A348F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014C-4B90-48C5-9330-E882CCB6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EB5AC-827F-4F9A-B91B-DDD6580B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956E9-C735-44E2-814C-AF07E548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D7B5E-A593-4804-9C1E-625659EC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5F35D-B69C-482E-B803-2C98D647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5FC8B-7367-4A7E-8AA4-76210D2F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06696-B2CE-4CD9-80C7-F78ECAF5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A2463-D9BF-4981-A9FA-AB8FC02D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9C21C-55FF-42CA-970E-60D33BED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15320-FAC0-46B2-AD11-60A307F2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D7B-1586-45B5-8818-8EA54F99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979-FF78-43C3-9B97-8DFB39E3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E9BA-918F-4970-82D8-E0DB32EF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9231-62F7-41ED-99B2-9A4F86CA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0D3F-F9CA-4C15-B526-FE9BECE3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CDE3-1B1C-4DF0-8B20-98D25A04F045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E87A-8D78-4D82-964D-C55CEF2380B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BFF9-8CF2-4339-AFF0-F656D96F580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F3F1-89A7-4100-9D82-D28D3D90E29D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http://zno.osvita.ua/" TargetMode="External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4360" y="1916280"/>
            <a:ext cx="63691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0d01f5"/>
                </a:solidFill>
                <a:latin typeface="Trebuchet MS"/>
              </a:rPr>
              <a:t>Рекомендації щодо проходження ЗНО</a:t>
            </a:r>
            <a:br>
              <a:rPr sz="4200"/>
            </a:b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2540160" cy="50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143000" y="3789360"/>
            <a:ext cx="64008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0d01f5"/>
                </a:solidFill>
                <a:latin typeface="Trebuchet MS"/>
              </a:rPr>
              <a:t>Читай завдання до кінця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d01f5"/>
                </a:solidFill>
                <a:latin typeface="Trebuchet MS"/>
              </a:rPr>
              <a:t> </a:t>
            </a:r>
            <a:r>
              <a:rPr b="0" lang="uk-UA" sz="2500" spc="-1" strike="noStrike">
                <a:solidFill>
                  <a:srgbClr val="404040"/>
                </a:solidFill>
                <a:latin typeface="Trebuchet MS"/>
              </a:rPr>
              <a:t>Поспіх не повинен призводити до того, що ви будете намагатися зрозуміти умови завдання за «першими словами» й добудовувати кінцівку у власній уяві.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Title Placeholder 1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45068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Placeholder 1" descr=""/>
          <p:cNvPicPr/>
          <p:nvPr/>
        </p:nvPicPr>
        <p:blipFill>
          <a:blip r:embed="rId2"/>
          <a:stretch/>
        </p:blipFill>
        <p:spPr>
          <a:xfrm>
            <a:off x="3203640" y="3500280"/>
            <a:ext cx="4897440" cy="29498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143000" y="476280"/>
            <a:ext cx="64008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-15480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d01f5"/>
                </a:solidFill>
                <a:latin typeface="Trebuchet MS"/>
              </a:rPr>
              <a:t>Не засмучуйс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94040" indent="-15480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У будь-якому професійно підготовленому тесті є завдання, з якими ви просто не зможете впоратись. Більше того, усі 100 % завдань зможуть виконати лише одиниці!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Placeholder 1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4094280" cy="3240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04040"/>
                </a:solidFill>
                <a:latin typeface="Trebuchet MS"/>
              </a:rPr>
              <a:t>Заплануй два кола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Сплануйте середній час на кожне завдання таким чином, щоб за дві третини (максимум три чверті) тестування пройти всі завдання «за першим колом»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Placeholder 1" descr=""/>
          <p:cNvPicPr/>
          <p:nvPr/>
        </p:nvPicPr>
        <p:blipFill>
          <a:blip r:embed="rId2"/>
          <a:stretch/>
        </p:blipFill>
        <p:spPr>
          <a:xfrm>
            <a:off x="1763640" y="4005360"/>
            <a:ext cx="5616720" cy="23763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d01f5"/>
                </a:solidFill>
                <a:latin typeface="Trebuchet MS"/>
              </a:rPr>
              <a:t>Тренуйся 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Перед офіційним тестуванням варто виконувати якнайбільше опублікованих тестів - просто заради тренування, наприклад, проходити </a:t>
            </a:r>
            <a:r>
              <a:rPr b="0" lang="uk-UA" sz="2800" spc="-1" strike="noStrike" u="sng">
                <a:solidFill>
                  <a:srgbClr val="56c7aa"/>
                </a:solidFill>
                <a:uFillTx/>
                <a:latin typeface="Trebuchet MS"/>
                <a:hlinkClick r:id="rId3"/>
              </a:rPr>
              <a:t>тести ЗНО онлайн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Placeholder 1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4651200" cy="3095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4000" y="2492280"/>
            <a:ext cx="54003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uk-UA" sz="3600" spc="-1" strike="noStrike">
                <a:solidFill>
                  <a:srgbClr val="0d01f5"/>
                </a:solidFill>
                <a:latin typeface="Trebuchet MS"/>
              </a:rPr>
              <a:t>Поспішай 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Тренуйтеся із секундоміром у руках. Порівнюйте час, необхідний для виконання тестів зовнішнього оцінювання. Обмежуйте його.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Placeholder 1" descr=""/>
          <p:cNvPicPr/>
          <p:nvPr/>
        </p:nvPicPr>
        <p:blipFill>
          <a:blip r:embed="rId2"/>
          <a:stretch/>
        </p:blipFill>
        <p:spPr>
          <a:xfrm>
            <a:off x="5003640" y="3500280"/>
            <a:ext cx="3498840" cy="25178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d01f5"/>
                </a:solidFill>
                <a:latin typeface="Trebuchet MS"/>
              </a:rPr>
              <a:t>Випробовуй 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У тренуваннях застосовуйте правильну тактику, тобто додержуйтесь усіх рекомендацій, як правильно вирішувати окреме завдання чи тест у цілом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Placeholder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4381560" cy="28083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43000" y="3284640"/>
            <a:ext cx="5734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1713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0d01f5"/>
                </a:solidFill>
                <a:latin typeface="Trebuchet MS"/>
              </a:rPr>
              <a:t>Пропускай</a:t>
            </a:r>
            <a:r>
              <a:rPr b="1" lang="uk-UA" sz="20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456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4560" indent="-17136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Треба навчатися пропускати важкі чи незрозумілі завдання. Пам'ятайте: у тесті завжди знайдуться такі завдання, з якими ви обов'язково впораєтесь.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142640" y="3789000"/>
            <a:ext cx="7101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d01f5"/>
                </a:solidFill>
                <a:latin typeface="Trebuchet MS"/>
              </a:rPr>
              <a:t>Вгадуй</a:t>
            </a:r>
            <a:r>
              <a:rPr b="1" lang="uk-UA" sz="2200" spc="-1" strike="noStrike">
                <a:solidFill>
                  <a:srgbClr val="0d01f5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Якщо ви не впевнені у виборі, але інтуїтивно можете віддати перевагу якійсь відповіді перед іншими, то інтуїції варто довіряти!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374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d01f5"/>
                </a:solidFill>
                <a:latin typeface="Trebuchet MS"/>
              </a:rPr>
              <a:t>Виключай 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Багато завдань можна швидше вирішити, якщо не шукати відразу правильну відповідь, а послідовно виключати ті, які явно не підходять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Title Placeholder 1" descr=""/>
          <p:cNvPicPr/>
          <p:nvPr/>
        </p:nvPicPr>
        <p:blipFill>
          <a:blip r:embed="rId2"/>
          <a:stretch/>
        </p:blipFill>
        <p:spPr>
          <a:xfrm>
            <a:off x="4067280" y="3573360"/>
            <a:ext cx="45752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Placeholder 1" descr=""/>
          <p:cNvPicPr/>
          <p:nvPr/>
        </p:nvPicPr>
        <p:blipFill>
          <a:blip r:embed="rId2"/>
          <a:stretch/>
        </p:blipFill>
        <p:spPr>
          <a:xfrm>
            <a:off x="1793880" y="4724280"/>
            <a:ext cx="2849400" cy="11527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0d01f5"/>
                </a:solidFill>
                <a:latin typeface="Trebuchet MS"/>
              </a:rPr>
              <a:t>Скорочуй вибір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uk-UA" sz="2500" spc="-1" strike="noStrike">
                <a:solidFill>
                  <a:srgbClr val="404040"/>
                </a:solidFill>
                <a:latin typeface="Trebuchet MS"/>
              </a:rPr>
              <a:t>Якщо кілька відповідей (1-2) із чотирьох чи п'яти варіантів здаються вам зовсім невідповідними, а інші такими, що підходять з рівною ймовірністю, то в цьому випадку правильніше буде не пропускати це завдання, а намагатись вибрати відповідь з інших просто навмання.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143000" y="404640"/>
            <a:ext cx="64008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0d01f5"/>
                </a:solidFill>
                <a:latin typeface="Trebuchet MS"/>
              </a:rPr>
              <a:t>Думай тільки про поточне завдання 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Коли ви бачите завдання (запитання), забувайте все, що було в попередньому: як правило, завдання в тестах не пов'язані одне з одним, тому знання, які ви застосували в одному (уже вирішеному вами), як правило, не допомагають, а тільки заважають сконцентруватись і правильно вирішити інше завдання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Title Placeholder 1" descr=""/>
          <p:cNvPicPr/>
          <p:nvPr/>
        </p:nvPicPr>
        <p:blipFill>
          <a:blip r:embed="rId2"/>
          <a:stretch/>
        </p:blipFill>
        <p:spPr>
          <a:xfrm>
            <a:off x="4643280" y="4149720"/>
            <a:ext cx="40244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16:55:25Z</dcterms:created>
  <dc:creator>ТОЛЯ</dc:creator>
  <dc:description/>
  <dc:language>en-US</dc:language>
  <cp:lastModifiedBy>User</cp:lastModifiedBy>
  <dcterms:modified xsi:type="dcterms:W3CDTF">2015-11-01T14:39:06Z</dcterms:modified>
  <cp:revision>11</cp:revision>
  <dc:subject/>
  <dc:title>Презентация PowerPoint</dc:title>
</cp:coreProperties>
</file>