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4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6.png" ContentType="image/png"/>
  <Override PartName="/ppt/media/image1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E096-3D4B-4C8E-9EFD-D5D35424B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6F0E-CAB9-4CF1-A9B1-152215F11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4807-F2BB-44E7-9037-8029CA00F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9EFF-6D6B-42EA-8730-31ED11C51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48B40-048C-433A-A7C4-D55DB908F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67DC9-165A-4496-A0C6-1E4FE22BA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F8F52-8526-4527-9BA5-D258ED391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430D9-8AB9-4C26-92CF-B4DCB65ED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BC469-5816-4157-9B87-0B3403218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9F8D2-C5A8-4E1E-9D43-7488A9372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13199-472E-4E53-8F85-30B8AFF9F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FB0A-636C-440B-9D68-CA1989B5A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B4AC6-4C1B-4852-A4B7-6A0748B67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D728F-1DCE-4026-89A3-320ECB255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DF128-069A-4CCC-AEB8-00DF6364D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1FBB9-A27B-463A-BCF1-968B9237F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04924-FC9D-4E25-9145-8BD7DAE2A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2F8060-00EC-4909-B387-3568ECF71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A1F8C6-2DCF-4C7D-8852-8AE5674D1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B57B47-03E7-4F6A-8252-BC9A9AEED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2A71A6-8B0E-44B1-ABF5-937B6A284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B9B822-4942-4D84-9AD8-2510FC74B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24D0-3C42-4701-8DC5-975584FA9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D2D953-D2B1-400F-BE32-17C76480F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FB7A43-60E1-4E68-9C62-5CDDF2489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C273E2-CAA3-4334-9FEC-4179FD0BA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541446-3444-4EE9-B2B9-CD43FA821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903FE9-55B1-4B39-BC4D-777B28FFC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30428A-4166-4925-8E37-0D438B115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0A9EDF-33AE-4EA2-9DE9-58BA16080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368456-7062-418F-A3A5-905630E5D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E8EFD7-ACE6-4261-80E6-DCC2497AB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F25F1C-0B52-45EC-967F-74C695A15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FEFF-EB7F-4217-9B9C-39A8F98D9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06DC6D-C478-4027-A598-B68E0DD31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3A3969-8CA6-479E-8657-4DE71CE0F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E69283-A2E6-4189-AA2D-F66C94AEA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7B9BC7-DBFF-4F55-BC14-5139C7EC0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ADE9EA-89CC-483E-B1BA-8BB312255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65689F-6BE8-4F11-9C11-76C56EBC8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306F54-BB29-400B-BE4A-1EC2E0093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8CC233-03BA-4757-B87C-AC6C2E102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0C3211-6B4C-4B32-A0F6-D089F3EAF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AD3B-51B1-4826-9950-9C0F86B10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B2BC-CA7E-4814-AEC3-6D7950ABB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F13D-A24D-456E-9FE7-23CCD86DE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9C4C-7DA9-42B8-8417-21A3C5C21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27A6-A5C5-4246-9C2E-ADC2E75C5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97BEC-9CA0-4236-8BFB-2D97924C180C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3BCA1-17A8-4646-882D-169790F937E2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77F42-82A4-482C-8BAB-232872C81C1E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54891-C1B3-46FF-B684-11C57B5F7C68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hyperlink" Target="http://zno.osvita.ua/" TargetMode="External"/><Relationship Id="rId4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84360" y="1916280"/>
            <a:ext cx="636912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825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200" spc="-1" strike="noStrike">
                <a:solidFill>
                  <a:srgbClr val="0d01f5"/>
                </a:solidFill>
                <a:latin typeface="Trebuchet MS"/>
              </a:rPr>
              <a:t>Рекомендації щодо проходження ЗНО</a:t>
            </a:r>
            <a:br>
              <a:rPr sz="4200"/>
            </a:br>
            <a:endParaRPr b="1" lang="en-US" sz="4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179280" y="1052640"/>
            <a:ext cx="2540160" cy="50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1143000" y="3789360"/>
            <a:ext cx="640080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82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300" spc="-1" strike="noStrike">
                <a:solidFill>
                  <a:srgbClr val="0d01f5"/>
                </a:solidFill>
                <a:latin typeface="Trebuchet MS"/>
              </a:rPr>
              <a:t>Читай завдання до кінця</a:t>
            </a:r>
            <a:endParaRPr b="0" lang="en-US" sz="33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624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d01f5"/>
                </a:solidFill>
                <a:latin typeface="Trebuchet MS"/>
              </a:rPr>
              <a:t> </a:t>
            </a:r>
            <a:r>
              <a:rPr b="0" lang="uk-UA" sz="2500" spc="-1" strike="noStrike">
                <a:solidFill>
                  <a:srgbClr val="404040"/>
                </a:solidFill>
                <a:latin typeface="Trebuchet MS"/>
              </a:rPr>
              <a:t>Поспіх не повинен призводити до того, що ви будете намагатися зрозуміти умови завдання за «першими словами» й добудовувати кінцівку у власній уяві. </a:t>
            </a:r>
            <a:endParaRPr b="0" lang="en-US" sz="25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3" name="Title Placeholder 1" descr=""/>
          <p:cNvPicPr/>
          <p:nvPr/>
        </p:nvPicPr>
        <p:blipFill>
          <a:blip r:embed="rId2"/>
          <a:stretch/>
        </p:blipFill>
        <p:spPr>
          <a:xfrm>
            <a:off x="1258920" y="333360"/>
            <a:ext cx="450684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Title Placeholder 1" descr=""/>
          <p:cNvPicPr/>
          <p:nvPr/>
        </p:nvPicPr>
        <p:blipFill>
          <a:blip r:embed="rId2"/>
          <a:stretch/>
        </p:blipFill>
        <p:spPr>
          <a:xfrm>
            <a:off x="3203640" y="3500280"/>
            <a:ext cx="4897440" cy="294984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1143000" y="476280"/>
            <a:ext cx="6400800" cy="26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194040" indent="-154800"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d01f5"/>
                </a:solidFill>
                <a:latin typeface="Trebuchet MS"/>
              </a:rPr>
              <a:t>Не засмучуйся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194040" indent="-154800"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404040"/>
                </a:solidFill>
                <a:latin typeface="Trebuchet MS"/>
              </a:rPr>
              <a:t>У будь-якому професійно підготовленому тесті є завдання, з якими ви просто не зможете впоратись. Більше того, усі 100 % завдань зможуть виконати лише одиниці!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Title Placeholder 1" descr=""/>
          <p:cNvPicPr/>
          <p:nvPr/>
        </p:nvPicPr>
        <p:blipFill>
          <a:blip r:embed="rId2"/>
          <a:stretch/>
        </p:blipFill>
        <p:spPr>
          <a:xfrm>
            <a:off x="4572000" y="3357720"/>
            <a:ext cx="4094280" cy="324000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9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404040"/>
                </a:solidFill>
                <a:latin typeface="Trebuchet MS"/>
              </a:rPr>
              <a:t>Заплануй два кола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404040"/>
                </a:solidFill>
                <a:latin typeface="Trebuchet MS"/>
              </a:rPr>
              <a:t> </a:t>
            </a:r>
            <a:r>
              <a:rPr b="0" lang="uk-UA" sz="2800" spc="-1" strike="noStrike">
                <a:solidFill>
                  <a:srgbClr val="404040"/>
                </a:solidFill>
                <a:latin typeface="Trebuchet MS"/>
              </a:rPr>
              <a:t>Сплануйте середній час на кожне завдання таким чином, щоб за дві третини (максимум три чверті) тестування пройти всі завдання «за першим колом»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Title Placeholder 1" descr=""/>
          <p:cNvPicPr/>
          <p:nvPr/>
        </p:nvPicPr>
        <p:blipFill>
          <a:blip r:embed="rId2"/>
          <a:stretch/>
        </p:blipFill>
        <p:spPr>
          <a:xfrm>
            <a:off x="1763640" y="4005360"/>
            <a:ext cx="5616720" cy="237636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9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d01f5"/>
                </a:solidFill>
                <a:latin typeface="Trebuchet MS"/>
              </a:rPr>
              <a:t>Тренуйся 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404040"/>
                </a:solidFill>
                <a:latin typeface="Trebuchet MS"/>
              </a:rPr>
              <a:t>Перед офіційним тестуванням варто виконувати якнайбільше опублікованих тестів - просто заради тренування, наприклад, проходити </a:t>
            </a:r>
            <a:r>
              <a:rPr b="0" lang="uk-UA" sz="2800" spc="-1" strike="noStrike" u="sng">
                <a:solidFill>
                  <a:srgbClr val="56c7aa"/>
                </a:solidFill>
                <a:uFillTx/>
                <a:latin typeface="Trebuchet MS"/>
                <a:hlinkClick r:id="rId3"/>
              </a:rPr>
              <a:t>тести ЗНО онлайн</a:t>
            </a: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Title Placeholder 1" descr=""/>
          <p:cNvPicPr/>
          <p:nvPr/>
        </p:nvPicPr>
        <p:blipFill>
          <a:blip r:embed="rId2"/>
          <a:stretch/>
        </p:blipFill>
        <p:spPr>
          <a:xfrm>
            <a:off x="4140360" y="260280"/>
            <a:ext cx="4651200" cy="309564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684000" y="2492280"/>
            <a:ext cx="540036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9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1" lang="uk-UA" sz="3600" spc="-1" strike="noStrike">
                <a:solidFill>
                  <a:srgbClr val="0d01f5"/>
                </a:solidFill>
                <a:latin typeface="Trebuchet MS"/>
              </a:rPr>
              <a:t>Поспішай 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404040"/>
                </a:solidFill>
                <a:latin typeface="Trebuchet MS"/>
              </a:rPr>
              <a:t>Тренуйтеся із секундоміром у руках. Порівнюйте час, необхідний для виконання тестів зовнішнього оцінювання. Обмежуйте його.</a:t>
            </a:r>
            <a:r>
              <a:rPr b="0" lang="uk-UA" sz="24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Title Placeholder 1" descr=""/>
          <p:cNvPicPr/>
          <p:nvPr/>
        </p:nvPicPr>
        <p:blipFill>
          <a:blip r:embed="rId2"/>
          <a:stretch/>
        </p:blipFill>
        <p:spPr>
          <a:xfrm>
            <a:off x="5003640" y="3500280"/>
            <a:ext cx="3498840" cy="25178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9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d01f5"/>
                </a:solidFill>
                <a:latin typeface="Trebuchet MS"/>
              </a:rPr>
              <a:t>Випробовуй 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404040"/>
                </a:solidFill>
                <a:latin typeface="Trebuchet MS"/>
              </a:rPr>
              <a:t>У тренуваннях застосовуйте правильну тактику, тобто додержуйтесь усіх рекомендацій, як правильно вирішувати окреме завдання чи тест у цілому.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Title Placeholder 1" descr=""/>
          <p:cNvPicPr/>
          <p:nvPr/>
        </p:nvPicPr>
        <p:blipFill>
          <a:blip r:embed="rId2"/>
          <a:stretch/>
        </p:blipFill>
        <p:spPr>
          <a:xfrm>
            <a:off x="468360" y="260280"/>
            <a:ext cx="4381560" cy="280836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1143000" y="3284640"/>
            <a:ext cx="573408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4560" indent="-17136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300" spc="-1" strike="noStrike">
                <a:solidFill>
                  <a:srgbClr val="0d01f5"/>
                </a:solidFill>
                <a:latin typeface="Trebuchet MS"/>
              </a:rPr>
              <a:t>Пропускай</a:t>
            </a:r>
            <a:r>
              <a:rPr b="1" lang="uk-UA" sz="2000" spc="-1" strike="noStrike">
                <a:solidFill>
                  <a:srgbClr val="404040"/>
                </a:solidFill>
                <a:latin typeface="Trebuchet MS"/>
              </a:rPr>
              <a:t> 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1456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14560" indent="-171360">
              <a:lnSpc>
                <a:spcPct val="80000"/>
              </a:lnSpc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404040"/>
                </a:solidFill>
                <a:latin typeface="Trebuchet MS"/>
              </a:rPr>
              <a:t>Треба навчатися пропускати важкі чи незрозумілі завдання. Пам'ятайте: у тесті завжди знайдуться такі завдання, з якими ви обов'язково впораєтесь.</a:t>
            </a: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1142640" y="3789000"/>
            <a:ext cx="71010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d01f5"/>
                </a:solidFill>
                <a:latin typeface="Trebuchet MS"/>
              </a:rPr>
              <a:t>Вгадуй</a:t>
            </a:r>
            <a:r>
              <a:rPr b="1" lang="uk-UA" sz="2200" spc="-1" strike="noStrike">
                <a:solidFill>
                  <a:srgbClr val="0d01f5"/>
                </a:solidFill>
                <a:latin typeface="Trebuchet MS"/>
              </a:rPr>
              <a:t> 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404040"/>
                </a:solidFill>
                <a:latin typeface="Trebuchet MS"/>
              </a:rPr>
              <a:t>Якщо ви не впевнені у виборі, але інтуїтивно можете віддати перевагу якійсь відповіді перед іншими, то інтуїції варто довіряти!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3132000" y="189000"/>
            <a:ext cx="374508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9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d01f5"/>
                </a:solidFill>
                <a:latin typeface="Trebuchet MS"/>
              </a:rPr>
              <a:t>Виключай 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404040"/>
                </a:solidFill>
                <a:latin typeface="Trebuchet MS"/>
              </a:rPr>
              <a:t>Багато завдань можна швидше вирішити, якщо не шукати відразу правильну відповідь, а послідовно виключати ті, які явно не підходять.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7" name="Title Placeholder 1" descr=""/>
          <p:cNvPicPr/>
          <p:nvPr/>
        </p:nvPicPr>
        <p:blipFill>
          <a:blip r:embed="rId2"/>
          <a:stretch/>
        </p:blipFill>
        <p:spPr>
          <a:xfrm>
            <a:off x="4067280" y="3573360"/>
            <a:ext cx="457524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Title Placeholder 1" descr=""/>
          <p:cNvPicPr/>
          <p:nvPr/>
        </p:nvPicPr>
        <p:blipFill>
          <a:blip r:embed="rId2"/>
          <a:stretch/>
        </p:blipFill>
        <p:spPr>
          <a:xfrm>
            <a:off x="1793880" y="4724280"/>
            <a:ext cx="2849400" cy="115272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lnSpc>
                <a:spcPct val="90000"/>
              </a:lnSpc>
              <a:spcBef>
                <a:spcPts val="82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300" spc="-1" strike="noStrike">
                <a:solidFill>
                  <a:srgbClr val="0d01f5"/>
                </a:solidFill>
                <a:latin typeface="Trebuchet MS"/>
              </a:rPr>
              <a:t>Скорочуй вибір</a:t>
            </a:r>
            <a:endParaRPr b="0" lang="en-US" sz="33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624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404040"/>
                </a:solidFill>
                <a:latin typeface="Trebuchet MS"/>
              </a:rPr>
              <a:t> </a:t>
            </a:r>
            <a:r>
              <a:rPr b="0" lang="uk-UA" sz="2500" spc="-1" strike="noStrike">
                <a:solidFill>
                  <a:srgbClr val="404040"/>
                </a:solidFill>
                <a:latin typeface="Trebuchet MS"/>
              </a:rPr>
              <a:t>Якщо кілька відповідей (1-2) із чотирьох чи п'яти варіантів здаються вам зовсім невідповідними, а інші такими, що підходять з рівною ймовірністю, то в цьому випадку правильніше буде не пропускати це завдання, а намагатись вибрати відповідь з інших просто навмання. </a:t>
            </a:r>
            <a:endParaRPr b="0" lang="en-US" sz="25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1143000" y="404640"/>
            <a:ext cx="6400800" cy="41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lnSpc>
                <a:spcPct val="90000"/>
              </a:lnSpc>
              <a:spcBef>
                <a:spcPts val="82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300" spc="-1" strike="noStrike">
                <a:solidFill>
                  <a:srgbClr val="0d01f5"/>
                </a:solidFill>
                <a:latin typeface="Trebuchet MS"/>
              </a:rPr>
              <a:t>Думай тільки про поточне завдання </a:t>
            </a:r>
            <a:endParaRPr b="0" lang="en-US" sz="33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404040"/>
                </a:solidFill>
                <a:latin typeface="Trebuchet MS"/>
              </a:rPr>
              <a:t>Коли ви бачите завдання (запитання), забувайте все, що було в попередньому: як правило, завдання в тестах не пов'язані одне з одним, тому знання, які ви застосували в одному (уже вирішеному вами), як правило, не допомагають, а тільки заважають сконцентруватись і правильно вирішити інше завдання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1" name="Title Placeholder 1" descr=""/>
          <p:cNvPicPr/>
          <p:nvPr/>
        </p:nvPicPr>
        <p:blipFill>
          <a:blip r:embed="rId2"/>
          <a:stretch/>
        </p:blipFill>
        <p:spPr>
          <a:xfrm>
            <a:off x="4643280" y="4149720"/>
            <a:ext cx="402444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8T16:55:25Z</dcterms:created>
  <dc:creator>ТОЛЯ</dc:creator>
  <dc:description/>
  <dc:language>en-US</dc:language>
  <cp:lastModifiedBy>User</cp:lastModifiedBy>
  <dcterms:modified xsi:type="dcterms:W3CDTF">2015-11-01T14:39:06Z</dcterms:modified>
  <cp:revision>11</cp:revision>
  <dc:subject/>
  <dc:title>Презентация PowerPoint</dc:title>
</cp:coreProperties>
</file>