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25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2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5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86200" cy="501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0600" y="-360"/>
            <a:ext cx="2985840" cy="501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7800" y="75096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759200"/>
            <a:ext cx="5513400" cy="4510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516960"/>
            <a:ext cx="2986200" cy="501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F447824-49FA-4188-81E3-C6DC06FE2E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8DB48-8441-4FD3-85CD-E4C7958C8FF8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FEA61B4-68E5-47F6-BB59-F59302EDBD0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A449-1A9E-4EE8-9428-BFC47C97447A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6880" y="4759200"/>
            <a:ext cx="55134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F2EF798-6126-46E1-A6E1-8E3C5601732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CAD1C-7F37-4EB2-90E9-03FB80B17E08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D14E8E3-9591-419B-8D45-2B1A27B81E7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4FCC78-85E5-462C-A62D-757A35F558F1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253DA6F-C42F-4787-BC73-A59C404160C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2B88DE4-E854-4ED7-9233-1542BFDEC0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FDEF3-2419-4444-8FA2-A4ED6F1C3AF8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8966886-E165-40D1-8D2E-DE82736995F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E22734D-97E1-4EE8-A207-2F34AA4EEF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044DBA-892E-405C-B84C-340E36712227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960206E-5DAA-4070-A272-39BE7DEEE65D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640F-E828-4CC4-B8A6-8D7304779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E52A-DA66-469B-8348-4D552247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0AD1-901E-4B8C-8C25-5F7990DB5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5C93-A070-41B4-9B19-D7E20A8E1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09E8-21EF-4C37-A5D1-8D48F613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EE86-85A1-4936-90FB-DE7DC44E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7AC7-9DB9-427B-8F2A-17D29BCE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8A71-27EB-4C10-9890-03364DCE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00BD-90BF-4C37-8109-DC99F7E5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8769-363E-4A6C-8C8A-5BEE6794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E05B-9611-4F8C-9BA4-8D2089B8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02A2-EAAA-4221-987A-F554AC2A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793F-2E73-437F-B383-861AE01B8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" Target="slide12.xm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1908000" y="3284640"/>
            <a:ext cx="68421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</a:rPr>
              <a:t>Деякі п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ідсумки ЗНО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201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</a:rPr>
              <a:t>у м. Чугуї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50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Picture 10" descr="Chuguev_city_coa_n3288"/>
          <p:cNvPicPr/>
          <p:nvPr/>
        </p:nvPicPr>
        <p:blipFill>
          <a:blip r:embed="rId2"/>
          <a:stretch/>
        </p:blipFill>
        <p:spPr>
          <a:xfrm>
            <a:off x="3780000" y="476280"/>
            <a:ext cx="1947600" cy="244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3419640" y="4876920"/>
            <a:ext cx="56163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 Unicode MS"/>
              </a:rPr>
              <a:t>Сидоренко Олександр Леонідович</a:t>
            </a:r>
            <a:r>
              <a:rPr b="0" i="1" lang="uk-UA" sz="2400" spc="-1" strike="noStrike">
                <a:solidFill>
                  <a:srgbClr val="000000"/>
                </a:solidFill>
                <a:latin typeface="Arial Unicode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 Unicode MS"/>
              </a:rPr>
              <a:t>директор Харківського регіонального цент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 Unicode MS"/>
              </a:rPr>
              <a:t>оцінювання якості осві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 Unicode MS"/>
              </a:rPr>
              <a:t>доктор соціологічних наук, професо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 Unicode MS"/>
              </a:rPr>
              <a:t>член-кореспондент Національної академії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Arial Unicode MS"/>
              </a:rPr>
              <a:t>педагогічних наук Украї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Текст 6"/>
          <p:cNvSpPr/>
          <p:nvPr/>
        </p:nvSpPr>
        <p:spPr>
          <a:xfrm>
            <a:off x="428760" y="142920"/>
            <a:ext cx="8572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ані про абітурієнтів </a:t>
            </a: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Харківської  області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які отримали </a:t>
            </a: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менше 124 бал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а шкалою 100 – 200 балів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з української мови та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літератури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антирейт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4"/>
          <p:cNvSpPr/>
          <p:nvPr/>
        </p:nvSpPr>
        <p:spPr>
          <a:xfrm flipV="1">
            <a:off x="928800" y="6214680"/>
            <a:ext cx="7500960" cy="71640"/>
          </a:xfrm>
          <a:prstGeom prst="line">
            <a:avLst/>
          </a:prstGeom>
          <a:ln cap="rnd" w="633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3"/>
          <p:cNvSpPr/>
          <p:nvPr/>
        </p:nvSpPr>
        <p:spPr>
          <a:xfrm>
            <a:off x="285840" y="5929200"/>
            <a:ext cx="574560" cy="571680"/>
          </a:xfrm>
          <a:prstGeom prst="ellipse">
            <a:avLst/>
          </a:prstGeom>
          <a:solidFill>
            <a:srgbClr val="f8fb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22"/>
          <p:cNvSpPr/>
          <p:nvPr/>
        </p:nvSpPr>
        <p:spPr>
          <a:xfrm>
            <a:off x="8429760" y="5857920"/>
            <a:ext cx="571320" cy="571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alibri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Диаграмма 8" descr=""/>
          <p:cNvPicPr/>
          <p:nvPr/>
        </p:nvPicPr>
        <p:blipFill>
          <a:blip r:embed="rId1"/>
          <a:stretch/>
        </p:blipFill>
        <p:spPr>
          <a:xfrm>
            <a:off x="0" y="622440"/>
            <a:ext cx="9156600" cy="57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Диаграмма 11" descr=""/>
          <p:cNvPicPr/>
          <p:nvPr/>
        </p:nvPicPr>
        <p:blipFill>
          <a:blip r:embed="rId1"/>
          <a:stretch/>
        </p:blipFill>
        <p:spPr>
          <a:xfrm>
            <a:off x="-146160" y="853920"/>
            <a:ext cx="9296640" cy="5437440"/>
          </a:xfrm>
          <a:prstGeom prst="rect">
            <a:avLst/>
          </a:prstGeom>
          <a:ln w="0">
            <a:noFill/>
          </a:ln>
        </p:spPr>
      </p:pic>
      <p:sp>
        <p:nvSpPr>
          <p:cNvPr id="105" name="Line 14"/>
          <p:cNvSpPr/>
          <p:nvPr/>
        </p:nvSpPr>
        <p:spPr>
          <a:xfrm flipH="1">
            <a:off x="928440" y="6357960"/>
            <a:ext cx="7429320" cy="71280"/>
          </a:xfrm>
          <a:prstGeom prst="line">
            <a:avLst/>
          </a:prstGeom>
          <a:ln cap="rnd" w="633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3"/>
          <p:cNvSpPr/>
          <p:nvPr/>
        </p:nvSpPr>
        <p:spPr>
          <a:xfrm>
            <a:off x="8429760" y="6000840"/>
            <a:ext cx="574560" cy="571320"/>
          </a:xfrm>
          <a:prstGeom prst="ellipse">
            <a:avLst/>
          </a:prstGeom>
          <a:solidFill>
            <a:srgbClr val="f8fb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2"/>
          <p:cNvSpPr/>
          <p:nvPr/>
        </p:nvSpPr>
        <p:spPr>
          <a:xfrm>
            <a:off x="285840" y="6072120"/>
            <a:ext cx="571320" cy="5716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alibri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Текст 6"/>
          <p:cNvSpPr/>
          <p:nvPr/>
        </p:nvSpPr>
        <p:spPr>
          <a:xfrm>
            <a:off x="285840" y="785880"/>
            <a:ext cx="8858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ані про абітурієнтів </a:t>
            </a: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Харківської області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які отримали </a:t>
            </a: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180 і більше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балів за шкалою 100 – 200 балів </a:t>
            </a: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з української мови та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літератури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ейт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Диаграмма 9" descr=""/>
          <p:cNvPicPr/>
          <p:nvPr/>
        </p:nvPicPr>
        <p:blipFill>
          <a:blip r:embed="rId1"/>
          <a:stretch/>
        </p:blipFill>
        <p:spPr>
          <a:xfrm>
            <a:off x="-152280" y="689040"/>
            <a:ext cx="9296280" cy="5583240"/>
          </a:xfrm>
          <a:prstGeom prst="rect">
            <a:avLst/>
          </a:prstGeom>
          <a:ln w="0">
            <a:noFill/>
          </a:ln>
        </p:spPr>
      </p:pic>
      <p:sp>
        <p:nvSpPr>
          <p:cNvPr id="110" name="Текст 6"/>
          <p:cNvSpPr/>
          <p:nvPr/>
        </p:nvSpPr>
        <p:spPr>
          <a:xfrm>
            <a:off x="428760" y="142920"/>
            <a:ext cx="8572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ані про абітурієнтів </a:t>
            </a: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Харківської  області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які отримали </a:t>
            </a: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менше 124 бал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а шкалою 100 – 200 балів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з історії України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антирейт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 flipV="1">
            <a:off x="928800" y="6214680"/>
            <a:ext cx="7500960" cy="71640"/>
          </a:xfrm>
          <a:prstGeom prst="line">
            <a:avLst/>
          </a:prstGeom>
          <a:ln cap="rnd" w="633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3"/>
          <p:cNvSpPr/>
          <p:nvPr/>
        </p:nvSpPr>
        <p:spPr>
          <a:xfrm>
            <a:off x="285840" y="5929200"/>
            <a:ext cx="574560" cy="571680"/>
          </a:xfrm>
          <a:prstGeom prst="ellipse">
            <a:avLst/>
          </a:prstGeom>
          <a:solidFill>
            <a:srgbClr val="f8fb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22"/>
          <p:cNvSpPr/>
          <p:nvPr/>
        </p:nvSpPr>
        <p:spPr>
          <a:xfrm>
            <a:off x="8429760" y="5857920"/>
            <a:ext cx="571320" cy="571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alibri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Диаграмма 9" descr=""/>
          <p:cNvPicPr/>
          <p:nvPr/>
        </p:nvPicPr>
        <p:blipFill>
          <a:blip r:embed="rId1"/>
          <a:stretch/>
        </p:blipFill>
        <p:spPr>
          <a:xfrm>
            <a:off x="-109440" y="835200"/>
            <a:ext cx="9442440" cy="5443200"/>
          </a:xfrm>
          <a:prstGeom prst="rect">
            <a:avLst/>
          </a:prstGeom>
          <a:ln w="0">
            <a:noFill/>
          </a:ln>
        </p:spPr>
      </p:pic>
      <p:sp>
        <p:nvSpPr>
          <p:cNvPr id="115" name="Line 14"/>
          <p:cNvSpPr/>
          <p:nvPr/>
        </p:nvSpPr>
        <p:spPr>
          <a:xfrm flipH="1">
            <a:off x="928440" y="6357960"/>
            <a:ext cx="7429320" cy="71280"/>
          </a:xfrm>
          <a:prstGeom prst="line">
            <a:avLst/>
          </a:prstGeom>
          <a:ln cap="rnd" w="633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3"/>
          <p:cNvSpPr/>
          <p:nvPr/>
        </p:nvSpPr>
        <p:spPr>
          <a:xfrm>
            <a:off x="8429760" y="6000840"/>
            <a:ext cx="574560" cy="571320"/>
          </a:xfrm>
          <a:prstGeom prst="ellipse">
            <a:avLst/>
          </a:prstGeom>
          <a:solidFill>
            <a:srgbClr val="f8fb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2"/>
          <p:cNvSpPr/>
          <p:nvPr/>
        </p:nvSpPr>
        <p:spPr>
          <a:xfrm>
            <a:off x="285840" y="6072120"/>
            <a:ext cx="571320" cy="5716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alibri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Текст 6"/>
          <p:cNvSpPr/>
          <p:nvPr/>
        </p:nvSpPr>
        <p:spPr>
          <a:xfrm>
            <a:off x="285840" y="785880"/>
            <a:ext cx="8858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ані про абітурієнтів </a:t>
            </a: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Харківської області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які отримали </a:t>
            </a: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180 і більше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балів за шкалою 100 – 200 балів </a:t>
            </a: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з історії України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ейт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Диаграмма 9" descr=""/>
          <p:cNvPicPr/>
          <p:nvPr/>
        </p:nvPicPr>
        <p:blipFill>
          <a:blip r:embed="rId1"/>
          <a:stretch/>
        </p:blipFill>
        <p:spPr>
          <a:xfrm>
            <a:off x="-291960" y="622440"/>
            <a:ext cx="9435960" cy="5649840"/>
          </a:xfrm>
          <a:prstGeom prst="rect">
            <a:avLst/>
          </a:prstGeom>
          <a:ln w="0">
            <a:noFill/>
          </a:ln>
        </p:spPr>
      </p:pic>
      <p:sp>
        <p:nvSpPr>
          <p:cNvPr id="120" name="Текст 6"/>
          <p:cNvSpPr/>
          <p:nvPr/>
        </p:nvSpPr>
        <p:spPr>
          <a:xfrm>
            <a:off x="428760" y="142920"/>
            <a:ext cx="8572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ані про абітурієнтів </a:t>
            </a: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Харківської  області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які отримали </a:t>
            </a: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менше 124 бал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а шкалою 100 – 200 балів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з математики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антирейт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4"/>
          <p:cNvSpPr/>
          <p:nvPr/>
        </p:nvSpPr>
        <p:spPr>
          <a:xfrm flipV="1">
            <a:off x="928800" y="6214680"/>
            <a:ext cx="7500960" cy="71640"/>
          </a:xfrm>
          <a:prstGeom prst="line">
            <a:avLst/>
          </a:prstGeom>
          <a:ln cap="rnd" w="633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3"/>
          <p:cNvSpPr/>
          <p:nvPr/>
        </p:nvSpPr>
        <p:spPr>
          <a:xfrm>
            <a:off x="285840" y="5929200"/>
            <a:ext cx="574560" cy="571680"/>
          </a:xfrm>
          <a:prstGeom prst="ellipse">
            <a:avLst/>
          </a:prstGeom>
          <a:solidFill>
            <a:srgbClr val="f8fb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2"/>
          <p:cNvSpPr/>
          <p:nvPr/>
        </p:nvSpPr>
        <p:spPr>
          <a:xfrm>
            <a:off x="8429760" y="5857920"/>
            <a:ext cx="571320" cy="571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alibri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Диаграмма 9" descr=""/>
          <p:cNvPicPr/>
          <p:nvPr/>
        </p:nvPicPr>
        <p:blipFill>
          <a:blip r:embed="rId1"/>
          <a:stretch/>
        </p:blipFill>
        <p:spPr>
          <a:xfrm>
            <a:off x="-146160" y="781200"/>
            <a:ext cx="9436320" cy="5583240"/>
          </a:xfrm>
          <a:prstGeom prst="rect">
            <a:avLst/>
          </a:prstGeom>
          <a:ln w="0">
            <a:noFill/>
          </a:ln>
        </p:spPr>
      </p:pic>
      <p:sp>
        <p:nvSpPr>
          <p:cNvPr id="125" name="Line 14"/>
          <p:cNvSpPr/>
          <p:nvPr/>
        </p:nvSpPr>
        <p:spPr>
          <a:xfrm flipH="1">
            <a:off x="928440" y="6357960"/>
            <a:ext cx="7429320" cy="71280"/>
          </a:xfrm>
          <a:prstGeom prst="line">
            <a:avLst/>
          </a:prstGeom>
          <a:ln cap="rnd" w="633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3"/>
          <p:cNvSpPr/>
          <p:nvPr/>
        </p:nvSpPr>
        <p:spPr>
          <a:xfrm>
            <a:off x="8429760" y="6000840"/>
            <a:ext cx="574560" cy="571320"/>
          </a:xfrm>
          <a:prstGeom prst="ellipse">
            <a:avLst/>
          </a:prstGeom>
          <a:solidFill>
            <a:srgbClr val="f8fb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2"/>
          <p:cNvSpPr/>
          <p:nvPr/>
        </p:nvSpPr>
        <p:spPr>
          <a:xfrm>
            <a:off x="285840" y="6072120"/>
            <a:ext cx="571320" cy="5716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alibri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Текст 6"/>
          <p:cNvSpPr/>
          <p:nvPr/>
        </p:nvSpPr>
        <p:spPr>
          <a:xfrm>
            <a:off x="285840" y="692280"/>
            <a:ext cx="8858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ані про абітурієнтів </a:t>
            </a: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Харківської області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які отримали </a:t>
            </a: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180 і більше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балів за шкалою 100 – 200 балів </a:t>
            </a: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з математики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ейт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Текст 6"/>
          <p:cNvSpPr/>
          <p:nvPr/>
        </p:nvSpPr>
        <p:spPr>
          <a:xfrm>
            <a:off x="428760" y="142920"/>
            <a:ext cx="8572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ані про абітурієнтів </a:t>
            </a: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Харківської  області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які отрим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менше 124 балів  з біології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антирейт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V="1">
            <a:off x="1285920" y="6215040"/>
            <a:ext cx="6786360" cy="46080"/>
          </a:xfrm>
          <a:prstGeom prst="line">
            <a:avLst/>
          </a:prstGeom>
          <a:ln cap="rnd" w="633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3"/>
          <p:cNvSpPr/>
          <p:nvPr/>
        </p:nvSpPr>
        <p:spPr>
          <a:xfrm>
            <a:off x="642960" y="5929200"/>
            <a:ext cx="574560" cy="571680"/>
          </a:xfrm>
          <a:prstGeom prst="ellipse">
            <a:avLst/>
          </a:prstGeom>
          <a:solidFill>
            <a:srgbClr val="f8fb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2"/>
          <p:cNvSpPr/>
          <p:nvPr/>
        </p:nvSpPr>
        <p:spPr>
          <a:xfrm>
            <a:off x="8143920" y="5857920"/>
            <a:ext cx="571320" cy="571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alibri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608040" cy="857160"/>
          </a:xfrm>
          <a:prstGeom prst="rect">
            <a:avLst/>
          </a:prstGeom>
          <a:ln w="0">
            <a:noFill/>
          </a:ln>
        </p:spPr>
      </p:pic>
      <p:pic>
        <p:nvPicPr>
          <p:cNvPr id="134" name="Диаграмма 9" descr=""/>
          <p:cNvPicPr/>
          <p:nvPr/>
        </p:nvPicPr>
        <p:blipFill>
          <a:blip r:embed="rId2"/>
          <a:stretch/>
        </p:blipFill>
        <p:spPr>
          <a:xfrm>
            <a:off x="133200" y="706320"/>
            <a:ext cx="887760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Line 14"/>
          <p:cNvSpPr/>
          <p:nvPr/>
        </p:nvSpPr>
        <p:spPr>
          <a:xfrm flipH="1">
            <a:off x="1142640" y="6357960"/>
            <a:ext cx="7000920" cy="46080"/>
          </a:xfrm>
          <a:prstGeom prst="line">
            <a:avLst/>
          </a:prstGeom>
          <a:ln cap="rnd" w="633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3"/>
          <p:cNvSpPr/>
          <p:nvPr/>
        </p:nvSpPr>
        <p:spPr>
          <a:xfrm>
            <a:off x="8215200" y="6000840"/>
            <a:ext cx="574920" cy="571320"/>
          </a:xfrm>
          <a:prstGeom prst="ellipse">
            <a:avLst/>
          </a:prstGeom>
          <a:solidFill>
            <a:srgbClr val="f8fb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22"/>
          <p:cNvSpPr/>
          <p:nvPr/>
        </p:nvSpPr>
        <p:spPr>
          <a:xfrm>
            <a:off x="500040" y="6072120"/>
            <a:ext cx="571680" cy="5716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alibri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Текст 6"/>
          <p:cNvSpPr/>
          <p:nvPr/>
        </p:nvSpPr>
        <p:spPr>
          <a:xfrm>
            <a:off x="285840" y="785880"/>
            <a:ext cx="8858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ані про абітурієнтів </a:t>
            </a: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Харківської  області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які отрим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180 і більше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балів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з біології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ейт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8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42920" y="0"/>
            <a:ext cx="785880" cy="1030320"/>
          </a:xfrm>
          <a:prstGeom prst="rect">
            <a:avLst/>
          </a:prstGeom>
          <a:ln w="0">
            <a:noFill/>
          </a:ln>
        </p:spPr>
      </p:pic>
      <p:pic>
        <p:nvPicPr>
          <p:cNvPr id="140" name="Диаграмма 9" descr=""/>
          <p:cNvPicPr/>
          <p:nvPr/>
        </p:nvPicPr>
        <p:blipFill>
          <a:blip r:embed="rId2"/>
          <a:stretch/>
        </p:blipFill>
        <p:spPr>
          <a:xfrm>
            <a:off x="-6480" y="920880"/>
            <a:ext cx="9156960" cy="51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ерхня частина рейтингу за результатами ЗНО-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2" marL="994320" indent="-1987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іцей 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7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Хар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імназія № 6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Хар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імнізія № 169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Хар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 Бойка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Хар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іверситетський ліцей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Хар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імназія № 23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Хар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іцей № 173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Хар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імназія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Лоз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ВК № 45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Хар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імназія № 46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Хар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. школа № 156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Хар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імназія № 14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Хар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імназія № 47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Хар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дарованість”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Хар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1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5483160"/>
            <a:ext cx="109692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Кращі школи м. Чугуїв </a:t>
            </a:r>
            <a:br>
              <a:rPr sz="3200"/>
            </a:br>
            <a:r>
              <a:rPr b="1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а результатами ЗНО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1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4888080"/>
            <a:ext cx="1571760" cy="196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857160" y="1571760"/>
          <a:ext cx="8072640" cy="3435120"/>
        </p:xfrm>
        <a:graphic>
          <a:graphicData uri="http://schemas.openxmlformats.org/drawingml/2006/table">
            <a:tbl>
              <a:tblPr/>
              <a:tblGrid>
                <a:gridCol w="8072640"/>
              </a:tblGrid>
              <a:tr h="2144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угуївська загальноосвітн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I-III ступенів № 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угуївської міської рад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ківської област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906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угуївська гімназія № 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угуївської міської рад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ківської област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Взяли участь у ЗНО-2013</a:t>
            </a:r>
            <a:br>
              <a:rPr sz="3600"/>
            </a:b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(% від зареєстрованих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42920" y="142920"/>
            <a:ext cx="1285920" cy="104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Object 6"/>
          <p:cNvGraphicFramePr/>
          <p:nvPr/>
        </p:nvGraphicFramePr>
        <p:xfrm>
          <a:off x="1042920" y="1428840"/>
          <a:ext cx="7561440" cy="4284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428840"/>
                    <a:ext cx="7561440" cy="42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1714680" y="1071720"/>
            <a:ext cx="5929200" cy="55195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"/>
          <p:cNvSpPr/>
          <p:nvPr/>
        </p:nvSpPr>
        <p:spPr>
          <a:xfrm>
            <a:off x="46836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 u="sng">
                <a:solidFill>
                  <a:srgbClr val="ff3300"/>
                </a:solidFill>
                <a:uFillTx/>
                <a:latin typeface="Arial"/>
              </a:rPr>
              <a:t>Деякі питання ЗНО 20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Прямоугольник 7" descr=""/>
          <p:cNvPicPr/>
          <p:nvPr/>
        </p:nvPicPr>
        <p:blipFill>
          <a:blip r:embed="rId2"/>
          <a:stretch/>
        </p:blipFill>
        <p:spPr>
          <a:xfrm>
            <a:off x="2916360" y="1413000"/>
            <a:ext cx="3762360" cy="331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51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 Box 8"/>
          <p:cNvSpPr/>
          <p:nvPr/>
        </p:nvSpPr>
        <p:spPr>
          <a:xfrm>
            <a:off x="1763640" y="1397160"/>
            <a:ext cx="723600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Телефон інформаційної служб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(057) 705-07-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Фак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(057)705-15-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Електронна пошт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office@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айт: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ww.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Адре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майдан Свободи, 6, офіс 463, м. Харків, 610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2"/>
          <a:stretch/>
        </p:blipFill>
        <p:spPr>
          <a:xfrm>
            <a:off x="4067280" y="0"/>
            <a:ext cx="259236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57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6"/>
          <p:cNvSpPr/>
          <p:nvPr/>
        </p:nvSpPr>
        <p:spPr>
          <a:xfrm>
            <a:off x="1763640" y="1397160"/>
            <a:ext cx="723600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Телефон інформаційної служб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(057) 705-07-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Фак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(057)705-15-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Електронна пошт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office@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айт: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ww.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Адре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майдан Свободи, 6, офіс 463, м. Харків, 610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2"/>
          <a:stretch/>
        </p:blipFill>
        <p:spPr>
          <a:xfrm>
            <a:off x="4067280" y="0"/>
            <a:ext cx="2592360" cy="14810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Зі Святом Першого Вересня!...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4356000" y="333360"/>
            <a:ext cx="43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3300"/>
                </a:solidFill>
                <a:latin typeface="Arial"/>
              </a:rPr>
              <a:t>Зі святом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Виявлені порушення </a:t>
            </a:r>
            <a:br>
              <a:rPr sz="3200"/>
            </a:b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(% від кількості учасників ЗНО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214200" y="0"/>
            <a:ext cx="860400" cy="121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Object 8"/>
          <p:cNvGraphicFramePr/>
          <p:nvPr/>
        </p:nvGraphicFramePr>
        <p:xfrm>
          <a:off x="1042920" y="1125360"/>
          <a:ext cx="6913800" cy="4784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125360"/>
                    <a:ext cx="6913800" cy="47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6"/>
          <p:cNvSpPr/>
          <p:nvPr/>
        </p:nvSpPr>
        <p:spPr>
          <a:xfrm>
            <a:off x="1042920" y="594216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гальна кількість виявлених порушень  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ківській області- 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928880" y="2357280"/>
            <a:ext cx="68421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3300"/>
                </a:solidFill>
                <a:latin typeface="Calibri"/>
              </a:rPr>
              <a:t>Деякі результати ЗНО -20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66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Calibri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Calibri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Calibri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Calibri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Calibri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Calibri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Calibri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24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 – 150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,5 – 179,5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ff3300"/>
                </a:solidFill>
                <a:latin typeface="Arial"/>
              </a:rPr>
              <a:t>Шкала розподілу </a:t>
            </a:r>
            <a:br>
              <a:rPr sz="3900"/>
            </a:br>
            <a:r>
              <a:rPr b="1" lang="uk-UA" sz="3900" spc="-1" strike="noStrike">
                <a:solidFill>
                  <a:srgbClr val="ff3300"/>
                </a:solidFill>
                <a:latin typeface="Arial"/>
              </a:rPr>
              <a:t>результатів ЗНО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icon_problem_man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508800" y="4286160"/>
            <a:ext cx="24145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8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ідвищення рейтингу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uk-UA" sz="26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Харківської області</a:t>
            </a:r>
            <a:r>
              <a:rPr b="1" lang="en-US" sz="30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еред абітурієнтів Украї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які отримали </a:t>
            </a:r>
            <a:r>
              <a:rPr b="1" lang="uk-UA" sz="26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менше 124 балів</a:t>
            </a:r>
            <a:r>
              <a:rPr b="1" lang="uk-UA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а шкалою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[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00-200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]</a:t>
            </a: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балів по предме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Диаграмма 12" descr=""/>
          <p:cNvPicPr/>
          <p:nvPr/>
        </p:nvPicPr>
        <p:blipFill>
          <a:blip r:embed="rId1"/>
          <a:stretch/>
        </p:blipFill>
        <p:spPr>
          <a:xfrm>
            <a:off x="0" y="831960"/>
            <a:ext cx="8915400" cy="6026040"/>
          </a:xfrm>
          <a:prstGeom prst="rect">
            <a:avLst/>
          </a:prstGeom>
          <a:ln w="0">
            <a:noFill/>
          </a:ln>
        </p:spPr>
      </p:pic>
      <p:sp>
        <p:nvSpPr>
          <p:cNvPr id="74" name="Line 138"/>
          <p:cNvSpPr/>
          <p:nvPr/>
        </p:nvSpPr>
        <p:spPr>
          <a:xfrm flipV="1">
            <a:off x="1219320" y="2666880"/>
            <a:ext cx="0" cy="935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38"/>
          <p:cNvSpPr/>
          <p:nvPr/>
        </p:nvSpPr>
        <p:spPr>
          <a:xfrm flipV="1">
            <a:off x="2209680" y="2057040"/>
            <a:ext cx="0" cy="25146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38"/>
          <p:cNvSpPr/>
          <p:nvPr/>
        </p:nvSpPr>
        <p:spPr>
          <a:xfrm flipH="1" flipV="1">
            <a:off x="3200040" y="1828800"/>
            <a:ext cx="3240" cy="520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38"/>
          <p:cNvSpPr/>
          <p:nvPr/>
        </p:nvSpPr>
        <p:spPr>
          <a:xfrm flipV="1">
            <a:off x="4191120" y="3123720"/>
            <a:ext cx="0" cy="2133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38"/>
          <p:cNvSpPr/>
          <p:nvPr/>
        </p:nvSpPr>
        <p:spPr>
          <a:xfrm flipV="1">
            <a:off x="5181480" y="3124080"/>
            <a:ext cx="0" cy="935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38"/>
          <p:cNvSpPr/>
          <p:nvPr/>
        </p:nvSpPr>
        <p:spPr>
          <a:xfrm flipV="1">
            <a:off x="6172200" y="2286000"/>
            <a:ext cx="0" cy="457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38"/>
          <p:cNvSpPr/>
          <p:nvPr/>
        </p:nvSpPr>
        <p:spPr>
          <a:xfrm flipV="1">
            <a:off x="7162920" y="3124080"/>
            <a:ext cx="0" cy="23623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8"/>
          <p:cNvSpPr/>
          <p:nvPr/>
        </p:nvSpPr>
        <p:spPr>
          <a:xfrm flipV="1">
            <a:off x="8153280" y="2057040"/>
            <a:ext cx="0" cy="3429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00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80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1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ідвищення рейтингу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uk-UA" sz="26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Харківської області</a:t>
            </a:r>
            <a:r>
              <a:rPr b="1" lang="en-US" sz="30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еред абітурієнтів Украї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які отримали </a:t>
            </a:r>
            <a:r>
              <a:rPr b="1" lang="uk-UA" sz="26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більше 180 балів</a:t>
            </a: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за шкалою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[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00-200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]</a:t>
            </a: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балів по предме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Диаграмма 9" descr=""/>
          <p:cNvPicPr/>
          <p:nvPr/>
        </p:nvPicPr>
        <p:blipFill>
          <a:blip r:embed="rId1"/>
          <a:stretch/>
        </p:blipFill>
        <p:spPr>
          <a:xfrm>
            <a:off x="-228600" y="533520"/>
            <a:ext cx="9528120" cy="6099120"/>
          </a:xfrm>
          <a:prstGeom prst="rect">
            <a:avLst/>
          </a:prstGeom>
          <a:ln w="0">
            <a:noFill/>
          </a:ln>
        </p:spPr>
      </p:pic>
      <p:sp>
        <p:nvSpPr>
          <p:cNvPr id="84" name="Line 16"/>
          <p:cNvSpPr/>
          <p:nvPr/>
        </p:nvSpPr>
        <p:spPr>
          <a:xfrm flipV="1">
            <a:off x="1828800" y="3123720"/>
            <a:ext cx="0" cy="360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6"/>
          <p:cNvSpPr/>
          <p:nvPr/>
        </p:nvSpPr>
        <p:spPr>
          <a:xfrm flipV="1">
            <a:off x="2743200" y="3276720"/>
            <a:ext cx="0" cy="8380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6"/>
          <p:cNvSpPr/>
          <p:nvPr/>
        </p:nvSpPr>
        <p:spPr>
          <a:xfrm flipV="1">
            <a:off x="3733920" y="2971440"/>
            <a:ext cx="0" cy="7621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6"/>
          <p:cNvSpPr/>
          <p:nvPr/>
        </p:nvSpPr>
        <p:spPr>
          <a:xfrm flipV="1">
            <a:off x="4648320" y="3581280"/>
            <a:ext cx="0" cy="10670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6"/>
          <p:cNvSpPr/>
          <p:nvPr/>
        </p:nvSpPr>
        <p:spPr>
          <a:xfrm flipV="1">
            <a:off x="5638680" y="2209320"/>
            <a:ext cx="0" cy="1079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6"/>
          <p:cNvSpPr/>
          <p:nvPr/>
        </p:nvSpPr>
        <p:spPr>
          <a:xfrm flipV="1">
            <a:off x="6629400" y="2361960"/>
            <a:ext cx="0" cy="990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6"/>
          <p:cNvSpPr/>
          <p:nvPr/>
        </p:nvSpPr>
        <p:spPr>
          <a:xfrm flipV="1">
            <a:off x="7543800" y="2514240"/>
            <a:ext cx="0" cy="360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6"/>
          <p:cNvSpPr/>
          <p:nvPr/>
        </p:nvSpPr>
        <p:spPr>
          <a:xfrm flipV="1">
            <a:off x="8532720" y="1844280"/>
            <a:ext cx="0" cy="360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6"/>
          <p:cNvSpPr/>
          <p:nvPr/>
        </p:nvSpPr>
        <p:spPr>
          <a:xfrm flipV="1">
            <a:off x="838080" y="3123720"/>
            <a:ext cx="0" cy="360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00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8000"/>
                            </p:stCondLst>
                            <p:childTnLst>
                              <p:par>
                                <p:cTn id="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900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ейтинг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м. Чугуїв</a:t>
            </a: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серед абітурієнтів </a:t>
            </a:r>
            <a:r>
              <a:rPr b="1" lang="uk-UA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Харківської області</a:t>
            </a: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які отримали </a:t>
            </a:r>
            <a:r>
              <a:rPr b="1" lang="uk-UA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менше 124 балів</a:t>
            </a:r>
            <a:r>
              <a:rPr b="1" lang="uk-UA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а шкалою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[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00-200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]</a:t>
            </a: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балів по предме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7"/>
          <p:cNvGraphicFramePr/>
          <p:nvPr/>
        </p:nvGraphicFramePr>
        <p:xfrm>
          <a:off x="611280" y="1536840"/>
          <a:ext cx="8137440" cy="423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536840"/>
                    <a:ext cx="8137440" cy="42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Line 138"/>
          <p:cNvSpPr/>
          <p:nvPr/>
        </p:nvSpPr>
        <p:spPr>
          <a:xfrm flipV="1">
            <a:off x="6143760" y="2785680"/>
            <a:ext cx="0" cy="7923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896472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ейтинг </a:t>
            </a:r>
            <a:r>
              <a:rPr b="1" lang="uk-UA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м. Чугуїв</a:t>
            </a: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серед абітурієнтів </a:t>
            </a:r>
            <a:r>
              <a:rPr b="1" lang="uk-UA" sz="25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Харківської області</a:t>
            </a: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які отримали </a:t>
            </a:r>
            <a:r>
              <a:rPr b="1" lang="uk-UA" sz="25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більше 180 балів</a:t>
            </a: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за шкалою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[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00-200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]</a:t>
            </a: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балів по предме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Object 10" descr=""/>
          <p:cNvPicPr/>
          <p:nvPr/>
        </p:nvPicPr>
        <p:blipFill>
          <a:blip r:embed="rId1"/>
          <a:stretch/>
        </p:blipFill>
        <p:spPr>
          <a:xfrm>
            <a:off x="1042920" y="1428840"/>
            <a:ext cx="74167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08:13:26Z</dcterms:created>
  <dc:creator>N.Rusanova</dc:creator>
  <dc:description/>
  <dc:language>en-US</dc:language>
  <cp:lastModifiedBy>Prime Auditor</cp:lastModifiedBy>
  <dcterms:modified xsi:type="dcterms:W3CDTF">2013-08-29T07:31:27Z</dcterms:modified>
  <cp:revision>217</cp:revision>
  <dc:subject/>
  <dc:title>Слайд 1</dc:title>
</cp:coreProperties>
</file>