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9200"/>
            <a:ext cx="551340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BECC0A-C1EE-4E3B-99B3-F617ACF11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08F7B-0028-4ABA-B613-6098DE18442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B15FF84-E63C-42F8-B8EB-5B340A38859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3E39-0706-4574-BC9E-495E51B3968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6880" y="4759200"/>
            <a:ext cx="55134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7F73A60-E448-49D9-A94D-DFE4B3F1AC1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00A81-3C2B-4E62-953C-47438711D32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866B8B-2DE9-48F5-A4C6-EB9631E5A15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25BAE-CD55-4402-AE87-D2AAABA4A67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B3B1E6-FD1D-49A8-92DA-A2C573857B8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B139E0-6434-4FFB-8AE1-7FD888911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453EB-4994-4224-ABF6-ED4ABB20B7C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8FA3C43-9780-4037-B737-4EB3FFD71D3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75F832-A1A9-46DC-B8CA-462318E18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D3229-B6A6-4FD3-B949-8201BE01CB5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D68FB75-ABEF-41AD-BCB9-18EA9D013CD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5C5-87DA-4E59-93A4-A470C7BB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972-C51D-429D-AAC1-22E5791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63C-5DF7-476C-AD21-45039211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2DF-0ABC-47DF-86C5-B4560E56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B50-5C90-496E-BF91-B5469A7E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48E-9ED3-46BE-B255-D88913A2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7C6-C8B2-49DC-8C7B-258DC00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17A-E7ED-4C92-93B5-02A11A09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ACB-027B-4EC7-9BDC-1F7961B7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519-F0E2-4CAD-8514-323814B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224-F05D-4E82-97DD-03973EE4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A1A-8E30-47D2-B5C5-567654AE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92C2-7A08-4721-B532-8C8381D5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" Target="slide12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908000" y="3284640"/>
            <a:ext cx="68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Деякі п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ідсумки ЗН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201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у м. Чугуї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50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0" descr="Chuguev_city_coa_n3288"/>
          <p:cNvPicPr/>
          <p:nvPr/>
        </p:nvPicPr>
        <p:blipFill>
          <a:blip r:embed="rId2"/>
          <a:stretch/>
        </p:blipFill>
        <p:spPr>
          <a:xfrm>
            <a:off x="3780000" y="476280"/>
            <a:ext cx="1947600" cy="244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419640" y="4876920"/>
            <a:ext cx="561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 Unicode MS"/>
              </a:rPr>
              <a:t>Сидоренко Олександр Леонідович</a:t>
            </a:r>
            <a:r>
              <a:rPr b="0" i="1" lang="uk-UA" sz="24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директор Харківського регіонального цен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оцінювання якості осві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доктор соціологічних наук, профес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член-кореспондент Національної академ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 Unicode MS"/>
              </a:rPr>
              <a:t>педагогічних наук Украї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100 – 200 балів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української мови та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літератур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928800" y="6214680"/>
            <a:ext cx="7500960" cy="7164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28584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842976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Диаграмма 8" descr=""/>
          <p:cNvPicPr/>
          <p:nvPr/>
        </p:nvPicPr>
        <p:blipFill>
          <a:blip r:embed="rId1"/>
          <a:stretch/>
        </p:blipFill>
        <p:spPr>
          <a:xfrm>
            <a:off x="0" y="622440"/>
            <a:ext cx="91566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Диаграмма 11" descr=""/>
          <p:cNvPicPr/>
          <p:nvPr/>
        </p:nvPicPr>
        <p:blipFill>
          <a:blip r:embed="rId1"/>
          <a:stretch/>
        </p:blipFill>
        <p:spPr>
          <a:xfrm>
            <a:off x="-146160" y="853920"/>
            <a:ext cx="9296640" cy="5437440"/>
          </a:xfrm>
          <a:prstGeom prst="rect">
            <a:avLst/>
          </a:prstGeom>
          <a:ln w="0">
            <a:noFill/>
          </a:ln>
        </p:spPr>
      </p:pic>
      <p:sp>
        <p:nvSpPr>
          <p:cNvPr id="105" name="Line 14"/>
          <p:cNvSpPr/>
          <p:nvPr/>
        </p:nvSpPr>
        <p:spPr>
          <a:xfrm flipH="1">
            <a:off x="928440" y="6357960"/>
            <a:ext cx="7429320" cy="712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8429760" y="6000840"/>
            <a:ext cx="57456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285840" y="6072120"/>
            <a:ext cx="57132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6"/>
          <p:cNvSpPr/>
          <p:nvPr/>
        </p:nvSpPr>
        <p:spPr>
          <a:xfrm>
            <a:off x="285840" y="7858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ів за шкалою 100 – 200 бал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української мови та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літератур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Диаграмма 9" descr=""/>
          <p:cNvPicPr/>
          <p:nvPr/>
        </p:nvPicPr>
        <p:blipFill>
          <a:blip r:embed="rId1"/>
          <a:stretch/>
        </p:blipFill>
        <p:spPr>
          <a:xfrm>
            <a:off x="-152280" y="689040"/>
            <a:ext cx="9296280" cy="5583240"/>
          </a:xfrm>
          <a:prstGeom prst="rect">
            <a:avLst/>
          </a:prstGeom>
          <a:ln w="0">
            <a:noFill/>
          </a:ln>
        </p:spPr>
      </p:pic>
      <p:sp>
        <p:nvSpPr>
          <p:cNvPr id="110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100 – 200 балів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історії Україн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928800" y="6214680"/>
            <a:ext cx="7500960" cy="7164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28584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842976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9" descr=""/>
          <p:cNvPicPr/>
          <p:nvPr/>
        </p:nvPicPr>
        <p:blipFill>
          <a:blip r:embed="rId1"/>
          <a:stretch/>
        </p:blipFill>
        <p:spPr>
          <a:xfrm>
            <a:off x="-109440" y="835200"/>
            <a:ext cx="9442440" cy="5443200"/>
          </a:xfrm>
          <a:prstGeom prst="rect">
            <a:avLst/>
          </a:prstGeom>
          <a:ln w="0">
            <a:noFill/>
          </a:ln>
        </p:spPr>
      </p:pic>
      <p:sp>
        <p:nvSpPr>
          <p:cNvPr id="115" name="Line 14"/>
          <p:cNvSpPr/>
          <p:nvPr/>
        </p:nvSpPr>
        <p:spPr>
          <a:xfrm flipH="1">
            <a:off x="928440" y="6357960"/>
            <a:ext cx="7429320" cy="712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8429760" y="6000840"/>
            <a:ext cx="57456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2"/>
          <p:cNvSpPr/>
          <p:nvPr/>
        </p:nvSpPr>
        <p:spPr>
          <a:xfrm>
            <a:off x="285840" y="6072120"/>
            <a:ext cx="57132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6"/>
          <p:cNvSpPr/>
          <p:nvPr/>
        </p:nvSpPr>
        <p:spPr>
          <a:xfrm>
            <a:off x="285840" y="7858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ів за шкалою 100 – 200 бал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історії Україн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Диаграмма 9" descr=""/>
          <p:cNvPicPr/>
          <p:nvPr/>
        </p:nvPicPr>
        <p:blipFill>
          <a:blip r:embed="rId1"/>
          <a:stretch/>
        </p:blipFill>
        <p:spPr>
          <a:xfrm>
            <a:off x="-291960" y="622440"/>
            <a:ext cx="9435960" cy="5649840"/>
          </a:xfrm>
          <a:prstGeom prst="rect">
            <a:avLst/>
          </a:prstGeom>
          <a:ln w="0">
            <a:noFill/>
          </a:ln>
        </p:spPr>
      </p:pic>
      <p:sp>
        <p:nvSpPr>
          <p:cNvPr id="120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100 – 200 балів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математик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928800" y="6214680"/>
            <a:ext cx="7500960" cy="7164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28584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842976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Диаграмма 9" descr=""/>
          <p:cNvPicPr/>
          <p:nvPr/>
        </p:nvPicPr>
        <p:blipFill>
          <a:blip r:embed="rId1"/>
          <a:stretch/>
        </p:blipFill>
        <p:spPr>
          <a:xfrm>
            <a:off x="-146160" y="781200"/>
            <a:ext cx="9436320" cy="5583240"/>
          </a:xfrm>
          <a:prstGeom prst="rect">
            <a:avLst/>
          </a:prstGeom>
          <a:ln w="0">
            <a:noFill/>
          </a:ln>
        </p:spPr>
      </p:pic>
      <p:sp>
        <p:nvSpPr>
          <p:cNvPr id="125" name="Line 14"/>
          <p:cNvSpPr/>
          <p:nvPr/>
        </p:nvSpPr>
        <p:spPr>
          <a:xfrm flipH="1">
            <a:off x="928440" y="6357960"/>
            <a:ext cx="7429320" cy="712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8429760" y="6000840"/>
            <a:ext cx="57456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2"/>
          <p:cNvSpPr/>
          <p:nvPr/>
        </p:nvSpPr>
        <p:spPr>
          <a:xfrm>
            <a:off x="285840" y="6072120"/>
            <a:ext cx="57132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Текст 6"/>
          <p:cNvSpPr/>
          <p:nvPr/>
        </p:nvSpPr>
        <p:spPr>
          <a:xfrm>
            <a:off x="285840" y="6922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алів за шкалою 100 – 200 бал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математики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Текст 6"/>
          <p:cNvSpPr/>
          <p:nvPr/>
        </p:nvSpPr>
        <p:spPr>
          <a:xfrm>
            <a:off x="428760" y="14292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  з біології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нти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1285920" y="6215040"/>
            <a:ext cx="6786360" cy="460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642960" y="5929200"/>
            <a:ext cx="574560" cy="57168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8143920" y="5857920"/>
            <a:ext cx="571320" cy="571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0804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Диаграмма 9" descr=""/>
          <p:cNvPicPr/>
          <p:nvPr/>
        </p:nvPicPr>
        <p:blipFill>
          <a:blip r:embed="rId2"/>
          <a:stretch/>
        </p:blipFill>
        <p:spPr>
          <a:xfrm>
            <a:off x="133200" y="706320"/>
            <a:ext cx="8877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14"/>
          <p:cNvSpPr/>
          <p:nvPr/>
        </p:nvSpPr>
        <p:spPr>
          <a:xfrm flipH="1">
            <a:off x="1142640" y="6357960"/>
            <a:ext cx="7000920" cy="46080"/>
          </a:xfrm>
          <a:prstGeom prst="line">
            <a:avLst/>
          </a:prstGeom>
          <a:ln cap="rnd" w="63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8215200" y="6000840"/>
            <a:ext cx="574920" cy="571320"/>
          </a:xfrm>
          <a:prstGeom prst="ellipse">
            <a:avLst/>
          </a:prstGeom>
          <a:solidFill>
            <a:srgbClr val="f8fb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2"/>
          <p:cNvSpPr/>
          <p:nvPr/>
        </p:nvSpPr>
        <p:spPr>
          <a:xfrm>
            <a:off x="500040" y="6072120"/>
            <a:ext cx="571680" cy="5716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Текст 6"/>
          <p:cNvSpPr/>
          <p:nvPr/>
        </p:nvSpPr>
        <p:spPr>
          <a:xfrm>
            <a:off x="285840" y="785880"/>
            <a:ext cx="88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ані про абітурієнтів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 області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які отрим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80 і більше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алів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 біології</a:t>
            </a:r>
            <a:r>
              <a:rPr b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8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2920" y="0"/>
            <a:ext cx="785880" cy="1030320"/>
          </a:xfrm>
          <a:prstGeom prst="rect">
            <a:avLst/>
          </a:prstGeom>
          <a:ln w="0">
            <a:noFill/>
          </a:ln>
        </p:spPr>
      </p:pic>
      <p:pic>
        <p:nvPicPr>
          <p:cNvPr id="140" name="Диаграмма 9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ерхня частина рейтингу за результатами ЗНО-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цей 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6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ізія № 169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Бойк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ський ліцей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23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цей № 173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о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К № 45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46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. школа № 156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14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мназія № 47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арованість”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Хар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483160"/>
            <a:ext cx="10969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ащі школи м. Чугуїв </a:t>
            </a:r>
            <a:br>
              <a:rPr sz="3200"/>
            </a:b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результатами ЗНО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888080"/>
            <a:ext cx="1571760" cy="196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57160" y="1571760"/>
          <a:ext cx="8072640" cy="343512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21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а загальноосвіт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I-III ступенів № 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ої міської ра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ої обла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а гімназія № 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гуївської міської ра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ківської обла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Взяли участь у ЗНО-2013</a:t>
            </a:r>
            <a:br>
              <a:rPr sz="3600"/>
            </a:b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(% від зареєстровани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2920" y="142920"/>
            <a:ext cx="1285920" cy="104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6"/>
          <p:cNvGraphicFramePr/>
          <p:nvPr/>
        </p:nvGraphicFramePr>
        <p:xfrm>
          <a:off x="1042920" y="1428840"/>
          <a:ext cx="7561440" cy="428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428840"/>
                    <a:ext cx="756144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714680" y="1071720"/>
            <a:ext cx="5929200" cy="55195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3300"/>
                </a:solidFill>
                <a:uFillTx/>
                <a:latin typeface="Arial"/>
              </a:rPr>
              <a:t>Деякі питання ЗНО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7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762360" cy="33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1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8"/>
          <p:cNvSpPr/>
          <p:nvPr/>
        </p:nvSpPr>
        <p:spPr>
          <a:xfrm>
            <a:off x="1763640" y="139716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4067280" y="0"/>
            <a:ext cx="2592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157" name="Picture 3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1763640" y="1397160"/>
            <a:ext cx="7236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лефон інформаційної служ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(057)705-15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лектронна пош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йт: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4067280" y="0"/>
            <a:ext cx="2592360" cy="148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Зі Святом Першого Вересня!...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4356000" y="3333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Arial"/>
              </a:rPr>
              <a:t>Зі святом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иявлені порушення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% від кількості учасників ЗНО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14200" y="0"/>
            <a:ext cx="860400" cy="12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1042920" y="1125360"/>
          <a:ext cx="6913800" cy="4784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125360"/>
                    <a:ext cx="69138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6"/>
          <p:cNvSpPr/>
          <p:nvPr/>
        </p:nvSpPr>
        <p:spPr>
          <a:xfrm>
            <a:off x="1042920" y="59421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альна кількість виявлених порушень 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ківській області-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928880" y="2357280"/>
            <a:ext cx="68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Calibri"/>
              </a:rPr>
              <a:t>Деякі результати ЗНО -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108000" y="189000"/>
            <a:ext cx="1728720" cy="6408720"/>
            <a:chOff x="108000" y="189000"/>
            <a:chExt cx="1728720" cy="6408720"/>
          </a:xfrm>
        </p:grpSpPr>
        <p:pic>
          <p:nvPicPr>
            <p:cNvPr id="66" name="Picture 4" descr="logo"/>
            <p:cNvPicPr/>
            <p:nvPr/>
          </p:nvPicPr>
          <p:blipFill>
            <a:blip r:embed="rId1"/>
            <a:stretch/>
          </p:blipFill>
          <p:spPr>
            <a:xfrm>
              <a:off x="179280" y="476280"/>
              <a:ext cx="125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"/>
            <p:cNvSpPr/>
            <p:nvPr/>
          </p:nvSpPr>
          <p:spPr>
            <a:xfrm>
              <a:off x="108000" y="1773360"/>
              <a:ext cx="172872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З</a:t>
              </a:r>
              <a:r>
                <a:rPr b="0" lang="uk-UA" sz="16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Н</a:t>
              </a:r>
              <a:r>
                <a:rPr b="0" lang="uk-UA" sz="16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600"/>
              </a:br>
              <a:r>
                <a:rPr b="0" lang="uk-UA" sz="1600" spc="-1" strike="noStrike">
                  <a:solidFill>
                    <a:srgbClr val="ff3300"/>
                  </a:solidFill>
                  <a:latin typeface="Calibri"/>
                </a:rPr>
                <a:t>О</a:t>
              </a:r>
              <a:r>
                <a:rPr b="0" lang="uk-UA" sz="16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6"/>
            <p:cNvSpPr/>
            <p:nvPr/>
          </p:nvSpPr>
          <p:spPr>
            <a:xfrm>
              <a:off x="1692360" y="189000"/>
              <a:ext cx="0" cy="6408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4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 – 150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,5 – 179,5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ff3300"/>
                </a:solidFill>
                <a:latin typeface="Arial"/>
              </a:rPr>
              <a:t>Шкала розподілу </a:t>
            </a:r>
            <a:br>
              <a:rPr sz="3900"/>
            </a:br>
            <a:r>
              <a:rPr b="1" lang="uk-UA" sz="3900" spc="-1" strike="noStrike">
                <a:solidFill>
                  <a:srgbClr val="ff3300"/>
                </a:solidFill>
                <a:latin typeface="Arial"/>
              </a:rPr>
              <a:t>результатів ЗН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con_problem_man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08800" y="4286160"/>
            <a:ext cx="2414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Диаграмма 12" descr=""/>
          <p:cNvPicPr/>
          <p:nvPr/>
        </p:nvPicPr>
        <p:blipFill>
          <a:blip r:embed="rId1"/>
          <a:stretch/>
        </p:blipFill>
        <p:spPr>
          <a:xfrm>
            <a:off x="0" y="831960"/>
            <a:ext cx="8915400" cy="6026040"/>
          </a:xfrm>
          <a:prstGeom prst="rect">
            <a:avLst/>
          </a:prstGeom>
          <a:ln w="0">
            <a:noFill/>
          </a:ln>
        </p:spPr>
      </p:pic>
      <p:sp>
        <p:nvSpPr>
          <p:cNvPr id="74" name="Line 138"/>
          <p:cNvSpPr/>
          <p:nvPr/>
        </p:nvSpPr>
        <p:spPr>
          <a:xfrm flipV="1">
            <a:off x="1219320" y="26668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8"/>
          <p:cNvSpPr/>
          <p:nvPr/>
        </p:nvSpPr>
        <p:spPr>
          <a:xfrm flipV="1">
            <a:off x="2209680" y="2057040"/>
            <a:ext cx="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8"/>
          <p:cNvSpPr/>
          <p:nvPr/>
        </p:nvSpPr>
        <p:spPr>
          <a:xfrm flipH="1" flipV="1">
            <a:off x="3200040" y="1828800"/>
            <a:ext cx="3240" cy="52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8"/>
          <p:cNvSpPr/>
          <p:nvPr/>
        </p:nvSpPr>
        <p:spPr>
          <a:xfrm flipV="1">
            <a:off x="4191120" y="3123720"/>
            <a:ext cx="0" cy="2133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8"/>
          <p:cNvSpPr/>
          <p:nvPr/>
        </p:nvSpPr>
        <p:spPr>
          <a:xfrm flipV="1">
            <a:off x="5181480" y="312408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8"/>
          <p:cNvSpPr/>
          <p:nvPr/>
        </p:nvSpPr>
        <p:spPr>
          <a:xfrm flipV="1">
            <a:off x="6172200" y="228600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8"/>
          <p:cNvSpPr/>
          <p:nvPr/>
        </p:nvSpPr>
        <p:spPr>
          <a:xfrm flipV="1">
            <a:off x="7162920" y="312408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8"/>
          <p:cNvSpPr/>
          <p:nvPr/>
        </p:nvSpPr>
        <p:spPr>
          <a:xfrm flipV="1">
            <a:off x="8153280" y="2057040"/>
            <a:ext cx="0" cy="3429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ідвищення рейтингу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ред абітурієнтів Украї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ільше 180 балі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Диаграмма 9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9528120" cy="6099120"/>
          </a:xfrm>
          <a:prstGeom prst="rect">
            <a:avLst/>
          </a:prstGeom>
          <a:ln w="0">
            <a:noFill/>
          </a:ln>
        </p:spPr>
      </p:pic>
      <p:sp>
        <p:nvSpPr>
          <p:cNvPr id="84" name="Line 16"/>
          <p:cNvSpPr/>
          <p:nvPr/>
        </p:nvSpPr>
        <p:spPr>
          <a:xfrm flipV="1">
            <a:off x="182880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2743200" y="3276720"/>
            <a:ext cx="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V="1">
            <a:off x="3733920" y="2971440"/>
            <a:ext cx="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V="1">
            <a:off x="4648320" y="3581280"/>
            <a:ext cx="0" cy="10670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 flipV="1">
            <a:off x="5638680" y="220932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V="1">
            <a:off x="6629400" y="2361960"/>
            <a:ext cx="0" cy="99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V="1">
            <a:off x="7543800" y="251424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8532720" y="184428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838080" y="3123720"/>
            <a:ext cx="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. Чугуї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серед абітурієнтів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нше 124 балів</a:t>
            </a: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611280" y="1536840"/>
          <a:ext cx="8137440" cy="42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6840"/>
                    <a:ext cx="813744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Line 138"/>
          <p:cNvSpPr/>
          <p:nvPr/>
        </p:nvSpPr>
        <p:spPr>
          <a:xfrm flipV="1">
            <a:off x="6143760" y="2785680"/>
            <a:ext cx="0" cy="7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йтинг </a:t>
            </a:r>
            <a:r>
              <a:rPr b="1" lang="uk-UA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. Чугуї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серед абітурієнтів </a:t>
            </a:r>
            <a:r>
              <a:rPr b="1" lang="uk-UA" sz="25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Харківської області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отримали </a:t>
            </a:r>
            <a:r>
              <a:rPr b="1" lang="uk-UA" sz="25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ільше 180 балів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за шкалою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0-20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</a:t>
            </a:r>
            <a:r>
              <a:rPr b="1" lang="uk-UA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балів по предме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10" descr=""/>
          <p:cNvPicPr/>
          <p:nvPr/>
        </p:nvPicPr>
        <p:blipFill>
          <a:blip r:embed="rId1"/>
          <a:stretch/>
        </p:blipFill>
        <p:spPr>
          <a:xfrm>
            <a:off x="1042920" y="1428840"/>
            <a:ext cx="7416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8:13:26Z</dcterms:created>
  <dc:creator>N.Rusanova</dc:creator>
  <dc:description/>
  <dc:language>en-US</dc:language>
  <cp:lastModifiedBy>Prime Auditor</cp:lastModifiedBy>
  <dcterms:modified xsi:type="dcterms:W3CDTF">2013-08-29T07:31:27Z</dcterms:modified>
  <cp:revision>217</cp:revision>
  <dc:subject/>
  <dc:title>Слайд 1</dc:title>
</cp:coreProperties>
</file>