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0"/>
            <a:ext cx="2919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9320" y="1233360"/>
            <a:ext cx="5916600" cy="332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868FE-FEF8-4226-B090-0DAA6F218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0FE49-7E91-4C8F-B7B9-667EC5BA0A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6E196-528C-4AEA-8B01-A54A9EB4AC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7D707-81E2-41E0-8392-CE5A9AD45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89D4A-42DC-48CA-969B-51DECACCF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7ABD2-6E96-4721-BA88-12908724C0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C90E2-F043-467E-A9A6-F2009188B2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F815A-A4CC-43A1-9C9F-AF903AD5B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16600" cy="332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747680"/>
            <a:ext cx="53895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1492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49EEA-FD27-430A-85FF-570B949F0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7B3-11CD-40F2-A1C2-C3342FA2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F6B-60CF-4ED8-BC13-C4B51A23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EEB-F491-4E8D-8021-42D6905B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DEF-3CB1-461D-8F3B-E0739619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518-A91F-4699-AB06-30BED5AD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AB4-D3AE-4FCE-9919-B7CDFB43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093-A49D-4133-BE56-9DA6CD9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271-00C9-4BB1-B909-2F73C52E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8F9-6CAA-488E-8A76-2C5F358A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F3B-2A2A-42F7-B79F-2FF4F0B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613-A5F4-4FF8-A133-F942EF0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2F2-A180-425A-AD61-A10BCE7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D441E-19A4-42BA-ABDA-6D37B7969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search.ligazakon.ua/l_doc2.nsf/link1/RE29986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https://zno.testportal.com.ua/registration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85680" y="2131920"/>
            <a:ext cx="1184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7200" spc="-1" strike="noStrike">
                <a:solidFill>
                  <a:srgbClr val="e52754"/>
                </a:solidFill>
                <a:latin typeface="Calibri"/>
                <a:ea typeface="Open Sans Semibold"/>
              </a:rPr>
              <a:t>Реєстраці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7200" spc="-1" strike="noStrike">
                <a:solidFill>
                  <a:srgbClr val="e52754"/>
                </a:solidFill>
                <a:latin typeface="Calibri"/>
                <a:ea typeface="Open Sans Semibold"/>
              </a:rPr>
              <a:t>на ЗНО-20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51000" y="365040"/>
            <a:ext cx="2923920" cy="830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8"/>
          <p:cNvSpPr/>
          <p:nvPr/>
        </p:nvSpPr>
        <p:spPr>
          <a:xfrm flipV="1">
            <a:off x="492120" y="3352320"/>
            <a:ext cx="11269800" cy="9720"/>
          </a:xfrm>
          <a:prstGeom prst="line">
            <a:avLst/>
          </a:prstGeom>
          <a:ln w="6336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4"/>
          <p:cNvSpPr/>
          <p:nvPr/>
        </p:nvSpPr>
        <p:spPr>
          <a:xfrm>
            <a:off x="1104840" y="-49320"/>
            <a:ext cx="7864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400" spc="-1" strike="noStrike">
                <a:solidFill>
                  <a:srgbClr val="e52754"/>
                </a:solidFill>
                <a:latin typeface="Arial"/>
                <a:ea typeface="Arial"/>
              </a:rPr>
              <a:t>Сертифікат З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rcRect l="30130" t="21673" r="30455" b="20140"/>
          <a:stretch/>
        </p:blipFill>
        <p:spPr>
          <a:xfrm>
            <a:off x="1228680" y="615960"/>
            <a:ext cx="7877160" cy="58546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9105840" y="1012680"/>
            <a:ext cx="30607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ісля отримання Сертифікату необхідно перевіри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равильність своїх ПІБ, серії/номера паспортного док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200" spc="-1" strike="noStrike">
                <a:solidFill>
                  <a:srgbClr val="2a2928"/>
                </a:solidFill>
                <a:latin typeface="Arial"/>
              </a:rPr>
              <a:t>перелік обраних предметі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1"/>
          <p:cNvSpPr/>
          <p:nvPr/>
        </p:nvSpPr>
        <p:spPr>
          <a:xfrm rot="5400000">
            <a:off x="8433720" y="1590480"/>
            <a:ext cx="403200" cy="8096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8fc8c4"/>
          </a:solidFill>
          <a:ln w="12600">
            <a:solidFill>
              <a:srgbClr val="127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трелка вниз 7"/>
          <p:cNvSpPr/>
          <p:nvPr/>
        </p:nvSpPr>
        <p:spPr>
          <a:xfrm rot="5400000">
            <a:off x="8498160" y="3339360"/>
            <a:ext cx="403200" cy="8110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8fc8c4"/>
          </a:solidFill>
          <a:ln w="12600">
            <a:solidFill>
              <a:srgbClr val="127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0"/>
          <p:cNvSpPr/>
          <p:nvPr/>
        </p:nvSpPr>
        <p:spPr>
          <a:xfrm>
            <a:off x="0" y="0"/>
            <a:ext cx="12192120" cy="109080"/>
          </a:xfrm>
          <a:prstGeom prst="rect">
            <a:avLst/>
          </a:prstGeom>
          <a:solidFill>
            <a:srgbClr val="f24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00" spc="-1" strike="noStrike">
                <a:solidFill>
                  <a:srgbClr val="ffffff"/>
                </a:solidFill>
                <a:latin typeface="Arial"/>
                <a:ea typeface="Open San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0" y="6458040"/>
            <a:ext cx="12192120" cy="3999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252360" y="476280"/>
            <a:ext cx="2924280" cy="8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543480" y="122400"/>
            <a:ext cx="71881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Телефон інформаційної підтрим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(057)705-07-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office@zno-kharkiv.org.ua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Сай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www.zno-kharkiv.org.ua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майдан Свободи, 6, офіс 463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595959"/>
                </a:solidFill>
                <a:latin typeface="Arial"/>
                <a:ea typeface="Arial"/>
              </a:rPr>
              <a:t>м. Харків, 61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3543480" y="5126040"/>
            <a:ext cx="12252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3b3838"/>
                </a:solidFill>
                <a:latin typeface="Calibri"/>
              </a:rPr>
              <a:t>Телеграм-канал </a:t>
            </a:r>
            <a:r>
              <a:rPr b="0" lang="uk-UA" sz="2800" spc="-1" strike="noStrike">
                <a:solidFill>
                  <a:srgbClr val="3b3838"/>
                </a:solidFill>
                <a:latin typeface="Calibri"/>
              </a:rPr>
              <a:t>	</a:t>
            </a:r>
            <a:r>
              <a:rPr b="0" lang="uk-UA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https://t.me/zno2020k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b3838"/>
                </a:solidFill>
                <a:latin typeface="Calibri"/>
              </a:rPr>
              <a:t>Instagram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              </a:t>
            </a:r>
            <a:r>
              <a:rPr b="0" lang="en-US" sz="2800" spc="-1" strike="noStrike" u="sng">
                <a:solidFill>
                  <a:srgbClr val="f24e5e"/>
                </a:solidFill>
                <a:uFillTx/>
                <a:latin typeface="Arial"/>
                <a:ea typeface="Arial"/>
              </a:rPr>
              <a:t>zno2020k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7" descr=""/>
          <p:cNvPicPr/>
          <p:nvPr/>
        </p:nvPicPr>
        <p:blipFill>
          <a:blip r:embed="rId2"/>
          <a:srcRect l="0" t="0" r="55636" b="0"/>
          <a:stretch/>
        </p:blipFill>
        <p:spPr>
          <a:xfrm>
            <a:off x="2973240" y="5186520"/>
            <a:ext cx="441360" cy="406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3"/>
          <a:srcRect l="19854" t="0" r="18345" b="0"/>
          <a:stretch/>
        </p:blipFill>
        <p:spPr>
          <a:xfrm>
            <a:off x="2955960" y="58132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qrcoder.ru/code/?https%3A%2F%2Fzno-kharkiv.org.ua%2Fcontacts&amp;4&amp;0"/>
          <p:cNvPicPr/>
          <p:nvPr/>
        </p:nvPicPr>
        <p:blipFill>
          <a:blip r:embed="rId4"/>
          <a:stretch/>
        </p:blipFill>
        <p:spPr>
          <a:xfrm>
            <a:off x="0" y="1523880"/>
            <a:ext cx="27129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5160" y="205920"/>
            <a:ext cx="98982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52754"/>
                </a:solidFill>
                <a:latin typeface="Calibri Light"/>
              </a:rPr>
              <a:t>Терміни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84240" y="1595520"/>
            <a:ext cx="109411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767171"/>
                </a:solidFill>
                <a:latin typeface="Calibri"/>
              </a:rPr>
              <a:t>Реєстрація </a:t>
            </a: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з 03 лютого до 24 березня 2020 ро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767171"/>
                </a:solidFill>
                <a:latin typeface="Calibri"/>
              </a:rPr>
              <a:t>Перереєстраці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 </a:t>
            </a: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з 03 лютого до 24 березня 2020 року    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e52754"/>
                </a:solidFill>
                <a:latin typeface="Calibri"/>
              </a:rPr>
              <a:t>(після отримання Сертифікат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4"/>
          <p:cNvSpPr/>
          <p:nvPr/>
        </p:nvSpPr>
        <p:spPr>
          <a:xfrm>
            <a:off x="3097080" y="1185840"/>
            <a:ext cx="5921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100" spc="-1" strike="noStrike">
                <a:solidFill>
                  <a:srgbClr val="e52754"/>
                </a:solidFill>
                <a:latin typeface="Calibri Light"/>
              </a:rPr>
              <a:t>ЗЗСО, ЗПТО, ЗВО І-ІІ р.а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4"/>
          <p:cNvSpPr/>
          <p:nvPr/>
        </p:nvSpPr>
        <p:spPr>
          <a:xfrm>
            <a:off x="2276640" y="2892600"/>
            <a:ext cx="73771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67171"/>
                </a:solidFill>
                <a:latin typeface="Calibri"/>
              </a:rPr>
              <a:t>Три предм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Українська мова і література (українська м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Математика або історія України (період ХХ – початок ХХІ століття) (за вибором учн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buClr>
                <a:srgbClr val="76717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Один навчальний предмет за вибором випускника з перелі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історія</a:t>
            </a:r>
            <a:r>
              <a:rPr b="0" lang="en-US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767171"/>
                </a:solidFill>
                <a:latin typeface="Calibri"/>
              </a:rPr>
              <a:t>України, </a:t>
            </a:r>
            <a:r>
              <a:rPr b="0" lang="uk-UA" sz="2000" spc="-1" strike="noStrike">
                <a:solidFill>
                  <a:srgbClr val="767171"/>
                </a:solidFill>
                <a:latin typeface="Calibri"/>
                <a:ea typeface="Times New Roman"/>
              </a:rPr>
              <a:t>математика, англійська, іспанська, німецька, французька, біологія, географія, фізика, хім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344760" y="2014560"/>
            <a:ext cx="54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600" spc="-1" strike="noStrike">
                <a:solidFill>
                  <a:srgbClr val="767171"/>
                </a:solidFill>
                <a:latin typeface="Calibri"/>
              </a:rPr>
              <a:t>(для учнів, слухачів, студентів, які в 2020 році завершують здобуття повної загальної середньої освіт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4"/>
          <p:cNvSpPr/>
          <p:nvPr/>
        </p:nvSpPr>
        <p:spPr>
          <a:xfrm>
            <a:off x="800280" y="236520"/>
            <a:ext cx="105156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5400" spc="-1" strike="noStrike">
                <a:solidFill>
                  <a:srgbClr val="e52754"/>
                </a:solidFill>
                <a:latin typeface="Calibri Light"/>
              </a:rPr>
              <a:t>Вибір предметів ЗНО=ДП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73160" y="5838840"/>
            <a:ext cx="120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Загальна кількість навчальних предметів, вибраних для проходження 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ЗНО</a:t>
            </a: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52754"/>
                </a:solidFill>
                <a:latin typeface="Arial"/>
              </a:rPr>
              <a:t>не повинна перевищувати чотирь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3720" y="-73080"/>
            <a:ext cx="105156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Підготовка до реєстрації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Рисунок 6" descr=""/>
          <p:cNvPicPr/>
          <p:nvPr/>
        </p:nvPicPr>
        <p:blipFill>
          <a:blip r:embed="rId1"/>
          <a:srcRect l="21142" t="64546" r="17719" b="8791"/>
          <a:stretch/>
        </p:blipFill>
        <p:spPr>
          <a:xfrm>
            <a:off x="2297160" y="716040"/>
            <a:ext cx="7667640" cy="188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2297160" y="1022400"/>
            <a:ext cx="1915920" cy="157464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8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332840" y="2784600"/>
            <a:ext cx="443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Детально вивчити інформацію розділу «РЕЄСТРАЦІЯ» на веб-сайті УЦОЯ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767171"/>
                </a:solidFill>
                <a:latin typeface="Calibri"/>
              </a:rPr>
              <a:t>бов’язковим для ознайомлення документом є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Порядок проведення</a:t>
            </a:r>
            <a:r>
              <a:rPr b="0" lang="ru-RU" sz="1800" spc="-1" strike="noStrike">
                <a:solidFill>
                  <a:srgbClr val="767171"/>
                </a:solidFill>
                <a:latin typeface="Calibri"/>
              </a:rPr>
              <a:t> зовнішнього незалежного оцінювання результатів навчання, здобутих на основі повної загальної середньої освіти (далі – Порядок). У документі, визначено коло осіб, які можуть брати участь у зовнішньому оцінюванні, їхні права й обов’язки, унормовано основні засади проведення зовнішнього оцінювання, порядок реєстрації осіб тощ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4"/>
          <a:srcRect l="18837" t="9900" r="18821" b="13417"/>
          <a:stretch/>
        </p:blipFill>
        <p:spPr>
          <a:xfrm>
            <a:off x="984240" y="2719440"/>
            <a:ext cx="5832360" cy="4035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5202360" y="3681360"/>
            <a:ext cx="1476360" cy="143820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009800" y="60480"/>
            <a:ext cx="1066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Документи та матеріали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необхідні для реєстрації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484280" y="2206800"/>
            <a:ext cx="95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uk-UA" sz="1800" spc="-1" strike="noStrike">
                <a:solidFill>
                  <a:srgbClr val="e52754"/>
                </a:solidFill>
                <a:latin typeface="Arial"/>
              </a:rPr>
              <a:t>копія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 паспорта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(сторінки з фотокарткою, прізвищем, ім’ям та по батькові. В паспортах нового зразка (</a:t>
            </a:r>
            <a:r>
              <a:rPr b="0" lang="en-US" sz="1800" spc="-1" strike="noStrike">
                <a:solidFill>
                  <a:srgbClr val="767171"/>
                </a:solidFill>
                <a:latin typeface="Arial"/>
              </a:rPr>
              <a:t>ID-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картка) немає серії документа. Під час заповнення реєстраційної форми - поле «серія» залишається порожні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484280" y="3817800"/>
            <a:ext cx="95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e52754"/>
                </a:solidFill>
                <a:latin typeface="Arial"/>
              </a:rPr>
              <a:t>дві однакові фотокартки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</a:rPr>
              <a:t>для документів розміром 3 х 4 см із зображенням, що відповідає досягнутому віку (фотокартки мають бути виготовлені на білому або кольоровому фотопапері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1484280" y="5504040"/>
            <a:ext cx="104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1800" spc="-1" strike="noStrike">
                <a:solidFill>
                  <a:srgbClr val="767171"/>
                </a:solidFill>
                <a:latin typeface="Arial"/>
              </a:rPr>
              <a:t>На копіях документів необхідно написати </a:t>
            </a:r>
            <a:r>
              <a:rPr b="1" i="1" lang="uk-UA" sz="1800" spc="-1" strike="noStrike">
                <a:solidFill>
                  <a:srgbClr val="767171"/>
                </a:solidFill>
                <a:latin typeface="Arial"/>
              </a:rPr>
              <a:t>Згідно з оригіналом</a:t>
            </a:r>
            <a:r>
              <a:rPr b="0" i="1" lang="uk-UA" sz="1800" spc="-1" strike="noStrike">
                <a:solidFill>
                  <a:srgbClr val="767171"/>
                </a:solidFill>
                <a:latin typeface="Arial"/>
              </a:rPr>
              <a:t> (без лапок), поставити підпис, свої ініціали та прізвище, дату засвідчення коп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93600" y="60480"/>
            <a:ext cx="1555920" cy="4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rcRect l="19427" t="20976" r="19555" b="21669"/>
          <a:stretch/>
        </p:blipFill>
        <p:spPr>
          <a:xfrm>
            <a:off x="520560" y="1220760"/>
            <a:ext cx="6774120" cy="4848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5320" y="-360"/>
            <a:ext cx="10515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e52754"/>
                </a:solidFill>
                <a:latin typeface="Calibri"/>
              </a:rPr>
              <a:t>Реєстрація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Рисунок 8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1555920" cy="441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8136000" y="1521000"/>
            <a:ext cx="394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Реєстраційну картку</a:t>
            </a: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, можна сформува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самостійно, скориставшись спеціальним сервісом </a:t>
            </a: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«</a:t>
            </a:r>
            <a:r>
              <a:rPr b="1" lang="uk-UA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Зареєструватися</a:t>
            </a:r>
            <a:r>
              <a:rPr b="1" lang="uk-UA" sz="1800" spc="-1" strike="noStrike">
                <a:solidFill>
                  <a:srgbClr val="767171"/>
                </a:solidFill>
                <a:latin typeface="Calibri"/>
              </a:rPr>
              <a:t>»</a:t>
            </a: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, розміщеним на веб-сайті УЦОЯ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аб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звернутися за допомогою до особи, відповідальної за реєстрацію в закладі освіти, де особа навчає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767171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767171"/>
                </a:solidFill>
                <a:latin typeface="Calibri"/>
              </a:rPr>
              <a:t>звернутися за допомогою до працівника пункту реєстрації (адреси ПР розміщені на сайті ХРЦОЯО з 31.01.20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436680" y="4375080"/>
            <a:ext cx="1776240" cy="469800"/>
          </a:xfrm>
          <a:prstGeom prst="rect">
            <a:avLst/>
          </a:prstGeom>
          <a:noFill/>
          <a:ln w="57240">
            <a:solidFill>
              <a:srgbClr val="8fc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6"/>
          <p:cNvSpPr/>
          <p:nvPr/>
        </p:nvSpPr>
        <p:spPr>
          <a:xfrm>
            <a:off x="2268360" y="876240"/>
            <a:ext cx="9507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у 2020 році завершуєте навчання в закладі загальної середньої освіти (школа, гімназія, ліцей тощо)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Випускник закладу загальної середньої освіти 2020 рок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навчаєтесь у закордонному закладі освіти та здобуваєте в поточному році повну загальну середню освіту,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Випускник, який здобуде в 2020 році повну загальну середню освіту в закордонному закладі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є учнем (студентом, слухачем) закладів професійної (професійно-технічної) освіти і здобуваєте в поточному році повну загальну середню освіту,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«Учень (слухач) закладу професійної (професійно-технічної)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767171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є студентом закладу вищої освіти (коледж) і здобуваєте в поточному році повну загальну середню освіту</a:t>
            </a:r>
            <a:r>
              <a:rPr b="0" lang="uk-UA" sz="1800" spc="-1" strike="noStrike">
                <a:solidFill>
                  <a:srgbClr val="3b3838"/>
                </a:solidFill>
                <a:latin typeface="Arial"/>
                <a:ea typeface="Arial"/>
              </a:rPr>
              <a:t> або повторно  складаєте ДПА у формі ЗНО з української мови/математики/історії України</a:t>
            </a: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 –</a:t>
            </a:r>
            <a:r>
              <a:rPr b="0" lang="ru-RU" sz="1800" spc="-1" strike="noStrike">
                <a:solidFill>
                  <a:srgbClr val="767171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  <a:ea typeface="Arial"/>
              </a:rPr>
              <a:t>ваша категорія «Студент закладу вищої освіт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3b3838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b3838"/>
                </a:solidFill>
                <a:latin typeface="Arial"/>
                <a:ea typeface="Arial"/>
              </a:rPr>
              <a:t>Якщо ви вже маєте атестат (здобули повну загальну середню освіту в попередні роки), незалежно від того, де ви навчаєте</a:t>
            </a:r>
            <a:r>
              <a:rPr b="0" lang="ru-RU" sz="1800" spc="-1" strike="noStrike">
                <a:solidFill>
                  <a:srgbClr val="3b3838"/>
                </a:solidFill>
                <a:latin typeface="Arial"/>
              </a:rPr>
              <a:t>ся зараз (чи продовжуєте навчатися), – ваша категорія </a:t>
            </a:r>
            <a:r>
              <a:rPr b="0" lang="ru-RU" sz="1800" spc="-1" strike="noStrike">
                <a:solidFill>
                  <a:srgbClr val="f24e5e"/>
                </a:solidFill>
                <a:latin typeface="Arial"/>
              </a:rPr>
              <a:t>«Випускник минулих років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190520" y="87624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ЗС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190520" y="190980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ЗС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190520" y="3063960"/>
            <a:ext cx="1452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ПТ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1190520" y="4216320"/>
            <a:ext cx="1019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ЗВО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700" spc="-1" strike="noStrike">
                <a:solidFill>
                  <a:srgbClr val="3b3838"/>
                </a:solidFill>
                <a:latin typeface="Arial Black"/>
              </a:rPr>
              <a:t>І-ІІ р.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8" descr=""/>
          <p:cNvPicPr/>
          <p:nvPr/>
        </p:nvPicPr>
        <p:blipFill>
          <a:blip r:embed="rId1"/>
          <a:srcRect l="29240" t="11550" r="-29235" b="-11549"/>
          <a:stretch/>
        </p:blipFill>
        <p:spPr>
          <a:xfrm>
            <a:off x="0" y="1440"/>
            <a:ext cx="1501920" cy="77266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1"/>
          <p:cNvSpPr/>
          <p:nvPr/>
        </p:nvSpPr>
        <p:spPr>
          <a:xfrm>
            <a:off x="0" y="49320"/>
            <a:ext cx="12003120" cy="520560"/>
          </a:xfrm>
          <a:prstGeom prst="rect">
            <a:avLst/>
          </a:prstGeom>
          <a:solidFill>
            <a:srgbClr val="f24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  <a:ea typeface="Arial"/>
              </a:rPr>
              <a:t>Правильне обрання категор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5" descr=""/>
          <p:cNvPicPr/>
          <p:nvPr/>
        </p:nvPicPr>
        <p:blipFill>
          <a:blip r:embed="rId1"/>
          <a:stretch/>
        </p:blipFill>
        <p:spPr>
          <a:xfrm>
            <a:off x="157320" y="122400"/>
            <a:ext cx="1554120" cy="441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-284040" y="2644920"/>
            <a:ext cx="322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f24e5e"/>
                </a:solidFill>
                <a:latin typeface="Arial"/>
              </a:rPr>
              <a:t>Зразок оформлення реєстраційної кар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2709720" y="122400"/>
            <a:ext cx="5334120" cy="6705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87" name="Прямоугольник 3"/>
          <p:cNvSpPr/>
          <p:nvPr/>
        </p:nvSpPr>
        <p:spPr>
          <a:xfrm>
            <a:off x="8043840" y="122400"/>
            <a:ext cx="4075200" cy="71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еревірити правильність оформлення реєстраційної картки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наявність тексту Заяв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да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та особистого підпису особи, яка реєструєть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равильність написання: ПІБ, дати народження, серії/номера паспортного докумен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равильність відомостей про заклад осві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перелік навчальних предмет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обраних для проходження ДПА та З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наявність у спеціально відведених місцях двох однакових фотокарток для документів (чорно-білих або кольорових на фотопапері) розміром 3 х 4 см із зображенням, що відповідає досягнутому ві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5396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4680" y="298440"/>
            <a:ext cx="9642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52754"/>
                </a:solidFill>
                <a:latin typeface="Calibri"/>
              </a:rPr>
              <a:t>Надсилання документів до ХРЦОЯ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157320" y="122400"/>
            <a:ext cx="1554120" cy="4410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4"/>
          <p:cNvSpPr/>
          <p:nvPr/>
        </p:nvSpPr>
        <p:spPr>
          <a:xfrm>
            <a:off x="1027080" y="1623960"/>
            <a:ext cx="36622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Учні/студ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ЗСО, ЗПТО, ЗВО І-ІІ р.а., які в 2020 році завершують здобуття повної загальної середньої осві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4"/>
          <p:cNvSpPr/>
          <p:nvPr/>
        </p:nvSpPr>
        <p:spPr>
          <a:xfrm>
            <a:off x="7780320" y="1733400"/>
            <a:ext cx="34956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Студ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   </a:t>
            </a: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ВО І-ІІ р.а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52754"/>
                </a:solidFill>
                <a:latin typeface="Calibri"/>
              </a:rPr>
              <a:t>які за результатами  складання ДПА з української мови/математики/історії України у формі ЗНО в 2019 році одержали 1-3 б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авая фигурная скобка 7"/>
          <p:cNvSpPr/>
          <p:nvPr/>
        </p:nvSpPr>
        <p:spPr>
          <a:xfrm rot="5400000">
            <a:off x="6069960" y="782640"/>
            <a:ext cx="409680" cy="6832440"/>
          </a:xfrm>
          <a:custGeom>
            <a:avLst/>
            <a:gdLst>
              <a:gd name="textAreaLeft" fmla="*/ 0 w 409680"/>
              <a:gd name="textAreaRight" fmla="*/ 147960 w 409680"/>
              <a:gd name="textAreaTop" fmla="*/ 10440 h 6832440"/>
              <a:gd name="textAreaBottom" fmla="*/ 6822000 h 683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527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227400" y="46036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Заклад осві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надсилає поштою не пізніше ніж </a:t>
            </a:r>
            <a:r>
              <a:rPr b="0" lang="uk-UA" sz="2400" spc="-1" strike="noStrike">
                <a:solidFill>
                  <a:srgbClr val="e52754"/>
                </a:solidFill>
                <a:latin typeface="Calibri"/>
              </a:rPr>
              <a:t>17.03.2020 </a:t>
            </a:r>
            <a:r>
              <a:rPr b="0" lang="uk-UA" sz="2400" spc="-1" strike="noStrike">
                <a:solidFill>
                  <a:srgbClr val="767171"/>
                </a:solidFill>
                <a:latin typeface="Calibri"/>
              </a:rPr>
              <a:t>до ХРЦОЯО список випускників і комплекти реєстраційних документ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09:18:38Z</dcterms:created>
  <dc:creator>Валерия А. Ханикова</dc:creator>
  <dc:description/>
  <dc:language>en-US</dc:language>
  <cp:lastModifiedBy>Елена Е. Шматько</cp:lastModifiedBy>
  <cp:lastPrinted>2019-01-24T09:03:16Z</cp:lastPrinted>
  <dcterms:modified xsi:type="dcterms:W3CDTF">2020-01-15T14:00:22Z</dcterms:modified>
  <cp:revision>165</cp:revision>
  <dc:subject/>
  <dc:title>Реєстрація на ЗНО - 2019</dc:title>
</cp:coreProperties>
</file>