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850B-2BAC-443D-B3C9-332D00E7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8D30-FBDC-459B-98E1-2E709AD4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DCFD-339E-49B4-90A0-41D73B4A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6347-578C-45A5-A23E-7CA8F344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6338-3EE2-42E2-B677-27191F80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B5AD-AFD2-465E-AC9F-32F3AEEA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6922-C03A-462F-88BA-40825C0C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F9F8-FF70-49C3-9165-86D9195D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25D3-BCC5-465C-963E-D5DBCC94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FFBB-03C4-4B5E-8F06-A6ACC0CA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7FCC-83EB-47C3-9E35-4E0E3D41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D64C-3351-4C1A-927D-A8E10126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DFBE-228C-43BB-BD5E-1F97186D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32DC-EE99-40AB-8304-0902D8DE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9E14-6738-45D4-85B0-4E45189B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6D8F-E33B-4E18-87A1-24F30BB6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016E-C657-42F4-BEDA-B4542433F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2BD2-2B74-4A07-B7E6-CE5A8ABA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8B3B-DA56-41EF-8908-280217C1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18C8-DAAA-4954-B9F2-A6F8D77C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785D-BD6D-476A-B504-CF50A404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3D23-4DFF-4E81-A34C-9C3C38F8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656B-8DA6-4DCA-81DE-CA4A0899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9947-3363-4971-A2D4-0764E88F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8A9E-F09B-44EB-ACEE-9268CADE9C0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7323-2C7D-464A-A4CC-F2B6E07B70F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200" spc="-1" strike="noStrike">
                <a:solidFill>
                  <a:srgbClr val="330033"/>
                </a:solidFill>
                <a:latin typeface="Times New Roman"/>
              </a:rPr>
              <a:t>Нормативне забезпеченн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0040" y="1052640"/>
            <a:ext cx="842976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онституція Украї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кон України 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вернення громадя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Указ Президента України від 7 лютого 2008 року             № 109/2008 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ершочергові заходи щодо забезпечення реалізації та гарантування конституційного права на звернення до органів державної влади та органів місцевого самоврядуванн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останова Кабінету Міністрів України від 24 червня 2009 року № 630 «Про затвердження Методики оцінювання рівня організації роботи із зверненнями громадян в органах виконавчої влад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зпорядження ХОДА від 27 грудня 2010 року № 737 «Про вдосконалення роботи із зверненнями громадя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зпорядження ХОДА від 16 квітня 2015 року № 164 «Про підсумки роботи із зверненнями громадя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Зміни </a:t>
            </a:r>
            <a:br>
              <a:rPr sz="3800"/>
            </a:b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в нормативному забезпеченні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акон України “Про внесення змін до Закону України “Про звернення громадян” щодо електронного звернення та електронної петиції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9T09:35:07Z</dcterms:created>
  <dc:creator>багатька</dc:creator>
  <dc:description/>
  <dc:language>en-US</dc:language>
  <cp:lastModifiedBy>Любой</cp:lastModifiedBy>
  <dcterms:modified xsi:type="dcterms:W3CDTF">2016-01-29T12:32:00Z</dcterms:modified>
  <cp:revision>52</cp:revision>
  <dc:subject/>
  <dc:title>Про стан роботи зі зверненнями громадян у ІІ кварталі 2014 року</dc:title>
</cp:coreProperties>
</file>