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B87-78B9-44D1-B999-B1BE4ED9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4A9-C870-48AB-9E03-D18E21A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26A-E8CD-48AA-9449-B8256545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EF1-BF7C-4FCF-B357-20C33999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F86-553C-46EB-B0FD-A7BF0917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5510-B9F2-4EDB-85B6-6CD544C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C3A2-E012-4B72-AE9C-80C5CE40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D6A0-9131-4006-8A4E-1DD2510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D62-EC28-4AFE-908E-04F8420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CC8-0366-44F1-8A2F-96C504B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B264-D316-4EFA-B2FA-AB71955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7CB-AF91-4949-BDE9-B9FD54EA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61CC-00E6-49C3-B01A-96A787D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5A3-B8F8-434B-9229-79DFC5C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CF2E-37E7-4DDE-9F33-7254415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57B6-C66C-423C-A79D-20DB81AE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AF98-B3E9-4960-8215-71EDAD7F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249-763E-43EE-BA05-C750D0F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87D-53BD-4C83-A04B-8C0B9ED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E85-1194-4075-884B-20E5108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9C0-EB19-4553-9BD3-C1FF7F54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852-E1FA-4240-9732-700CACB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51B-8098-4FA4-9266-A7C27FC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521-09E9-4B50-A103-CEC4438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8762-B379-46D8-85BE-7F3AC1FEE7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A7D5-3599-46F2-A0E0-EA7011AD25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Нормативне забезпече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052640"/>
            <a:ext cx="8429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ституція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вернення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аз Президента України від 7 лютого 2008 року             № 109/2008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шочергові заходи щодо забезпечення реалізації та гарантування конституційного права на звернення до органів державної влади та органів місцевого самоврядува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24 червня 2009 року № 630 «Про затвердження Методики оцінювання рівня організації роботи із зверненнями громадян в органах виконавчої вла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27 грудня 2010 року № 737 «Про вдосконалення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16 квітня 2015 року № 164 «Про підсумки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міни 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в нормативному забезпеченн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кон України “Про внесення змін до Закону України “Про звернення громадян” щодо електронного звернення та електронної петиці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9:35:07Z</dcterms:created>
  <dc:creator>багатька</dc:creator>
  <dc:description/>
  <dc:language>en-US</dc:language>
  <cp:lastModifiedBy>Любой</cp:lastModifiedBy>
  <dcterms:modified xsi:type="dcterms:W3CDTF">2016-01-29T12:32:00Z</dcterms:modified>
  <cp:revision>52</cp:revision>
  <dc:subject/>
  <dc:title>Про стан роботи зі зверненнями громадян у ІІ кварталі 2014 року</dc:title>
</cp:coreProperties>
</file>