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9F1-1680-41CD-A747-3EF2CE9A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1B1-D213-4B11-AA97-EF6EC7AA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51E-4CED-404E-94D6-5D707234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9E8-7192-4CEB-9A3E-A8FCAD74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83D-B62A-4DF9-BD6E-935905D1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7C4C-8F6D-4388-BDF9-2F1F617E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9B60-AEB2-4DE0-9EDC-5EAE4C70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241B-AAB3-4C30-A11A-64A2C1B1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0C1-C3AB-4F70-BC18-C7C1595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5B8-5C8F-4FC6-8EFE-F76EB813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1B18-9122-4C88-AB95-E07B5BE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CE2-3BC5-4360-BCE7-28BA2B1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DD1C-9B83-4799-9CD6-03ECEA0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B92E-46C4-4BE2-B4B2-6707E063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620-531E-41E0-B95F-854C3FCB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36F5-BC7F-4207-B609-E132E1C3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485-4EC0-447C-9067-7B25335D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C68-D060-4001-A576-0DEFC2C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C8B-62C2-4929-80C2-FB033D5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FCC-02BC-4F0D-BC87-617F625E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CF6-B6C0-4BD7-99ED-23651A6F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EBA-8FA8-4DF5-9A8F-D2427A6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FFB-2248-4CA9-89C2-D54E1B9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6A5-06BA-4CD8-BD34-1AABBC8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89B-AA95-41C0-B075-FA2197299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E2C-FD74-4B3C-85A1-07B5272D77E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00"/>
                </a:solidFill>
                <a:latin typeface="Times New Roman"/>
              </a:rPr>
              <a:t>«Путь к успеху»</a:t>
            </a:r>
            <a:r>
              <a:rPr b="1" lang="ru-RU" sz="5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900" spc="-1" strike="noStrike">
                <a:solidFill>
                  <a:srgbClr val="ffffcc"/>
                </a:solidFill>
                <a:latin typeface="Times New Roman"/>
              </a:rPr>
              <a:t>Организация ученического самоуправления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Ученическое самоуправление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форма реализаци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обучающимися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рава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 участие в управлени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общеобразовательным учреждением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4" descr="clipart_of_15195_sm"/>
          <p:cNvPicPr/>
          <p:nvPr/>
        </p:nvPicPr>
        <p:blipFill>
          <a:blip r:embed="rId1"/>
          <a:stretch/>
        </p:blipFill>
        <p:spPr>
          <a:xfrm>
            <a:off x="2133720" y="28954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Совет старшеклассников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– это добровольное общественное объединение учащихся школы; высший исполнительный и координирующий орган ученического самоуправлени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005-005-Struktura-shkolnogo-samoupravlen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1800" y="34092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тветственный за работу с органами ученического самоуправления 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пособствует организации детей (в процессе работы Совета старшеклассников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казывает помощь в процессе планирования работы Совета старшеклассник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казывает помощь в решении проблемных вопрос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рганизовывает взаимосвязь между Советом старшеклассников и администрацией школы, педагогическим коллективом, родительской общественностью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существляет анализ работы Совета старшеклассник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8120" y="404640"/>
            <a:ext cx="6856200" cy="69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Желаемый результат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Формирование демократической культуры старшеклассников (комплекс ценностей, норм и образцов поведения, деятельность политических институтов, обеспечивающих гражданам организованное участие во власти и контроль над ней);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Формирование активной жизненной позиции и лидерских качеств (мировоззрение личности, нравственные убеждения и отношение к общественному долгу и т.д.);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Формирование навыков самоорганизации ( В их числе: самостоятельность, инициативность, демократичность, умение творчески мыслить, знание своих прав и свобод и умение их защищать, способность поддерживать свое физическое и психическое здоровье и пр.);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остижение желаемого результата возможно через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анирование и организация работы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Приобщение всех участников учебно-воспитательного процесса к организации ученического самоуправления (дети, родители, педагоги, администрация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Times New Roman"/>
              </a:rPr>
              <a:t>Создание и поддержание позитивного имиджа ученического самоуправления (Совета старшеклассников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Супервизия. Анализ работы с целью предоставления рекомендаций согласно оптимизации и улучшения работы органов ученического самоуправл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Имидж ученического самоуправления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моционально окрашенный образ, который возникает в массовом сознани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Схема 3" descr=""/>
          <p:cNvPicPr/>
          <p:nvPr/>
        </p:nvPicPr>
        <p:blipFill>
          <a:blip r:embed="rId1"/>
          <a:stretch/>
        </p:blipFill>
        <p:spPr>
          <a:xfrm>
            <a:off x="811080" y="2114640"/>
            <a:ext cx="76806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8-10-10T09:46:5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