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87F-D575-4ADD-8BD5-2FCEA137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221-0C0D-4377-B012-6D84A0B1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959-1439-4ED0-9BF0-374BEA34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B56-C7E5-4A70-A634-145E7609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EE27-9AB8-4403-9CC9-6E3EF121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B48F-6325-49B4-90BD-8D74B72C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AA9B-E8BA-49D0-AD80-D53B1259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B493-4826-4D1D-A737-BF92F9B2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1D81-D483-4995-9F90-0F7D7430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48E6-1D61-429D-8F25-51C87057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7D94-8CE4-4992-8BE5-D386270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80F-060F-4E14-B72E-B8376A44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2448-EA75-4362-B781-1FEF933A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CB84-214C-4DC8-BCA9-926DD48A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5B6F-F14C-4CE4-8BC9-2723B8E1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A947-F494-4916-A5E7-8F983C2B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4479-9EE0-41D8-BCD4-588E5178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B79-BC0B-4441-A3CC-7FEAC37C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27F-5F36-450B-B3C1-1D65CBD4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322-45DC-4079-87A9-ADCFADDC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639-B8B9-44C6-9D0D-73704D1B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87F-CF27-4559-81D5-D4183AB5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86C-F2DE-4345-A919-41B03559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0DC-9478-49C1-A5AC-886E3AD4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AA74-D742-41D4-85A7-8FE2DD5D65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0011-66BB-48EA-9362-CB3629D1E68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600" spc="-1" strike="noStrike">
                <a:solidFill>
                  <a:srgbClr val="ffff00"/>
                </a:solidFill>
                <a:latin typeface="Times New Roman"/>
              </a:rPr>
              <a:t>«Путь к успеху»</a:t>
            </a:r>
            <a:r>
              <a:rPr b="1" lang="ru-RU" sz="5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900" spc="-1" strike="noStrike">
                <a:solidFill>
                  <a:srgbClr val="ffffcc"/>
                </a:solidFill>
                <a:latin typeface="Times New Roman"/>
              </a:rPr>
              <a:t>Организация ученического самоуправления.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Ученическое самоуправление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форма реализации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обучающимися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рава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а участие в управлении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общеобразовательным учреждением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4" descr="clipart_of_15195_sm"/>
          <p:cNvPicPr/>
          <p:nvPr/>
        </p:nvPicPr>
        <p:blipFill>
          <a:blip r:embed="rId1"/>
          <a:stretch/>
        </p:blipFill>
        <p:spPr>
          <a:xfrm>
            <a:off x="2133720" y="289548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Совет старшеклассников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– это добровольное общественное объединение учащихся школы; высший исполнительный и координирующий орган ученического самоуправления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005-005-Struktura-shkolnogo-samoupravlen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1800" y="340920"/>
            <a:ext cx="7467480" cy="8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тветственный за работу с органами ученического самоуправления 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пособствует организации детей (в процессе работы Совета старшеклассников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казывает помощь в процессе планирования работы Совета старшекласснико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казывает помощь в решении проблемных вопросо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рганизовывает взаимосвязь между Советом старшеклассников и администрацией школы, педагогическим коллективом, родительской общественностью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существляет анализ работы Совета старшекласснико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8120" y="404640"/>
            <a:ext cx="6856200" cy="69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Желаемый результат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Формирование демократической культуры старшеклассников (комплекс ценностей, норм и образцов поведения, деятельность политических институтов, обеспечивающих гражданам организованное участие во власти и контроль над ней);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Формирование активной жизненной позиции и лидерских качеств (мировоззрение личности, нравственные убеждения и отношение к общественному долгу и т.д.);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Формирование навыков самоорганизации ( В их числе: самостоятельность, инициативность, демократичность, умение творчески мыслить, знание своих прав и свобод и умение их защищать, способность поддерживать свое физическое и психическое здоровье и пр.);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остижение желаемого результата возможно через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анирование и организация работы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Приобщение всех участников учебно-воспитательного процесса к организации ученического самоуправления (дети, родители, педагоги, администрация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Times New Roman"/>
              </a:rPr>
              <a:t>Создание и поддержание позитивного имиджа ученического самоуправления (Совета старшеклассников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Times New Roman"/>
              </a:rPr>
              <a:t>Супервизия. Анализ работы с целью предоставления рекомендаций согласно оптимизации и улучшения работы органов ученического самоуправл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Имидж ученического самоуправления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моционально окрашенный образ, который возникает в массовом сознании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Схема 3" descr=""/>
          <p:cNvPicPr/>
          <p:nvPr/>
        </p:nvPicPr>
        <p:blipFill>
          <a:blip r:embed="rId1"/>
          <a:stretch/>
        </p:blipFill>
        <p:spPr>
          <a:xfrm>
            <a:off x="811080" y="2114640"/>
            <a:ext cx="76806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8-10-10T09:46:5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