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9AC0-ADBF-4FC5-BB55-4021BEE8E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1B6C-F600-4CD7-8BE2-58606C55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3882-7895-454F-A571-8339CE6B3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D463-419E-4AB5-A5EB-7F9480C53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FBB6-E150-4D00-B4A9-87B052834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9FA3-5B71-40C3-BB13-B067790B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62CD-87D1-43E8-AA21-64F3D23F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E32A-6DBA-4BA7-903F-EEA03DBB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523D-4B8A-46E3-87E6-B2974545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6912-5965-4738-9C64-4E7AB0C3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3AD2-6ED1-445D-9F05-C9CF2A7D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A860-3C04-4287-859E-0ED1C305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870F-252E-4456-A2BF-D8EB7F83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77B8-037A-43E1-94F0-AD0F5A03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B78E-ADF4-49EE-8378-A17C8A5B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7D22-F50C-4EFE-9CF5-F9BB60C79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DA7E-26F5-48B9-871A-227B77C03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C2E5E-3473-4C82-A50B-0CC21F315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5D798-C920-40F7-8969-20D9B009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7E224-FC25-48AB-B44B-B0B234B9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C76AF-C31D-4DD9-9677-8AEB3049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10764-FE4F-4CFB-A5D5-B386CBD7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4051-CDC6-40E2-8903-05032C6C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8D0D9-AEEC-44E5-849C-1CFFF72C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6D4C2-A9A7-409C-BD71-7F3C7FEF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96E34-7C82-48D1-88B0-29B39EA1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4F44D-8215-4E0D-9142-F7D1B5DD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5BDA0-46E4-48D3-9BBA-B325A294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DE93B-67FC-452B-9EE3-18B34A2E9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6C663-8884-4CD8-90C4-F37CC8F8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3806-2DA9-44E7-B074-74B62F8E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F3EE-9E32-4346-92F3-BF74CF04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B6E7-0401-4FA3-B042-4FAC11E8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DDCF-6C29-4A43-AB3F-8958E9CA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E6E2-D1F0-47F2-8B99-EBD5B52E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B156-7D35-4725-ABED-E9EFEEF0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4EE3-44A1-4BCE-852D-5C5ECC5F4D7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6BF0-ACC4-47CD-AA14-EE7C1E647C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B438-80F0-488F-AE44-C8AAACC2D80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78920" y="342864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254061"/>
                </a:solidFill>
                <a:latin typeface="Georgia"/>
              </a:rPr>
              <a:t>Інклюзія – вимога час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254061"/>
                </a:solidFill>
                <a:latin typeface="Georgia"/>
              </a:rPr>
              <a:t>Від планування – до впровадженн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108000" y="69228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54061"/>
                </a:solidFill>
                <a:latin typeface="Georgia"/>
              </a:rPr>
              <a:t>Чугуївська загальноосвітня школа І-ІІІ ст. №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9" name="Picture 2" descr="D:\Мои рисунки\школа\Shkolnik.jpg"/>
          <p:cNvPicPr/>
          <p:nvPr/>
        </p:nvPicPr>
        <p:blipFill>
          <a:blip r:embed="rId1"/>
          <a:stretch/>
        </p:blipFill>
        <p:spPr>
          <a:xfrm>
            <a:off x="6156360" y="260280"/>
            <a:ext cx="2516040" cy="2664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D:\Мои рисунки\знання\1319637623_meeting.jpg"/>
          <p:cNvPicPr/>
          <p:nvPr/>
        </p:nvPicPr>
        <p:blipFill>
          <a:blip r:embed="rId2"/>
          <a:stretch/>
        </p:blipFill>
        <p:spPr>
          <a:xfrm>
            <a:off x="6516720" y="4724280"/>
            <a:ext cx="199224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83763"/>
                </a:solidFill>
                <a:latin typeface="Georgia"/>
              </a:rPr>
              <a:t>Під час проведення консиліуму учасники мають дати відповіді на такі питання:</a:t>
            </a:r>
            <a:br>
              <a:rPr sz="29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яка допомога потрібна учню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яку корекційно-розвивальну роботу бажано з ними здійснювати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які особливості повинні бути враховані у процесі навчання і спілкування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яку роботу можуть узяти на себе учасники консиліуму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яку діяльність необхідно здійснювати силами педагогічного колективу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Чим може допомогти сім'я, фахівців різного профілю поза школою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4617b"/>
                </a:solidFill>
                <a:latin typeface="Georgia"/>
              </a:rPr>
              <a:t>Психологічне забезпечення і соціально-педагогічний супровід інклюзивної освіти</a:t>
            </a:r>
            <a:br>
              <a:rPr sz="45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4" name="Содержимое 3" descr=""/>
          <p:cNvPicPr/>
          <p:nvPr/>
        </p:nvPicPr>
        <p:blipFill>
          <a:blip r:embed="rId1"/>
          <a:stretch/>
        </p:blipFill>
        <p:spPr>
          <a:xfrm>
            <a:off x="-19080" y="1566720"/>
            <a:ext cx="872964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Georgia"/>
              </a:rPr>
              <a:t>Практичний психолог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здійснює психологічні дослідження за такими напрямам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індивідуально-психологічні особливості учні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сфери психічного розвитку дитини, у яких виявлено порушення або відхилення від вікової нор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потенційні можливості дитин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особливості соціального оточення, спілкування, стосунків у класі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9152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4617b"/>
                </a:solidFill>
                <a:latin typeface="Georgia"/>
              </a:rPr>
              <a:t>Види робіт </a:t>
            </a:r>
            <a:r>
              <a:rPr b="0" lang="uk-UA" sz="3600" spc="-1" strike="noStrike">
                <a:solidFill>
                  <a:srgbClr val="04617b"/>
                </a:solidFill>
                <a:latin typeface="Georgia"/>
              </a:rPr>
              <a:t>практичного психолог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79280" y="1341000"/>
            <a:ext cx="864072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Ознайомлення з особовою справою дитини, історією та особливістю протікання захворюванн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Бесіда з дитиною і батьками. Визначення можливостей дитин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Оцінка освітнього середовища відповідно до потреб і можливостей дитини, організація відповідних змі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Діагностика особистісних особливостей дитин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Проведення психолого-педагогічного консиліуму з метою розроблення індивідуальної програм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Проведення зустрічі з батьками і учнями класу (школи), педагогами з метою формування психологічної готовності до взаємодії з дитиною з особливими освітніми потреба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Проведення психокорекційної роботи з метою розвитку потенційних можливостей дитини та відповідного формування особистості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Моніторинг рівня адаптованості й інтегрованості дитини, корекція відповідних індивідуальних програм, плані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Georgia"/>
              </a:rPr>
              <a:t>Учителі-предметник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характеризують поведінку учня за такими показникам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труднощі та особливості, що проявляються під час усних та письмових відповідей, біля дошки, під час засвоєння нового навчального матеріалу або повторення, виконання творчих завдань тощ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опис типового для учня емоційного стану на уроці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опис ситуацій, що викликають в учнів негативні емоційні стан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Georgia"/>
              </a:rPr>
              <a:t>Асистент вчител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989000"/>
            <a:ext cx="82296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4fce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Забезпечує особистісно орієнтоване спрямування навчально-виховного процес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4fce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Бере участь у розробленні та виконанні індивідуальних навчальних планів та програ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4fce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Адаптує навчальні матеріали з урахуванням індивідуальних особливостей навчально-пізнавальної діяльності дітей з особливими освітніми потреб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Georgia"/>
              </a:rPr>
              <a:t>Медичний працівник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надає інформацію про стан здоров'я і фізичні особливості школярів за такими показникам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Фізичний стан дитини на момент проведення консиліуму (відповідність фізичного розвитку віковим нормам; стан органів зору, слуху, кістково-м'язової системи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Фактори ризику (наявність у минулому захворювань і травм, які можуть позначатися на розвитку дитини, наявність хронічних захворювань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Georgia"/>
              </a:rPr>
              <a:t>Класний керівник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2060640"/>
            <a:ext cx="8229600" cy="42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подає психолого-педагогічну характеристику навчальної діяльності і поведінки учня (класу) за такими показникам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кількісні та якісні характеристики навчальної діяльності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опис поведінки та спілкування учня з однокласник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умови сімейного вихованн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Georgia"/>
              </a:rPr>
              <a:t>Форми і методи роботи з батьками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5570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Консультування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 - диференційований підхід до кожної сім'ї, що має «особливого» дитини. Головне, щоб батьки вірили у своїх дітей і були помічниками для нас.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Дні відкритих дверей 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- батьки відвідують групу, разом з дитиною, спостерігають за роботою фахівців.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Семінари-практикуми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 - де батьки знайомляться з літературою, іграми, вчаться застосовувати отримані знання на практиці.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Ділові ігри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.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Проведення спільних свят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, де батько може бачити досягнення своєї дитини, брати участь спільно з дитиною (мама поруч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68360" y="907920"/>
            <a:ext cx="63360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Georgia"/>
              </a:rPr>
              <a:t>Завершення навчанн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844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Georgia"/>
              </a:rPr>
              <a:t>Учням з особливими освітніми  потребами, у тому числі з розумовою  відсталістю, які навчалися у класі з інклюзивним навчанням,  видається документ встановленого зразка для загальноосвітнього навчального закладу, учнями якого вони бул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Georgia"/>
              </a:rPr>
              <a:t>У додатку до свідоцтва  про базову загальну середню освіту або до атестата про повну загальну середню освіту вказуються лише ті предмети, які вивчав учень в процесі  навчання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Georgia"/>
              </a:rPr>
              <a:t>Для осіб, звільнених від  державної підсумкової атестації, у додаток до свідоцтва про  відповідний рівень освіти виставляються  річні бали та робиться запис “звільнений”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1" name="Picture 2" descr="D:\Мои рисунки\мои заставки\images.jpeg"/>
          <p:cNvPicPr/>
          <p:nvPr/>
        </p:nvPicPr>
        <p:blipFill>
          <a:blip r:embed="rId1"/>
          <a:stretch/>
        </p:blipFill>
        <p:spPr>
          <a:xfrm>
            <a:off x="1332000" y="83664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D:\Мои рисунки\народні смволи України\символи2.jpeg"/>
          <p:cNvPicPr/>
          <p:nvPr/>
        </p:nvPicPr>
        <p:blipFill>
          <a:blip r:embed="rId1"/>
          <a:stretch/>
        </p:blipFill>
        <p:spPr>
          <a:xfrm>
            <a:off x="324000" y="404640"/>
            <a:ext cx="2160360" cy="246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763280" y="981000"/>
            <a:ext cx="71312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uk-UA" sz="21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uk-UA" sz="21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uk-UA" sz="2100" spc="-1" strike="noStrike">
                <a:solidFill>
                  <a:srgbClr val="1f497d"/>
                </a:solidFill>
                <a:latin typeface="Georgia"/>
              </a:rPr>
              <a:t>Починаючи  з 2000 року в Україні активізувалася законотворча  діяльність стосовно надання освітніх, медичних, соціальних послуг особам з обмеженими можливостями здоров’я, зокрема дітям, що засвідчує прийняття таких </a:t>
            </a:r>
            <a:r>
              <a:rPr b="1" lang="uk-UA" sz="2100" spc="-1" strike="noStrike">
                <a:solidFill>
                  <a:srgbClr val="1f497d"/>
                </a:solidFill>
                <a:latin typeface="Georgia"/>
              </a:rPr>
              <a:t>Законів</a:t>
            </a:r>
            <a:r>
              <a:rPr b="0" lang="uk-UA" sz="2100" spc="-1" strike="noStrike">
                <a:solidFill>
                  <a:srgbClr val="1f497d"/>
                </a:solidFill>
                <a:latin typeface="Georgia"/>
              </a:rPr>
              <a:t>, як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1f497d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1f497d"/>
                </a:solidFill>
                <a:latin typeface="Georgia"/>
              </a:rPr>
              <a:t>„</a:t>
            </a:r>
            <a:r>
              <a:rPr b="1" lang="uk-UA" sz="2100" spc="-1" strike="noStrike">
                <a:solidFill>
                  <a:srgbClr val="1f497d"/>
                </a:solidFill>
                <a:latin typeface="Georgia"/>
              </a:rPr>
              <a:t>Про державні соціальні стандарти та державні соціальні гарантії” (2000р.)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1f497d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1f497d"/>
                </a:solidFill>
                <a:latin typeface="Georgia"/>
              </a:rPr>
              <a:t>„</a:t>
            </a:r>
            <a:r>
              <a:rPr b="1" lang="uk-UA" sz="2100" spc="-1" strike="noStrike">
                <a:solidFill>
                  <a:srgbClr val="1f497d"/>
                </a:solidFill>
                <a:latin typeface="Georgia"/>
              </a:rPr>
              <a:t>Про охорону дитинства” (2001 р.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1f497d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1f497d"/>
                </a:solidFill>
                <a:latin typeface="Georgia"/>
              </a:rPr>
              <a:t>„</a:t>
            </a:r>
            <a:r>
              <a:rPr b="1" lang="uk-UA" sz="2100" spc="-1" strike="noStrike">
                <a:solidFill>
                  <a:srgbClr val="1f497d"/>
                </a:solidFill>
                <a:latin typeface="Georgia"/>
              </a:rPr>
              <a:t>Про соціальні послуги” (2003р.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1f497d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1f497d"/>
                </a:solidFill>
                <a:latin typeface="Georgia"/>
              </a:rPr>
              <a:t>„</a:t>
            </a:r>
            <a:r>
              <a:rPr b="1" lang="uk-UA" sz="2100" spc="-1" strike="noStrike">
                <a:solidFill>
                  <a:srgbClr val="1f497d"/>
                </a:solidFill>
                <a:latin typeface="Georgia"/>
              </a:rPr>
              <a:t>Про реабілітацію інвалідів в Україні” (2005р.)</a:t>
            </a:r>
            <a:r>
              <a:rPr b="1" lang="uk-UA" sz="2500" spc="-1" strike="noStrike">
                <a:solidFill>
                  <a:srgbClr val="1f497d"/>
                </a:solidFill>
                <a:latin typeface="Georgi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3"/>
          <p:cNvSpPr/>
          <p:nvPr/>
        </p:nvSpPr>
        <p:spPr>
          <a:xfrm>
            <a:off x="152280" y="1125360"/>
            <a:ext cx="8991720" cy="1151280"/>
          </a:xfrm>
          <a:prstGeom prst="roundRect">
            <a:avLst>
              <a:gd name="adj" fmla="val 23741"/>
            </a:avLst>
          </a:prstGeom>
          <a:solidFill>
            <a:srgbClr val="cc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Georgia"/>
              </a:rPr>
              <a:t>ПРИЧИНИ НЕОБХІДНОСТІ ВПРОВАДЖЕНН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Georgia"/>
              </a:rPr>
              <a:t>ІНКЛЮЗИВНОЇ ОСВІ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228600" y="1066680"/>
            <a:ext cx="8915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106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4617b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0" y="1447920"/>
            <a:ext cx="8534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just">
              <a:lnSpc>
                <a:spcPct val="100000"/>
              </a:lnSpc>
              <a:spcBef>
                <a:spcPts val="675"/>
              </a:spcBef>
              <a:buClr>
                <a:srgbClr val="e2d700"/>
              </a:buClr>
              <a:buSzPct val="70000"/>
              <a:buFont typeface="Wingdings" charset="2"/>
              <a:buChar char="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533520" y="1371600"/>
            <a:ext cx="815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0" y="137160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228600" y="2637000"/>
            <a:ext cx="80154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168480">
              <a:lnSpc>
                <a:spcPct val="100000"/>
              </a:lnSpc>
              <a:buClr>
                <a:srgbClr val="04617b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Georgia"/>
              </a:rPr>
              <a:t>всі діти мають право навчатися разом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168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168480">
              <a:lnSpc>
                <a:spcPct val="100000"/>
              </a:lnSpc>
              <a:buClr>
                <a:srgbClr val="04617b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Georgia"/>
              </a:rPr>
              <a:t>діти</a:t>
            </a:r>
            <a:r>
              <a:rPr b="0" lang="ru-RU" sz="2400" spc="-1" strike="noStrike">
                <a:solidFill>
                  <a:srgbClr val="04617b"/>
                </a:solidFill>
                <a:latin typeface="Georgia"/>
              </a:rPr>
              <a:t> не повинні зазнавати будь-яких видів дискримінації через свої проблеми розвитку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168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168480">
              <a:lnSpc>
                <a:spcPct val="100000"/>
              </a:lnSpc>
              <a:buClr>
                <a:srgbClr val="04617b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Georgia"/>
              </a:rPr>
              <a:t>багато дорослих інвалідів, які навчались в спеціальних навчальних закладах, вимагають зупинити сегрегацію в даній  сфері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168480">
              <a:lnSpc>
                <a:spcPct val="100000"/>
              </a:lnSpc>
              <a:spcBef>
                <a:spcPts val="1500"/>
              </a:spcBef>
              <a:buClr>
                <a:srgbClr val="04617b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3"/>
          <p:cNvSpPr/>
          <p:nvPr/>
        </p:nvSpPr>
        <p:spPr>
          <a:xfrm>
            <a:off x="152280" y="152280"/>
            <a:ext cx="8991720" cy="1260720"/>
          </a:xfrm>
          <a:prstGeom prst="roundRect">
            <a:avLst>
              <a:gd name="adj" fmla="val 23741"/>
            </a:avLst>
          </a:prstGeom>
          <a:solidFill>
            <a:srgbClr val="cc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Georgia"/>
              </a:rPr>
              <a:t>ПРИЧИНИ НЕОБХІДНОСТІ ВПРОВАДЖЕНН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Georgia"/>
              </a:rPr>
              <a:t>ІНКЛЮЗИВНИХ ПРОГРА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228600" y="1066680"/>
            <a:ext cx="8915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106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4617b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1981080"/>
            <a:ext cx="9144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533520" y="1371600"/>
            <a:ext cx="815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AutoShape 9"/>
          <p:cNvSpPr/>
          <p:nvPr/>
        </p:nvSpPr>
        <p:spPr>
          <a:xfrm flipH="1" rot="5400000">
            <a:off x="-2302200" y="1690560"/>
            <a:ext cx="4643280" cy="5072040"/>
          </a:xfrm>
          <a:prstGeom prst="pi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4617b"/>
                </a:solidFill>
                <a:latin typeface="Georgia"/>
              </a:rPr>
              <a:t>ЕФЕКТИВ-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4617b"/>
                </a:solidFill>
                <a:latin typeface="Georgia"/>
              </a:rPr>
              <a:t>НІСТЬ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4617b"/>
                </a:solidFill>
                <a:latin typeface="Georgia"/>
              </a:rPr>
              <a:t>ІНКЛЮЗИВНИХ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4617b"/>
                </a:solidFill>
                <a:latin typeface="Georgia"/>
              </a:rPr>
              <a:t>ПРОГРА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2057400" y="1828800"/>
            <a:ext cx="708660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6e6e6">
                  <a:alpha val="30196"/>
                </a:srgbClr>
              </a:gs>
              <a:gs pos="100000">
                <a:srgbClr val="ffffff">
                  <a:alpha val="51372"/>
                </a:srgbClr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Georgia"/>
              </a:rPr>
              <a:t>Діти розвиваються краще (як в освітньому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Georgia"/>
              </a:rPr>
              <a:t>так і в соціальному аспектах), коли навчаються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Georgia"/>
              </a:rPr>
              <a:t>разом зі своїми ровесникам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7" name="Group 11"/>
          <p:cNvGrpSpPr/>
          <p:nvPr/>
        </p:nvGrpSpPr>
        <p:grpSpPr>
          <a:xfrm>
            <a:off x="1619280" y="2205000"/>
            <a:ext cx="504720" cy="503280"/>
            <a:chOff x="1619280" y="2205000"/>
            <a:chExt cx="504720" cy="503280"/>
          </a:xfrm>
        </p:grpSpPr>
        <p:sp>
          <p:nvSpPr>
            <p:cNvPr id="158" name="Oval 12"/>
            <p:cNvSpPr/>
            <p:nvPr/>
          </p:nvSpPr>
          <p:spPr>
            <a:xfrm>
              <a:off x="1619280" y="2205000"/>
              <a:ext cx="504720" cy="5032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59" name="Oval 13"/>
            <p:cNvSpPr/>
            <p:nvPr/>
          </p:nvSpPr>
          <p:spPr>
            <a:xfrm>
              <a:off x="1647720" y="2233080"/>
              <a:ext cx="447120" cy="445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60" name="Oval 14"/>
            <p:cNvSpPr/>
            <p:nvPr/>
          </p:nvSpPr>
          <p:spPr>
            <a:xfrm>
              <a:off x="1674360" y="2260440"/>
              <a:ext cx="394560" cy="393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e2d7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61" name="Oval 15"/>
            <p:cNvSpPr/>
            <p:nvPr/>
          </p:nvSpPr>
          <p:spPr>
            <a:xfrm>
              <a:off x="1674360" y="2259720"/>
              <a:ext cx="394560" cy="393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62" name="Oval 16"/>
            <p:cNvSpPr/>
            <p:nvPr/>
          </p:nvSpPr>
          <p:spPr>
            <a:xfrm>
              <a:off x="1700640" y="2286000"/>
              <a:ext cx="341640" cy="341640"/>
            </a:xfrm>
            <a:prstGeom prst="ellipse">
              <a:avLst/>
            </a:prstGeom>
            <a:gradFill rotWithShape="0">
              <a:gsLst>
                <a:gs pos="0">
                  <a:srgbClr val="7a7400"/>
                </a:gs>
                <a:gs pos="50000">
                  <a:srgbClr val="e2d700"/>
                </a:gs>
                <a:gs pos="100000">
                  <a:srgbClr val="7a7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63" name="Oval 17"/>
            <p:cNvSpPr/>
            <p:nvPr/>
          </p:nvSpPr>
          <p:spPr>
            <a:xfrm>
              <a:off x="1700280" y="2285640"/>
              <a:ext cx="342360" cy="342000"/>
            </a:xfrm>
            <a:prstGeom prst="ellipse">
              <a:avLst/>
            </a:prstGeom>
            <a:gradFill rotWithShape="0">
              <a:gsLst>
                <a:gs pos="0">
                  <a:srgbClr val="3868f0"/>
                </a:gs>
                <a:gs pos="100000">
                  <a:srgbClr val="1b327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64" name="AutoShape 18"/>
          <p:cNvSpPr/>
          <p:nvPr/>
        </p:nvSpPr>
        <p:spPr>
          <a:xfrm>
            <a:off x="2556000" y="3200400"/>
            <a:ext cx="6588000" cy="1523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6e6e6">
                  <a:alpha val="30196"/>
                </a:srgbClr>
              </a:gs>
              <a:gs pos="100000">
                <a:srgbClr val="ffffff">
                  <a:alpha val="51372"/>
                </a:srgbClr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4617b"/>
                </a:solidFill>
                <a:latin typeface="Georgia"/>
              </a:rPr>
              <a:t>Не існує таких методів навчання, які можн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Georgia"/>
              </a:rPr>
              <a:t>   </a:t>
            </a:r>
            <a:r>
              <a:rPr b="1" lang="ru-RU" sz="2000" spc="-1" strike="noStrike">
                <a:solidFill>
                  <a:srgbClr val="04617b"/>
                </a:solidFill>
                <a:latin typeface="Georgia"/>
              </a:rPr>
              <a:t>було б використовувати тільки в спеціальних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Georgia"/>
              </a:rPr>
              <a:t>   </a:t>
            </a:r>
            <a:r>
              <a:rPr b="1" lang="ru-RU" sz="2000" spc="-1" strike="noStrike">
                <a:solidFill>
                  <a:srgbClr val="04617b"/>
                </a:solidFill>
                <a:latin typeface="Georgia"/>
              </a:rPr>
              <a:t>закладах, і не можна було б використовувати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Georgia"/>
              </a:rPr>
              <a:t>в загальноосвітній системі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65" name="Group 19"/>
          <p:cNvGrpSpPr/>
          <p:nvPr/>
        </p:nvGrpSpPr>
        <p:grpSpPr>
          <a:xfrm>
            <a:off x="2195640" y="3645000"/>
            <a:ext cx="471240" cy="469800"/>
            <a:chOff x="2195640" y="3645000"/>
            <a:chExt cx="471240" cy="469800"/>
          </a:xfrm>
        </p:grpSpPr>
        <p:sp>
          <p:nvSpPr>
            <p:cNvPr id="166" name="Oval 20"/>
            <p:cNvSpPr/>
            <p:nvPr/>
          </p:nvSpPr>
          <p:spPr>
            <a:xfrm>
              <a:off x="2195640" y="3645000"/>
              <a:ext cx="471240" cy="46980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67" name="Oval 21"/>
            <p:cNvSpPr/>
            <p:nvPr/>
          </p:nvSpPr>
          <p:spPr>
            <a:xfrm>
              <a:off x="2222280" y="3671280"/>
              <a:ext cx="417240" cy="416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68" name="Oval 22"/>
            <p:cNvSpPr/>
            <p:nvPr/>
          </p:nvSpPr>
          <p:spPr>
            <a:xfrm>
              <a:off x="2247480" y="3696480"/>
              <a:ext cx="367560" cy="367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e2d7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69" name="Oval 23"/>
            <p:cNvSpPr/>
            <p:nvPr/>
          </p:nvSpPr>
          <p:spPr>
            <a:xfrm>
              <a:off x="2246760" y="3696120"/>
              <a:ext cx="368280" cy="3675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70" name="Oval 24"/>
            <p:cNvSpPr/>
            <p:nvPr/>
          </p:nvSpPr>
          <p:spPr>
            <a:xfrm>
              <a:off x="2271240" y="3720600"/>
              <a:ext cx="319680" cy="318960"/>
            </a:xfrm>
            <a:prstGeom prst="ellipse">
              <a:avLst/>
            </a:prstGeom>
            <a:gradFill rotWithShape="0">
              <a:gsLst>
                <a:gs pos="0">
                  <a:srgbClr val="7a7400"/>
                </a:gs>
                <a:gs pos="50000">
                  <a:srgbClr val="e2d700"/>
                </a:gs>
                <a:gs pos="100000">
                  <a:srgbClr val="7a7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71" name="Oval 25"/>
            <p:cNvSpPr/>
            <p:nvPr/>
          </p:nvSpPr>
          <p:spPr>
            <a:xfrm>
              <a:off x="2271240" y="3720240"/>
              <a:ext cx="319680" cy="319320"/>
            </a:xfrm>
            <a:prstGeom prst="ellipse">
              <a:avLst/>
            </a:prstGeom>
            <a:gradFill rotWithShape="0">
              <a:gsLst>
                <a:gs pos="0">
                  <a:srgbClr val="3868f0"/>
                </a:gs>
                <a:gs pos="100000">
                  <a:srgbClr val="1b327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72" name="AutoShape 26"/>
          <p:cNvSpPr/>
          <p:nvPr/>
        </p:nvSpPr>
        <p:spPr>
          <a:xfrm>
            <a:off x="2209680" y="4876920"/>
            <a:ext cx="6934320" cy="160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6e6e6">
                  <a:alpha val="30196"/>
                </a:srgbClr>
              </a:gs>
              <a:gs pos="100000">
                <a:srgbClr val="ffffff">
                  <a:alpha val="51372"/>
                </a:srgbClr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Georgia"/>
              </a:rPr>
              <a:t>При умові відповідальності та кваліфікова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Georgia"/>
              </a:rPr>
              <a:t>ності педагогів, при підтримці батьків т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Georgia"/>
              </a:rPr>
              <a:t>вузьких спеціалістів, інклюзивні програми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Georgia"/>
              </a:rPr>
              <a:t>є більш ефективним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04617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73" name="Group 27"/>
          <p:cNvGrpSpPr/>
          <p:nvPr/>
        </p:nvGrpSpPr>
        <p:grpSpPr>
          <a:xfrm>
            <a:off x="1828800" y="5410080"/>
            <a:ext cx="511200" cy="533520"/>
            <a:chOff x="1828800" y="5410080"/>
            <a:chExt cx="511200" cy="533520"/>
          </a:xfrm>
        </p:grpSpPr>
        <p:sp>
          <p:nvSpPr>
            <p:cNvPr id="174" name="Oval 28"/>
            <p:cNvSpPr/>
            <p:nvPr/>
          </p:nvSpPr>
          <p:spPr>
            <a:xfrm>
              <a:off x="1828800" y="5410080"/>
              <a:ext cx="511200" cy="5335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75" name="Oval 29"/>
            <p:cNvSpPr/>
            <p:nvPr/>
          </p:nvSpPr>
          <p:spPr>
            <a:xfrm>
              <a:off x="1857600" y="5439960"/>
              <a:ext cx="452880" cy="472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76" name="Oval 30"/>
            <p:cNvSpPr/>
            <p:nvPr/>
          </p:nvSpPr>
          <p:spPr>
            <a:xfrm>
              <a:off x="1884600" y="5468760"/>
              <a:ext cx="399960" cy="417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e2d7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77" name="Oval 31"/>
            <p:cNvSpPr/>
            <p:nvPr/>
          </p:nvSpPr>
          <p:spPr>
            <a:xfrm>
              <a:off x="1884600" y="5468040"/>
              <a:ext cx="399600" cy="4176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78" name="Oval 32"/>
            <p:cNvSpPr/>
            <p:nvPr/>
          </p:nvSpPr>
          <p:spPr>
            <a:xfrm>
              <a:off x="1910520" y="5495760"/>
              <a:ext cx="346680" cy="362160"/>
            </a:xfrm>
            <a:prstGeom prst="ellipse">
              <a:avLst/>
            </a:prstGeom>
            <a:gradFill rotWithShape="0">
              <a:gsLst>
                <a:gs pos="0">
                  <a:srgbClr val="7a7400"/>
                </a:gs>
                <a:gs pos="50000">
                  <a:srgbClr val="e2d700"/>
                </a:gs>
                <a:gs pos="100000">
                  <a:srgbClr val="7a7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79" name="Oval 33"/>
            <p:cNvSpPr/>
            <p:nvPr/>
          </p:nvSpPr>
          <p:spPr>
            <a:xfrm>
              <a:off x="1910880" y="5495400"/>
              <a:ext cx="347040" cy="362880"/>
            </a:xfrm>
            <a:prstGeom prst="ellipse">
              <a:avLst/>
            </a:prstGeom>
            <a:gradFill rotWithShape="0">
              <a:gsLst>
                <a:gs pos="0">
                  <a:srgbClr val="3868f0"/>
                </a:gs>
                <a:gs pos="100000">
                  <a:srgbClr val="1b327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24000" y="1125000"/>
            <a:ext cx="6840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4617b"/>
                </a:solidFill>
                <a:latin typeface="Georgia"/>
              </a:rPr>
              <a:t>Умови для організації інклюзивного навчання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21337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4fce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забезпечення безперешкодного доступу до будівель та приміщень такого закладу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4fce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забезпечення необхідними навчально-методичними і наочно-дидактичними посібниками та індивідуальними технічними засобами навчанн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4fce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облаштування кабінетів учителя-дефектолога, психологічного розвантаження, логопедичного для проведення корекційно-розвиткових занять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4fce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забезпечення відповідними педагогічними кадрами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2" name="Picture 1" descr="D:\Мои рисунки\мои заставки\1335362437_86655880.jpg"/>
          <p:cNvPicPr/>
          <p:nvPr/>
        </p:nvPicPr>
        <p:blipFill>
          <a:blip r:embed="rId1"/>
          <a:stretch/>
        </p:blipFill>
        <p:spPr>
          <a:xfrm>
            <a:off x="971640" y="836640"/>
            <a:ext cx="1253880" cy="12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3"/>
          <p:cNvSpPr/>
          <p:nvPr/>
        </p:nvSpPr>
        <p:spPr>
          <a:xfrm>
            <a:off x="0" y="0"/>
            <a:ext cx="9144000" cy="1143000"/>
          </a:xfrm>
          <a:prstGeom prst="roundRect">
            <a:avLst>
              <a:gd name="adj" fmla="val 23741"/>
            </a:avLst>
          </a:prstGeom>
          <a:solidFill>
            <a:srgbClr val="cc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4617b"/>
                </a:solidFill>
                <a:latin typeface="Georgia"/>
              </a:rPr>
              <a:t>ОРГАНІЗАЦІЯ ТА ЗМІСТ ОСВІТНЬОГО ПРОЦЕСУ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4617b"/>
                </a:solidFill>
                <a:latin typeface="Georgia"/>
              </a:rPr>
              <a:t>В УМОВАХ ІНКЛЮЗИВНОЇ ШКОЛИ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228600" y="1066680"/>
            <a:ext cx="8915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83808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4617b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4518000" y="1609560"/>
            <a:ext cx="2179800" cy="2909880"/>
          </a:xfrm>
          <a:custGeom>
            <a:avLst/>
            <a:gdLst>
              <a:gd name="textAreaLeft" fmla="*/ 111600 w 2179800"/>
              <a:gd name="textAreaRight" fmla="*/ 2068200 w 2179800"/>
              <a:gd name="textAreaTop" fmla="*/ 111600 h 2909880"/>
              <a:gd name="textAreaBottom" fmla="*/ 2798280 h 2909880"/>
            </a:gdLst>
            <a:ahLst/>
            <a:rect l="textAreaLeft" t="textAreaTop" r="textAreaRight" b="textAreaBottom"/>
            <a:pathLst>
              <a:path w="21600" h="28833">
                <a:moveTo>
                  <a:pt x="3782" y="0"/>
                </a:moveTo>
                <a:arcTo wR="3782" hR="3782" stAng="16200000" swAng="-5400000"/>
                <a:lnTo>
                  <a:pt x="0" y="25051"/>
                </a:lnTo>
                <a:arcTo wR="3782" hR="3782" stAng="10800000" swAng="-5400000"/>
                <a:lnTo>
                  <a:pt x="17818" y="28833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AutoShape 7"/>
          <p:cNvSpPr/>
          <p:nvPr/>
        </p:nvSpPr>
        <p:spPr>
          <a:xfrm>
            <a:off x="4552920" y="1617840"/>
            <a:ext cx="2112840" cy="2854080"/>
          </a:xfrm>
          <a:custGeom>
            <a:avLst/>
            <a:gdLst>
              <a:gd name="textAreaLeft" fmla="*/ 102960 w 2112840"/>
              <a:gd name="textAreaRight" fmla="*/ 2009880 w 2112840"/>
              <a:gd name="textAreaTop" fmla="*/ 102960 h 2854080"/>
              <a:gd name="textAreaBottom" fmla="*/ 2751120 h 2854080"/>
            </a:gdLst>
            <a:ahLst/>
            <a:rect l="textAreaLeft" t="textAreaTop" r="textAreaRight" b="textAreaBottom"/>
            <a:pathLst>
              <a:path w="21600" h="29177">
                <a:moveTo>
                  <a:pt x="3600" y="0"/>
                </a:moveTo>
                <a:arcTo wR="3600" hR="3600" stAng="16200000" swAng="-5400000"/>
                <a:lnTo>
                  <a:pt x="0" y="25577"/>
                </a:lnTo>
                <a:arcTo wR="3600" hR="3600" stAng="10800000" swAng="-5400000"/>
                <a:lnTo>
                  <a:pt x="18000" y="291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AutoShape 8"/>
          <p:cNvSpPr/>
          <p:nvPr/>
        </p:nvSpPr>
        <p:spPr>
          <a:xfrm>
            <a:off x="4570560" y="3718080"/>
            <a:ext cx="2082600" cy="723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4570560" y="1639800"/>
            <a:ext cx="208260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0" name="Group 10"/>
          <p:cNvGrpSpPr/>
          <p:nvPr/>
        </p:nvGrpSpPr>
        <p:grpSpPr>
          <a:xfrm>
            <a:off x="5268960" y="1295280"/>
            <a:ext cx="647640" cy="654120"/>
            <a:chOff x="5268960" y="1295280"/>
            <a:chExt cx="647640" cy="654120"/>
          </a:xfrm>
        </p:grpSpPr>
        <p:sp>
          <p:nvSpPr>
            <p:cNvPr id="191" name="Oval 11"/>
            <p:cNvSpPr/>
            <p:nvPr/>
          </p:nvSpPr>
          <p:spPr>
            <a:xfrm>
              <a:off x="5268960" y="1295280"/>
              <a:ext cx="647640" cy="654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92" name="Oval 12"/>
            <p:cNvSpPr/>
            <p:nvPr/>
          </p:nvSpPr>
          <p:spPr>
            <a:xfrm>
              <a:off x="5275440" y="1300320"/>
              <a:ext cx="626400" cy="6336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93" name="Oval 13"/>
            <p:cNvSpPr/>
            <p:nvPr/>
          </p:nvSpPr>
          <p:spPr>
            <a:xfrm>
              <a:off x="5283360" y="1303920"/>
              <a:ext cx="611640" cy="6177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94" name="Oval 14"/>
            <p:cNvSpPr/>
            <p:nvPr/>
          </p:nvSpPr>
          <p:spPr>
            <a:xfrm>
              <a:off x="5290200" y="1310040"/>
              <a:ext cx="581760" cy="576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95" name="Oval 15"/>
            <p:cNvSpPr/>
            <p:nvPr/>
          </p:nvSpPr>
          <p:spPr>
            <a:xfrm>
              <a:off x="5324040" y="1325520"/>
              <a:ext cx="516600" cy="468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96" name="Text Box 16"/>
          <p:cNvSpPr/>
          <p:nvPr/>
        </p:nvSpPr>
        <p:spPr>
          <a:xfrm>
            <a:off x="5410440" y="1389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Text Box 17"/>
          <p:cNvSpPr/>
          <p:nvPr/>
        </p:nvSpPr>
        <p:spPr>
          <a:xfrm>
            <a:off x="4595760" y="2071800"/>
            <a:ext cx="2071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AutoShape 18"/>
          <p:cNvSpPr/>
          <p:nvPr/>
        </p:nvSpPr>
        <p:spPr>
          <a:xfrm>
            <a:off x="2259000" y="1609560"/>
            <a:ext cx="2182680" cy="2908440"/>
          </a:xfrm>
          <a:custGeom>
            <a:avLst/>
            <a:gdLst>
              <a:gd name="textAreaLeft" fmla="*/ 111600 w 2182680"/>
              <a:gd name="textAreaRight" fmla="*/ 2071080 w 2182680"/>
              <a:gd name="textAreaTop" fmla="*/ 111600 h 2908440"/>
              <a:gd name="textAreaBottom" fmla="*/ 2796840 h 2908440"/>
            </a:gdLst>
            <a:ahLst/>
            <a:rect l="textAreaLeft" t="textAreaTop" r="textAreaRight" b="textAreaBottom"/>
            <a:pathLst>
              <a:path w="21600" h="28781">
                <a:moveTo>
                  <a:pt x="3782" y="0"/>
                </a:moveTo>
                <a:arcTo wR="3782" hR="3782" stAng="16200000" swAng="-5400000"/>
                <a:lnTo>
                  <a:pt x="0" y="24999"/>
                </a:lnTo>
                <a:arcTo wR="3782" hR="3782" stAng="10800000" swAng="-5400000"/>
                <a:lnTo>
                  <a:pt x="17818" y="28781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AutoShape 19"/>
          <p:cNvSpPr/>
          <p:nvPr/>
        </p:nvSpPr>
        <p:spPr>
          <a:xfrm>
            <a:off x="2292480" y="1616040"/>
            <a:ext cx="2116080" cy="2854440"/>
          </a:xfrm>
          <a:custGeom>
            <a:avLst/>
            <a:gdLst>
              <a:gd name="textAreaLeft" fmla="*/ 102960 w 2116080"/>
              <a:gd name="textAreaRight" fmla="*/ 2013120 w 2116080"/>
              <a:gd name="textAreaTop" fmla="*/ 102960 h 2854440"/>
              <a:gd name="textAreaBottom" fmla="*/ 2751480 h 2854440"/>
            </a:gdLst>
            <a:ahLst/>
            <a:rect l="textAreaLeft" t="textAreaTop" r="textAreaRight" b="textAreaBottom"/>
            <a:pathLst>
              <a:path w="21600" h="29136">
                <a:moveTo>
                  <a:pt x="3600" y="0"/>
                </a:moveTo>
                <a:arcTo wR="3600" hR="3600" stAng="16200000" swAng="-5400000"/>
                <a:lnTo>
                  <a:pt x="0" y="25536"/>
                </a:lnTo>
                <a:arcTo wR="3600" hR="3600" stAng="10800000" swAng="-5400000"/>
                <a:lnTo>
                  <a:pt x="18000" y="29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AutoShape 20"/>
          <p:cNvSpPr/>
          <p:nvPr/>
        </p:nvSpPr>
        <p:spPr>
          <a:xfrm>
            <a:off x="2311560" y="3718080"/>
            <a:ext cx="2085840" cy="722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AutoShape 21"/>
          <p:cNvSpPr/>
          <p:nvPr/>
        </p:nvSpPr>
        <p:spPr>
          <a:xfrm>
            <a:off x="2311560" y="1639800"/>
            <a:ext cx="208584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Oval 22"/>
          <p:cNvSpPr/>
          <p:nvPr/>
        </p:nvSpPr>
        <p:spPr>
          <a:xfrm>
            <a:off x="3009960" y="1295280"/>
            <a:ext cx="649080" cy="6541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Oval 23"/>
          <p:cNvSpPr/>
          <p:nvPr/>
        </p:nvSpPr>
        <p:spPr>
          <a:xfrm>
            <a:off x="3016080" y="1300320"/>
            <a:ext cx="628920" cy="6332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Oval 24"/>
          <p:cNvSpPr/>
          <p:nvPr/>
        </p:nvSpPr>
        <p:spPr>
          <a:xfrm>
            <a:off x="3024360" y="1303200"/>
            <a:ext cx="614160" cy="61920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Oval 25"/>
          <p:cNvSpPr/>
          <p:nvPr/>
        </p:nvSpPr>
        <p:spPr>
          <a:xfrm>
            <a:off x="3030480" y="1309680"/>
            <a:ext cx="582840" cy="576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Oval 26"/>
          <p:cNvSpPr/>
          <p:nvPr/>
        </p:nvSpPr>
        <p:spPr>
          <a:xfrm>
            <a:off x="3065400" y="1325520"/>
            <a:ext cx="517680" cy="469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Text Box 27"/>
          <p:cNvSpPr/>
          <p:nvPr/>
        </p:nvSpPr>
        <p:spPr>
          <a:xfrm>
            <a:off x="3151440" y="1389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Text Box 28"/>
          <p:cNvSpPr/>
          <p:nvPr/>
        </p:nvSpPr>
        <p:spPr>
          <a:xfrm>
            <a:off x="2362320" y="1905120"/>
            <a:ext cx="207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провадженням інклюзивних програм займа-ється весь персо-нал школи, який забезпечує все-бічний розвиток особистості кож-ної дитин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AutoShape 29"/>
          <p:cNvSpPr/>
          <p:nvPr/>
        </p:nvSpPr>
        <p:spPr>
          <a:xfrm>
            <a:off x="6784920" y="1609560"/>
            <a:ext cx="2179800" cy="2908440"/>
          </a:xfrm>
          <a:custGeom>
            <a:avLst/>
            <a:gdLst>
              <a:gd name="textAreaLeft" fmla="*/ 111600 w 2179800"/>
              <a:gd name="textAreaRight" fmla="*/ 2068200 w 2179800"/>
              <a:gd name="textAreaTop" fmla="*/ 111600 h 2908440"/>
              <a:gd name="textAreaBottom" fmla="*/ 2796840 h 2908440"/>
            </a:gdLst>
            <a:ahLst/>
            <a:rect l="textAreaLeft" t="textAreaTop" r="textAreaRight" b="textAreaBottom"/>
            <a:pathLst>
              <a:path w="21600" h="28819">
                <a:moveTo>
                  <a:pt x="3782" y="0"/>
                </a:moveTo>
                <a:arcTo wR="3782" hR="3782" stAng="16200000" swAng="-5400000"/>
                <a:lnTo>
                  <a:pt x="0" y="25037"/>
                </a:lnTo>
                <a:arcTo wR="3782" hR="3782" stAng="10800000" swAng="-5400000"/>
                <a:lnTo>
                  <a:pt x="17818" y="28819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AutoShape 30"/>
          <p:cNvSpPr/>
          <p:nvPr/>
        </p:nvSpPr>
        <p:spPr>
          <a:xfrm>
            <a:off x="6819840" y="1616040"/>
            <a:ext cx="2113200" cy="2854440"/>
          </a:xfrm>
          <a:custGeom>
            <a:avLst/>
            <a:gdLst>
              <a:gd name="textAreaLeft" fmla="*/ 102960 w 2113200"/>
              <a:gd name="textAreaRight" fmla="*/ 2010240 w 2113200"/>
              <a:gd name="textAreaTop" fmla="*/ 102960 h 2854440"/>
              <a:gd name="textAreaBottom" fmla="*/ 2751480 h 2854440"/>
            </a:gdLst>
            <a:ahLst/>
            <a:rect l="textAreaLeft" t="textAreaTop" r="textAreaRight" b="textAreaBottom"/>
            <a:pathLst>
              <a:path w="21600" h="29175">
                <a:moveTo>
                  <a:pt x="3600" y="0"/>
                </a:moveTo>
                <a:arcTo wR="3600" hR="3600" stAng="16200000" swAng="-5400000"/>
                <a:lnTo>
                  <a:pt x="0" y="25575"/>
                </a:lnTo>
                <a:arcTo wR="3600" hR="3600" stAng="10800000" swAng="-5400000"/>
                <a:lnTo>
                  <a:pt x="18000" y="291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AutoShape 31"/>
          <p:cNvSpPr/>
          <p:nvPr/>
        </p:nvSpPr>
        <p:spPr>
          <a:xfrm>
            <a:off x="6837480" y="3718080"/>
            <a:ext cx="2084400" cy="722160"/>
          </a:xfrm>
          <a:prstGeom prst="roundRect">
            <a:avLst>
              <a:gd name="adj" fmla="val 50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AutoShape 32"/>
          <p:cNvSpPr/>
          <p:nvPr/>
        </p:nvSpPr>
        <p:spPr>
          <a:xfrm>
            <a:off x="6837480" y="1639800"/>
            <a:ext cx="2084400" cy="720720"/>
          </a:xfrm>
          <a:prstGeom prst="roundRect">
            <a:avLst>
              <a:gd name="adj" fmla="val 50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13" name="Group 33"/>
          <p:cNvGrpSpPr/>
          <p:nvPr/>
        </p:nvGrpSpPr>
        <p:grpSpPr>
          <a:xfrm>
            <a:off x="7535880" y="1295280"/>
            <a:ext cx="647640" cy="654120"/>
            <a:chOff x="7535880" y="1295280"/>
            <a:chExt cx="647640" cy="654120"/>
          </a:xfrm>
        </p:grpSpPr>
        <p:sp>
          <p:nvSpPr>
            <p:cNvPr id="214" name="Oval 34"/>
            <p:cNvSpPr/>
            <p:nvPr/>
          </p:nvSpPr>
          <p:spPr>
            <a:xfrm>
              <a:off x="7535880" y="1295280"/>
              <a:ext cx="647640" cy="654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5" name="Oval 35"/>
            <p:cNvSpPr/>
            <p:nvPr/>
          </p:nvSpPr>
          <p:spPr>
            <a:xfrm>
              <a:off x="7542360" y="1300320"/>
              <a:ext cx="626400" cy="6336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6" name="Oval 36"/>
            <p:cNvSpPr/>
            <p:nvPr/>
          </p:nvSpPr>
          <p:spPr>
            <a:xfrm>
              <a:off x="7550280" y="1303920"/>
              <a:ext cx="611640" cy="6177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7" name="Oval 37"/>
            <p:cNvSpPr/>
            <p:nvPr/>
          </p:nvSpPr>
          <p:spPr>
            <a:xfrm>
              <a:off x="7557120" y="1310040"/>
              <a:ext cx="581760" cy="576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8" name="Oval 38"/>
            <p:cNvSpPr/>
            <p:nvPr/>
          </p:nvSpPr>
          <p:spPr>
            <a:xfrm>
              <a:off x="7590960" y="1325520"/>
              <a:ext cx="516600" cy="468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19" name="Text Box 39"/>
          <p:cNvSpPr/>
          <p:nvPr/>
        </p:nvSpPr>
        <p:spPr>
          <a:xfrm>
            <a:off x="7675920" y="1389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Text Box 40"/>
          <p:cNvSpPr/>
          <p:nvPr/>
        </p:nvSpPr>
        <p:spPr>
          <a:xfrm>
            <a:off x="6858000" y="2057400"/>
            <a:ext cx="2071800" cy="22885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лани роботи з дітьми розроб-ляються коман-дою фахівців, які співпрацюють один з одни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AutoShape 41"/>
          <p:cNvSpPr/>
          <p:nvPr/>
        </p:nvSpPr>
        <p:spPr>
          <a:xfrm>
            <a:off x="6824520" y="4543560"/>
            <a:ext cx="2084400" cy="7855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AutoShape 42"/>
          <p:cNvSpPr/>
          <p:nvPr/>
        </p:nvSpPr>
        <p:spPr>
          <a:xfrm>
            <a:off x="0" y="1609560"/>
            <a:ext cx="2179800" cy="2909880"/>
          </a:xfrm>
          <a:custGeom>
            <a:avLst/>
            <a:gdLst>
              <a:gd name="textAreaLeft" fmla="*/ 111600 w 2179800"/>
              <a:gd name="textAreaRight" fmla="*/ 2068200 w 2179800"/>
              <a:gd name="textAreaTop" fmla="*/ 111600 h 2909880"/>
              <a:gd name="textAreaBottom" fmla="*/ 2798280 h 2909880"/>
            </a:gdLst>
            <a:ahLst/>
            <a:rect l="textAreaLeft" t="textAreaTop" r="textAreaRight" b="textAreaBottom"/>
            <a:pathLst>
              <a:path w="21600" h="28833">
                <a:moveTo>
                  <a:pt x="3782" y="0"/>
                </a:moveTo>
                <a:arcTo wR="3782" hR="3782" stAng="16200000" swAng="-5400000"/>
                <a:lnTo>
                  <a:pt x="0" y="25051"/>
                </a:lnTo>
                <a:arcTo wR="3782" hR="3782" stAng="10800000" swAng="-5400000"/>
                <a:lnTo>
                  <a:pt x="17818" y="28833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AutoShape 43"/>
          <p:cNvSpPr/>
          <p:nvPr/>
        </p:nvSpPr>
        <p:spPr>
          <a:xfrm>
            <a:off x="33480" y="1617840"/>
            <a:ext cx="2112840" cy="2854080"/>
          </a:xfrm>
          <a:custGeom>
            <a:avLst/>
            <a:gdLst>
              <a:gd name="textAreaLeft" fmla="*/ 102960 w 2112840"/>
              <a:gd name="textAreaRight" fmla="*/ 2009880 w 2112840"/>
              <a:gd name="textAreaTop" fmla="*/ 102960 h 2854080"/>
              <a:gd name="textAreaBottom" fmla="*/ 2751120 h 2854080"/>
            </a:gdLst>
            <a:ahLst/>
            <a:rect l="textAreaLeft" t="textAreaTop" r="textAreaRight" b="textAreaBottom"/>
            <a:pathLst>
              <a:path w="21600" h="29177">
                <a:moveTo>
                  <a:pt x="3600" y="0"/>
                </a:moveTo>
                <a:arcTo wR="3600" hR="3600" stAng="16200000" swAng="-5400000"/>
                <a:lnTo>
                  <a:pt x="0" y="25577"/>
                </a:lnTo>
                <a:arcTo wR="3600" hR="3600" stAng="10800000" swAng="-5400000"/>
                <a:lnTo>
                  <a:pt x="18000" y="291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AutoShape 44"/>
          <p:cNvSpPr/>
          <p:nvPr/>
        </p:nvSpPr>
        <p:spPr>
          <a:xfrm>
            <a:off x="50760" y="3718080"/>
            <a:ext cx="2084400" cy="723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AutoShape 45"/>
          <p:cNvSpPr/>
          <p:nvPr/>
        </p:nvSpPr>
        <p:spPr>
          <a:xfrm>
            <a:off x="50760" y="1639800"/>
            <a:ext cx="208440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6" name="Group 46"/>
          <p:cNvGrpSpPr/>
          <p:nvPr/>
        </p:nvGrpSpPr>
        <p:grpSpPr>
          <a:xfrm>
            <a:off x="750960" y="1295280"/>
            <a:ext cx="647640" cy="654120"/>
            <a:chOff x="750960" y="1295280"/>
            <a:chExt cx="647640" cy="654120"/>
          </a:xfrm>
        </p:grpSpPr>
        <p:sp>
          <p:nvSpPr>
            <p:cNvPr id="227" name="Oval 47"/>
            <p:cNvSpPr/>
            <p:nvPr/>
          </p:nvSpPr>
          <p:spPr>
            <a:xfrm>
              <a:off x="750960" y="1295280"/>
              <a:ext cx="647640" cy="654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8" name="Oval 48"/>
            <p:cNvSpPr/>
            <p:nvPr/>
          </p:nvSpPr>
          <p:spPr>
            <a:xfrm>
              <a:off x="757440" y="1300320"/>
              <a:ext cx="626400" cy="6336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9" name="Oval 49"/>
            <p:cNvSpPr/>
            <p:nvPr/>
          </p:nvSpPr>
          <p:spPr>
            <a:xfrm>
              <a:off x="765360" y="1303920"/>
              <a:ext cx="611640" cy="6177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0" name="Oval 50"/>
            <p:cNvSpPr/>
            <p:nvPr/>
          </p:nvSpPr>
          <p:spPr>
            <a:xfrm>
              <a:off x="772200" y="1310040"/>
              <a:ext cx="581760" cy="576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1" name="Oval 51"/>
            <p:cNvSpPr/>
            <p:nvPr/>
          </p:nvSpPr>
          <p:spPr>
            <a:xfrm>
              <a:off x="806040" y="1325520"/>
              <a:ext cx="516600" cy="468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32" name="Text Box 52"/>
          <p:cNvSpPr/>
          <p:nvPr/>
        </p:nvSpPr>
        <p:spPr>
          <a:xfrm>
            <a:off x="889200" y="1389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Text Box 53"/>
          <p:cNvSpPr/>
          <p:nvPr/>
        </p:nvSpPr>
        <p:spPr>
          <a:xfrm>
            <a:off x="0" y="1916280"/>
            <a:ext cx="2070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вчанням дітей з особливими по-требами займа-ються вчителі за-гального профі-лю в звичайних класах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Rectangle 54"/>
          <p:cNvSpPr/>
          <p:nvPr/>
        </p:nvSpPr>
        <p:spPr>
          <a:xfrm>
            <a:off x="4572000" y="1905120"/>
            <a:ext cx="2041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Батьки та інші члени родини активно залуча-ються до прий-няття рішень, що стосуються навчання та ви-ховання їхніх   діте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Picture 2" descr="D:\Мои рисунки\мои заставки\img009.jpg"/>
          <p:cNvPicPr/>
          <p:nvPr/>
        </p:nvPicPr>
        <p:blipFill>
          <a:blip r:embed="rId1"/>
          <a:stretch/>
        </p:blipFill>
        <p:spPr>
          <a:xfrm>
            <a:off x="244440" y="5724360"/>
            <a:ext cx="8582040" cy="81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AutoShape 2"/>
          <p:cNvSpPr/>
          <p:nvPr/>
        </p:nvSpPr>
        <p:spPr>
          <a:xfrm>
            <a:off x="5565600" y="4408560"/>
            <a:ext cx="2017800" cy="633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AutoShape 3"/>
          <p:cNvSpPr/>
          <p:nvPr/>
        </p:nvSpPr>
        <p:spPr>
          <a:xfrm>
            <a:off x="990720" y="2587680"/>
            <a:ext cx="2262240" cy="631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5638680" y="2590920"/>
            <a:ext cx="2017800" cy="631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Oval 5"/>
          <p:cNvSpPr/>
          <p:nvPr/>
        </p:nvSpPr>
        <p:spPr>
          <a:xfrm>
            <a:off x="4110120" y="2313000"/>
            <a:ext cx="501480" cy="411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3422520" y="4408560"/>
            <a:ext cx="2021040" cy="631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3422520" y="2587680"/>
            <a:ext cx="2021040" cy="631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AutoShape 9"/>
          <p:cNvSpPr/>
          <p:nvPr/>
        </p:nvSpPr>
        <p:spPr>
          <a:xfrm>
            <a:off x="179280" y="836640"/>
            <a:ext cx="8785440" cy="1152360"/>
          </a:xfrm>
          <a:prstGeom prst="roundRect">
            <a:avLst>
              <a:gd name="adj" fmla="val 23741"/>
            </a:avLst>
          </a:prstGeom>
          <a:solidFill>
            <a:srgbClr val="cc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7e9632"/>
                </a:solidFill>
                <a:latin typeface="Georgia"/>
              </a:rPr>
              <a:t>ОРГАНІЗАЦІЯ ТА ЗМІСТ ОСВІТНЬОГО ПРОЦЕСУ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7e9632"/>
                </a:solidFill>
                <a:latin typeface="Georgia"/>
              </a:rPr>
              <a:t>В УМОВАХ ІНКЛЮЗИВНОЇ ШКОЛИ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228600" y="1066680"/>
            <a:ext cx="8915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0" y="838080"/>
            <a:ext cx="914400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4617b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4595760" y="2071800"/>
            <a:ext cx="2071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AutoShape 13"/>
          <p:cNvSpPr/>
          <p:nvPr/>
        </p:nvSpPr>
        <p:spPr>
          <a:xfrm>
            <a:off x="6824520" y="4543560"/>
            <a:ext cx="2084400" cy="7855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AutoShape 14"/>
          <p:cNvSpPr/>
          <p:nvPr/>
        </p:nvSpPr>
        <p:spPr>
          <a:xfrm>
            <a:off x="5516640" y="2560680"/>
            <a:ext cx="2109600" cy="2549520"/>
          </a:xfrm>
          <a:custGeom>
            <a:avLst/>
            <a:gdLst>
              <a:gd name="textAreaLeft" fmla="*/ 108000 w 2109600"/>
              <a:gd name="textAreaRight" fmla="*/ 2001600 w 2109600"/>
              <a:gd name="textAreaTop" fmla="*/ 108000 h 2549520"/>
              <a:gd name="textAreaBottom" fmla="*/ 2441520 h 2549520"/>
            </a:gdLst>
            <a:ahLst/>
            <a:rect l="textAreaLeft" t="textAreaTop" r="textAreaRight" b="textAreaBottom"/>
            <a:pathLst>
              <a:path w="21600" h="26104">
                <a:moveTo>
                  <a:pt x="3782" y="0"/>
                </a:moveTo>
                <a:arcTo wR="3782" hR="3782" stAng="16200000" swAng="-5400000"/>
                <a:lnTo>
                  <a:pt x="0" y="22322"/>
                </a:lnTo>
                <a:arcTo wR="3782" hR="3782" stAng="10800000" swAng="-5400000"/>
                <a:lnTo>
                  <a:pt x="17818" y="26104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AutoShape 15"/>
          <p:cNvSpPr/>
          <p:nvPr/>
        </p:nvSpPr>
        <p:spPr>
          <a:xfrm>
            <a:off x="5508720" y="2568600"/>
            <a:ext cx="2415960" cy="2917800"/>
          </a:xfrm>
          <a:custGeom>
            <a:avLst/>
            <a:gdLst>
              <a:gd name="textAreaLeft" fmla="*/ 117720 w 2415960"/>
              <a:gd name="textAreaRight" fmla="*/ 2298240 w 2415960"/>
              <a:gd name="textAreaTop" fmla="*/ 117720 h 2917800"/>
              <a:gd name="textAreaBottom" fmla="*/ 2800080 h 2917800"/>
            </a:gdLst>
            <a:ahLst/>
            <a:rect l="textAreaLeft" t="textAreaTop" r="textAreaRight" b="textAreaBottom"/>
            <a:pathLst>
              <a:path w="21600" h="26086">
                <a:moveTo>
                  <a:pt x="3600" y="0"/>
                </a:moveTo>
                <a:arcTo wR="3600" hR="3600" stAng="16200000" swAng="-5400000"/>
                <a:lnTo>
                  <a:pt x="0" y="22486"/>
                </a:lnTo>
                <a:arcTo wR="3600" hR="3600" stAng="10800000" swAng="-5400000"/>
                <a:lnTo>
                  <a:pt x="18000" y="260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Індивідуалізовані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вчальні плани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озробляються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з врахуванням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ильних сторін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якостей, інтересів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итини, а також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її потреб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49" name="Group 16"/>
          <p:cNvGrpSpPr/>
          <p:nvPr/>
        </p:nvGrpSpPr>
        <p:grpSpPr>
          <a:xfrm>
            <a:off x="6400800" y="2362320"/>
            <a:ext cx="625320" cy="573120"/>
            <a:chOff x="6400800" y="2362320"/>
            <a:chExt cx="625320" cy="573120"/>
          </a:xfrm>
        </p:grpSpPr>
        <p:sp>
          <p:nvSpPr>
            <p:cNvPr id="250" name="Oval 17"/>
            <p:cNvSpPr/>
            <p:nvPr/>
          </p:nvSpPr>
          <p:spPr>
            <a:xfrm>
              <a:off x="6400800" y="2362320"/>
              <a:ext cx="625320" cy="573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1" name="Oval 18"/>
            <p:cNvSpPr/>
            <p:nvPr/>
          </p:nvSpPr>
          <p:spPr>
            <a:xfrm>
              <a:off x="6407280" y="2366640"/>
              <a:ext cx="604800" cy="555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2" name="Oval 19"/>
            <p:cNvSpPr/>
            <p:nvPr/>
          </p:nvSpPr>
          <p:spPr>
            <a:xfrm>
              <a:off x="6414480" y="2369880"/>
              <a:ext cx="590760" cy="541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3" name="Oval 20"/>
            <p:cNvSpPr/>
            <p:nvPr/>
          </p:nvSpPr>
          <p:spPr>
            <a:xfrm>
              <a:off x="6421320" y="2375280"/>
              <a:ext cx="561600" cy="5050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4" name="Oval 21"/>
            <p:cNvSpPr/>
            <p:nvPr/>
          </p:nvSpPr>
          <p:spPr>
            <a:xfrm>
              <a:off x="6454080" y="2388960"/>
              <a:ext cx="498960" cy="410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55" name="Text Box 22"/>
          <p:cNvSpPr/>
          <p:nvPr/>
        </p:nvSpPr>
        <p:spPr>
          <a:xfrm>
            <a:off x="5591160" y="2965320"/>
            <a:ext cx="20052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AutoShape 23"/>
          <p:cNvSpPr/>
          <p:nvPr/>
        </p:nvSpPr>
        <p:spPr>
          <a:xfrm>
            <a:off x="3330720" y="2560680"/>
            <a:ext cx="2111400" cy="2547720"/>
          </a:xfrm>
          <a:custGeom>
            <a:avLst/>
            <a:gdLst>
              <a:gd name="textAreaLeft" fmla="*/ 108000 w 2111400"/>
              <a:gd name="textAreaRight" fmla="*/ 2003400 w 2111400"/>
              <a:gd name="textAreaTop" fmla="*/ 108000 h 2547720"/>
              <a:gd name="textAreaBottom" fmla="*/ 2439720 h 2547720"/>
            </a:gdLst>
            <a:ahLst/>
            <a:rect l="textAreaLeft" t="textAreaTop" r="textAreaRight" b="textAreaBottom"/>
            <a:pathLst>
              <a:path w="21600" h="26063">
                <a:moveTo>
                  <a:pt x="3782" y="0"/>
                </a:moveTo>
                <a:arcTo wR="3782" hR="3782" stAng="16200000" swAng="-5400000"/>
                <a:lnTo>
                  <a:pt x="0" y="22281"/>
                </a:lnTo>
                <a:arcTo wR="3782" hR="3782" stAng="10800000" swAng="-5400000"/>
                <a:lnTo>
                  <a:pt x="17818" y="26063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AutoShape 24"/>
          <p:cNvSpPr/>
          <p:nvPr/>
        </p:nvSpPr>
        <p:spPr>
          <a:xfrm>
            <a:off x="3362400" y="2567160"/>
            <a:ext cx="2073240" cy="2919240"/>
          </a:xfrm>
          <a:custGeom>
            <a:avLst/>
            <a:gdLst>
              <a:gd name="textAreaLeft" fmla="*/ 101160 w 2073240"/>
              <a:gd name="textAreaRight" fmla="*/ 1972080 w 2073240"/>
              <a:gd name="textAreaTop" fmla="*/ 101160 h 2919240"/>
              <a:gd name="textAreaBottom" fmla="*/ 2818080 h 2919240"/>
            </a:gdLst>
            <a:ahLst/>
            <a:rect l="textAreaLeft" t="textAreaTop" r="textAreaRight" b="textAreaBottom"/>
            <a:pathLst>
              <a:path w="21600" h="30413">
                <a:moveTo>
                  <a:pt x="3600" y="0"/>
                </a:moveTo>
                <a:arcTo wR="3600" hR="3600" stAng="16200000" swAng="-5400000"/>
                <a:lnTo>
                  <a:pt x="0" y="26813"/>
                </a:lnTo>
                <a:arcTo wR="3600" hR="3600" stAng="10800000" swAng="-5400000"/>
                <a:lnTo>
                  <a:pt x="18000" y="304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Ефективність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ограм пос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тійно оціню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єтьс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Oval 25"/>
          <p:cNvSpPr/>
          <p:nvPr/>
        </p:nvSpPr>
        <p:spPr>
          <a:xfrm>
            <a:off x="4056120" y="2286000"/>
            <a:ext cx="628560" cy="5731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Oval 26"/>
          <p:cNvSpPr/>
          <p:nvPr/>
        </p:nvSpPr>
        <p:spPr>
          <a:xfrm>
            <a:off x="4062240" y="2290680"/>
            <a:ext cx="608040" cy="5540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Oval 27"/>
          <p:cNvSpPr/>
          <p:nvPr/>
        </p:nvSpPr>
        <p:spPr>
          <a:xfrm>
            <a:off x="4070520" y="2292480"/>
            <a:ext cx="593640" cy="5428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Oval 28"/>
          <p:cNvSpPr/>
          <p:nvPr/>
        </p:nvSpPr>
        <p:spPr>
          <a:xfrm>
            <a:off x="4076640" y="2298600"/>
            <a:ext cx="563760" cy="505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AutoShape 29"/>
          <p:cNvSpPr/>
          <p:nvPr/>
        </p:nvSpPr>
        <p:spPr>
          <a:xfrm>
            <a:off x="7748640" y="5130720"/>
            <a:ext cx="2017800" cy="6890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AutoShape 30"/>
          <p:cNvSpPr/>
          <p:nvPr/>
        </p:nvSpPr>
        <p:spPr>
          <a:xfrm>
            <a:off x="1143000" y="2560680"/>
            <a:ext cx="2109960" cy="2549520"/>
          </a:xfrm>
          <a:custGeom>
            <a:avLst/>
            <a:gdLst>
              <a:gd name="textAreaLeft" fmla="*/ 108000 w 2109960"/>
              <a:gd name="textAreaRight" fmla="*/ 2001960 w 2109960"/>
              <a:gd name="textAreaTop" fmla="*/ 108000 h 2549520"/>
              <a:gd name="textAreaBottom" fmla="*/ 2441520 h 2549520"/>
            </a:gdLst>
            <a:ahLst/>
            <a:rect l="textAreaLeft" t="textAreaTop" r="textAreaRight" b="textAreaBottom"/>
            <a:pathLst>
              <a:path w="21600" h="26099">
                <a:moveTo>
                  <a:pt x="3782" y="0"/>
                </a:moveTo>
                <a:arcTo wR="3782" hR="3782" stAng="16200000" swAng="-5400000"/>
                <a:lnTo>
                  <a:pt x="0" y="22317"/>
                </a:lnTo>
                <a:arcTo wR="3782" hR="3782" stAng="10800000" swAng="-5400000"/>
                <a:lnTo>
                  <a:pt x="17818" y="26099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Text Box 31"/>
          <p:cNvSpPr/>
          <p:nvPr/>
        </p:nvSpPr>
        <p:spPr>
          <a:xfrm>
            <a:off x="1999080" y="2368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Text Box 32"/>
          <p:cNvSpPr/>
          <p:nvPr/>
        </p:nvSpPr>
        <p:spPr>
          <a:xfrm>
            <a:off x="6555240" y="243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Text Box 33"/>
          <p:cNvSpPr/>
          <p:nvPr/>
        </p:nvSpPr>
        <p:spPr>
          <a:xfrm>
            <a:off x="4192920" y="2362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Text Box 34"/>
          <p:cNvSpPr/>
          <p:nvPr/>
        </p:nvSpPr>
        <p:spPr>
          <a:xfrm>
            <a:off x="3429000" y="2971800"/>
            <a:ext cx="20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AutoShape 35"/>
          <p:cNvSpPr/>
          <p:nvPr/>
        </p:nvSpPr>
        <p:spPr>
          <a:xfrm>
            <a:off x="826920" y="2565360"/>
            <a:ext cx="2502000" cy="2917800"/>
          </a:xfrm>
          <a:custGeom>
            <a:avLst/>
            <a:gdLst>
              <a:gd name="textAreaLeft" fmla="*/ 122040 w 2502000"/>
              <a:gd name="textAreaRight" fmla="*/ 2379960 w 2502000"/>
              <a:gd name="textAreaTop" fmla="*/ 122040 h 2917800"/>
              <a:gd name="textAreaBottom" fmla="*/ 2795760 h 2917800"/>
            </a:gdLst>
            <a:ahLst/>
            <a:rect l="textAreaLeft" t="textAreaTop" r="textAreaRight" b="textAreaBottom"/>
            <a:pathLst>
              <a:path w="21600" h="25189">
                <a:moveTo>
                  <a:pt x="3600" y="0"/>
                </a:moveTo>
                <a:arcTo wR="3600" hR="3600" stAng="16200000" swAng="-5400000"/>
                <a:lnTo>
                  <a:pt x="0" y="21589"/>
                </a:lnTo>
                <a:arcTo wR="3600" hR="3600" stAng="10800000" swAng="-5400000"/>
                <a:lnTo>
                  <a:pt x="18000" y="25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69" name="Group 36"/>
          <p:cNvGrpSpPr/>
          <p:nvPr/>
        </p:nvGrpSpPr>
        <p:grpSpPr>
          <a:xfrm>
            <a:off x="1752480" y="2286000"/>
            <a:ext cx="625680" cy="573120"/>
            <a:chOff x="1752480" y="2286000"/>
            <a:chExt cx="625680" cy="573120"/>
          </a:xfrm>
        </p:grpSpPr>
        <p:sp>
          <p:nvSpPr>
            <p:cNvPr id="270" name="Oval 37"/>
            <p:cNvSpPr/>
            <p:nvPr/>
          </p:nvSpPr>
          <p:spPr>
            <a:xfrm>
              <a:off x="1752480" y="2286000"/>
              <a:ext cx="625680" cy="573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1" name="Oval 38"/>
            <p:cNvSpPr/>
            <p:nvPr/>
          </p:nvSpPr>
          <p:spPr>
            <a:xfrm>
              <a:off x="1758960" y="2290320"/>
              <a:ext cx="605160" cy="555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2" name="Oval 39"/>
            <p:cNvSpPr/>
            <p:nvPr/>
          </p:nvSpPr>
          <p:spPr>
            <a:xfrm>
              <a:off x="1766160" y="2293560"/>
              <a:ext cx="591120" cy="541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3" name="Oval 40"/>
            <p:cNvSpPr/>
            <p:nvPr/>
          </p:nvSpPr>
          <p:spPr>
            <a:xfrm>
              <a:off x="1773000" y="2298960"/>
              <a:ext cx="561960" cy="5050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4" name="Oval 41"/>
            <p:cNvSpPr/>
            <p:nvPr/>
          </p:nvSpPr>
          <p:spPr>
            <a:xfrm>
              <a:off x="1805760" y="2312640"/>
              <a:ext cx="499320" cy="410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75" name="Text Box 42"/>
          <p:cNvSpPr/>
          <p:nvPr/>
        </p:nvSpPr>
        <p:spPr>
          <a:xfrm>
            <a:off x="762120" y="2965320"/>
            <a:ext cx="2503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олі та відпові-дальність всіх пра-цівників чітко виз-начені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43"/>
          <p:cNvSpPr/>
          <p:nvPr/>
        </p:nvSpPr>
        <p:spPr>
          <a:xfrm>
            <a:off x="5700600" y="2933640"/>
            <a:ext cx="197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Text Box 44"/>
          <p:cNvSpPr/>
          <p:nvPr/>
        </p:nvSpPr>
        <p:spPr>
          <a:xfrm>
            <a:off x="1906920" y="2362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3"/>
          <p:cNvSpPr/>
          <p:nvPr/>
        </p:nvSpPr>
        <p:spPr>
          <a:xfrm>
            <a:off x="228600" y="1066680"/>
            <a:ext cx="8915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0" y="106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4617b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1447920"/>
            <a:ext cx="8534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533520" y="1371600"/>
            <a:ext cx="815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0" y="137160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83" name="Diagram 8"/>
          <p:cNvGrpSpPr/>
          <p:nvPr/>
        </p:nvGrpSpPr>
        <p:grpSpPr>
          <a:xfrm>
            <a:off x="10440" y="233280"/>
            <a:ext cx="9122040" cy="6157800"/>
            <a:chOff x="10440" y="233280"/>
            <a:chExt cx="9122040" cy="6157800"/>
          </a:xfrm>
        </p:grpSpPr>
        <p:sp>
          <p:nvSpPr>
            <p:cNvPr id="284" name="_s1028"/>
            <p:cNvSpPr/>
            <p:nvPr/>
          </p:nvSpPr>
          <p:spPr>
            <a:xfrm flipH="1" flipV="1">
              <a:off x="2960280" y="2224080"/>
              <a:ext cx="807120" cy="54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5" name="_s1029"/>
            <p:cNvSpPr/>
            <p:nvPr/>
          </p:nvSpPr>
          <p:spPr>
            <a:xfrm>
              <a:off x="1012320" y="909720"/>
              <a:ext cx="2281680" cy="1540080"/>
            </a:xfrm>
            <a:prstGeom prst="ellipse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БАТЬКИ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6" name="_s1030"/>
            <p:cNvSpPr/>
            <p:nvPr/>
          </p:nvSpPr>
          <p:spPr>
            <a:xfrm flipH="1">
              <a:off x="2292840" y="3312360"/>
              <a:ext cx="1140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7" name="_s1031"/>
            <p:cNvSpPr/>
            <p:nvPr/>
          </p:nvSpPr>
          <p:spPr>
            <a:xfrm>
              <a:off x="10440" y="2541960"/>
              <a:ext cx="2282400" cy="1540080"/>
            </a:xfrm>
            <a:prstGeom prst="ellipse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МЕД-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ПРАЦІВНИКИ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8" name="_s1032"/>
            <p:cNvSpPr/>
            <p:nvPr/>
          </p:nvSpPr>
          <p:spPr>
            <a:xfrm flipH="1">
              <a:off x="2960280" y="3854880"/>
              <a:ext cx="807120" cy="54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9" name="_s1033"/>
            <p:cNvSpPr/>
            <p:nvPr/>
          </p:nvSpPr>
          <p:spPr>
            <a:xfrm>
              <a:off x="1012320" y="4174560"/>
              <a:ext cx="2281680" cy="1540080"/>
            </a:xfrm>
            <a:prstGeom prst="ellipse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ЛОГОПЕД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0" name="_s1034"/>
            <p:cNvSpPr/>
            <p:nvPr/>
          </p:nvSpPr>
          <p:spPr>
            <a:xfrm>
              <a:off x="4571640" y="4080240"/>
              <a:ext cx="0" cy="77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1" name="_s1035"/>
            <p:cNvSpPr/>
            <p:nvPr/>
          </p:nvSpPr>
          <p:spPr>
            <a:xfrm>
              <a:off x="3430800" y="4850280"/>
              <a:ext cx="2281680" cy="1540800"/>
            </a:xfrm>
            <a:prstGeom prst="ellipse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ПСИХОЛОГ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2" name="_s1036"/>
            <p:cNvSpPr/>
            <p:nvPr/>
          </p:nvSpPr>
          <p:spPr>
            <a:xfrm>
              <a:off x="5375520" y="3854880"/>
              <a:ext cx="807120" cy="54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3" name="_s1037"/>
            <p:cNvSpPr/>
            <p:nvPr/>
          </p:nvSpPr>
          <p:spPr>
            <a:xfrm>
              <a:off x="5849280" y="4174560"/>
              <a:ext cx="2281680" cy="1540080"/>
            </a:xfrm>
            <a:prstGeom prst="ellipse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СОЦІАЛЬНИЙ 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ПЕДАГОГ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4" name="_s1038"/>
            <p:cNvSpPr/>
            <p:nvPr/>
          </p:nvSpPr>
          <p:spPr>
            <a:xfrm>
              <a:off x="5709240" y="3312360"/>
              <a:ext cx="1140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5" name="_s1039"/>
            <p:cNvSpPr/>
            <p:nvPr/>
          </p:nvSpPr>
          <p:spPr>
            <a:xfrm>
              <a:off x="6850080" y="2541960"/>
              <a:ext cx="2282400" cy="1540080"/>
            </a:xfrm>
            <a:prstGeom prst="ellipse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АДМІНІСТРАЦІЯ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6" name="_s1040"/>
            <p:cNvSpPr/>
            <p:nvPr/>
          </p:nvSpPr>
          <p:spPr>
            <a:xfrm flipV="1">
              <a:off x="5375520" y="2224080"/>
              <a:ext cx="807120" cy="54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7" name="_s1041"/>
            <p:cNvSpPr/>
            <p:nvPr/>
          </p:nvSpPr>
          <p:spPr>
            <a:xfrm>
              <a:off x="5849280" y="909720"/>
              <a:ext cx="2281680" cy="1540080"/>
            </a:xfrm>
            <a:prstGeom prst="ellipse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АСИСТЕНТ 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ВЧИТЕЛЯ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8" name="_s1042"/>
            <p:cNvSpPr/>
            <p:nvPr/>
          </p:nvSpPr>
          <p:spPr>
            <a:xfrm flipV="1">
              <a:off x="4571640" y="1773720"/>
              <a:ext cx="0" cy="77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9" name="_s1043"/>
            <p:cNvSpPr/>
            <p:nvPr/>
          </p:nvSpPr>
          <p:spPr>
            <a:xfrm>
              <a:off x="3430800" y="233280"/>
              <a:ext cx="2281680" cy="1540800"/>
            </a:xfrm>
            <a:prstGeom prst="ellipse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ВЧИТЕЛЬ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00" name="_s1044"/>
            <p:cNvSpPr/>
            <p:nvPr/>
          </p:nvSpPr>
          <p:spPr>
            <a:xfrm>
              <a:off x="3430800" y="2544120"/>
              <a:ext cx="2281680" cy="15408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33cc"/>
                  </a:solidFill>
                  <a:latin typeface="Constantia"/>
                  <a:ea typeface="Arial"/>
                </a:rPr>
                <a:t>ДИТИНА З 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33cc"/>
                  </a:solidFill>
                  <a:latin typeface="Constantia"/>
                  <a:ea typeface="Arial"/>
                </a:rPr>
                <a:t>ОСОБЛИВИМИ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33cc"/>
                  </a:solidFill>
                  <a:latin typeface="Constantia"/>
                  <a:ea typeface="Arial"/>
                </a:rPr>
                <a:t> </a:t>
              </a:r>
              <a:r>
                <a:rPr b="1" lang="uk-UA" sz="1800" spc="-1" strike="noStrike">
                  <a:solidFill>
                    <a:srgbClr val="0033cc"/>
                  </a:solidFill>
                  <a:latin typeface="Constantia"/>
                  <a:ea typeface="Arial"/>
                </a:rPr>
                <a:t>ПОТРЕБАМИ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301" name="AutoShape 27"/>
          <p:cNvSpPr/>
          <p:nvPr/>
        </p:nvSpPr>
        <p:spPr>
          <a:xfrm rot="1388400">
            <a:off x="5715000" y="228600"/>
            <a:ext cx="1062000" cy="685800"/>
          </a:xfrm>
          <a:custGeom>
            <a:avLst/>
            <a:gdLst>
              <a:gd name="textAreaLeft" fmla="*/ 185760 w 1062000"/>
              <a:gd name="textAreaRight" fmla="*/ 770040 w 106200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40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AutoShape 28"/>
          <p:cNvSpPr/>
          <p:nvPr/>
        </p:nvSpPr>
        <p:spPr>
          <a:xfrm rot="14249400">
            <a:off x="-87120" y="4125600"/>
            <a:ext cx="1214280" cy="7351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5120"/>
              <a:gd name="textAreaBottom" fmla="*/ 636840 h 735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1275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AutoShape 29"/>
          <p:cNvSpPr/>
          <p:nvPr/>
        </p:nvSpPr>
        <p:spPr>
          <a:xfrm rot="18379200">
            <a:off x="-37800" y="1485720"/>
            <a:ext cx="1201680" cy="820800"/>
          </a:xfrm>
          <a:custGeom>
            <a:avLst/>
            <a:gdLst>
              <a:gd name="textAreaLeft" fmla="*/ 210240 w 1201680"/>
              <a:gd name="textAreaRight" fmla="*/ 871200 w 1201680"/>
              <a:gd name="textAreaTop" fmla="*/ 109800 h 820800"/>
              <a:gd name="textAreaBottom" fmla="*/ 711000 h 820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62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AutoShape 30"/>
          <p:cNvSpPr/>
          <p:nvPr/>
        </p:nvSpPr>
        <p:spPr>
          <a:xfrm rot="19294200">
            <a:off x="2421000" y="250560"/>
            <a:ext cx="1393920" cy="555480"/>
          </a:xfrm>
          <a:custGeom>
            <a:avLst/>
            <a:gdLst>
              <a:gd name="textAreaLeft" fmla="*/ 243720 w 1393920"/>
              <a:gd name="textAreaRight" fmla="*/ 1010520 w 1393920"/>
              <a:gd name="textAreaTop" fmla="*/ 74160 h 555480"/>
              <a:gd name="textAreaBottom" fmla="*/ 481320 h 555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3713243"/>
                <a:lnTo>
                  <a:pt x="21471" y="17630"/>
                </a:lnTo>
                <a:lnTo>
                  <a:pt x="17280" y="21600"/>
                </a:lnTo>
                <a:lnTo>
                  <a:pt x="12831" y="17630"/>
                </a:lnTo>
                <a:lnTo>
                  <a:pt x="14991" y="17630"/>
                </a:lnTo>
                <a:arcTo wR="7560" hR="21600" stAng="-1686757" swAng="-3355808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770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AutoShape 31"/>
          <p:cNvSpPr/>
          <p:nvPr/>
        </p:nvSpPr>
        <p:spPr>
          <a:xfrm rot="6786000">
            <a:off x="7913160" y="4278240"/>
            <a:ext cx="1214640" cy="735120"/>
          </a:xfrm>
          <a:custGeom>
            <a:avLst/>
            <a:gdLst>
              <a:gd name="textAreaLeft" fmla="*/ 217080 w 1214640"/>
              <a:gd name="textAreaRight" fmla="*/ 857880 w 1214640"/>
              <a:gd name="textAreaTop" fmla="*/ 98280 h 735120"/>
              <a:gd name="textAreaBottom" fmla="*/ 636840 h 735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4" hR="21600" stAng="10800000" swAng="5400000"/>
                <a:lnTo>
                  <a:pt x="11390" y="0"/>
                </a:lnTo>
                <a:arcTo wR="7724" hR="21600" stAng="-5400000" swAng="2719414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5005" y="14400"/>
                </a:lnTo>
                <a:arcTo wR="7724" hR="21600" stAng="-2680586" swAng="-2419864"/>
                <a:lnTo>
                  <a:pt x="9557" y="617"/>
                </a:lnTo>
                <a:arcTo wR="7724" hR="21600" stAng="-5699551" swAng="-5100449"/>
                <a:close/>
              </a:path>
              <a:path fill="darkenLess" w="21600" h="21600">
                <a:moveTo>
                  <a:pt x="0" y="21600"/>
                </a:moveTo>
                <a:arcTo wR="7724" hR="21600" stAng="10800000" swAng="5400000"/>
                <a:lnTo>
                  <a:pt x="7724" y="0"/>
                </a:lnTo>
                <a:arcTo wR="7724" hR="21600" stAng="-5400000" swAng="299551"/>
                <a:lnTo>
                  <a:pt x="9557" y="617"/>
                </a:lnTo>
                <a:arcTo wR="7724" hR="21600" stAng="-5699551" swAng="-5100449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02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AutoShape 32"/>
          <p:cNvSpPr/>
          <p:nvPr/>
        </p:nvSpPr>
        <p:spPr>
          <a:xfrm rot="4645800">
            <a:off x="8065800" y="1687320"/>
            <a:ext cx="1214280" cy="73476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4760"/>
              <a:gd name="textAreaBottom" fmla="*/ 636480 h 734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75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AutoShape 33"/>
          <p:cNvSpPr/>
          <p:nvPr/>
        </p:nvSpPr>
        <p:spPr>
          <a:xfrm rot="12532200">
            <a:off x="2361960" y="571464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1446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AutoShape 34"/>
          <p:cNvSpPr/>
          <p:nvPr/>
        </p:nvSpPr>
        <p:spPr>
          <a:xfrm rot="9286200">
            <a:off x="5506200" y="5784480"/>
            <a:ext cx="1143000" cy="68580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177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Georgia"/>
              </a:rPr>
              <a:t>Склад шкільного консиліуму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2133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формується залежно від мети, але обов’язковими учасниками є </a:t>
            </a:r>
            <a:r>
              <a:rPr b="1" lang="uk-UA" sz="2600" spc="-1" strike="noStrike">
                <a:solidFill>
                  <a:srgbClr val="000000"/>
                </a:solidFill>
                <a:latin typeface="Georgia"/>
              </a:rPr>
              <a:t>практичний психолог, класний керівник, соціальний педагог, учителі-предметники, дефектолог, вчитель-логопед, медичний працівник 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закладу. Оптимальний склад команди визначається тією кількістю фахівців, яка забезпечить реалізацію індивідуального навчального плану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07:14:40Z</dcterms:created>
  <dc:creator>UserXP</dc:creator>
  <dc:description/>
  <dc:language>en-US</dc:language>
  <cp:lastModifiedBy>Юлия</cp:lastModifiedBy>
  <dcterms:modified xsi:type="dcterms:W3CDTF">2015-03-25T11:33:00Z</dcterms:modified>
  <cp:revision>10</cp:revision>
  <dc:subject/>
  <dc:title>Слайд 1</dc:title>
</cp:coreProperties>
</file>