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51C-2DFC-4035-B73A-8B199439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526-151A-43CA-AB07-CDD5A39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33C-B46E-4E00-9177-92774560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FA4-4D4D-47F7-9318-1753D713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9452-60C1-4100-9D3C-376D8D32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4BD2-119E-458C-818E-1CC42A82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9D39-4C1F-4D4B-9200-BF763B62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1C1F-E5CE-4FE3-B093-CEEB01C2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081B-5E90-452A-B972-AE0C48CF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7D75-414E-4DEC-8535-7A19FF4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B2FF-B5C7-4EE1-BC88-7233EC90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379-A6DF-44F3-9BDD-A7EC5E8E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62D0-9B5D-4370-BFE7-E0FCA01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A633-F21F-4311-BDBE-8A855A7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4F2F-A0FC-41A5-B597-BB6C5C1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3DD9-A9DE-4CA8-852F-75C3A4F1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22CD-5503-481E-9742-CA585C19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1EF0-FF01-46ED-BC19-2C8FAA3C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27C1-95C7-49C4-8C84-33549D81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6FA6-A04D-47E4-9D92-219A93E3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88BF-78B5-4081-8B38-158B629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E456-2A2A-4A4C-BCF4-6F4EBBD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7B7-C829-406B-9CF2-1F8D5F4B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1D0F-C2AC-4F1D-8719-90F1C80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AB10-C3A7-433C-9E4F-9EAC734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A04D-A211-4D10-99A4-706C95DD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D195-54F7-4377-ACE2-2FA17EE4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FCB4-AC5B-430D-AD18-26FBC590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F921-2670-4E7E-AC39-CFAAEFCB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FF33-87A2-4E0E-9F3F-E48A807A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739-0535-45F1-9B09-F8269F3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38D-BFC5-43F7-B407-880FB75F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757-2B05-4170-A1AF-20B29C6A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916-A155-4242-930F-BD6B854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697-B064-4869-B51B-6171C18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886-E0A4-41BE-A494-660E5BC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BCD6-6DFC-44CD-8E8B-2309D0E1F7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51C6-2FB2-4237-B811-523554728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4A4A-B0E4-45B9-9286-B16C2E2022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8920" y="342864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54061"/>
                </a:solidFill>
                <a:latin typeface="Georgia"/>
              </a:rPr>
              <a:t>Інклюзія – вимога час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54061"/>
                </a:solidFill>
                <a:latin typeface="Georgia"/>
              </a:rPr>
              <a:t>Від планування – до впровадже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08000" y="692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54061"/>
                </a:solidFill>
                <a:latin typeface="Georgia"/>
              </a:rPr>
              <a:t>Чугуївська загальноосвітня школа І-ІІІ ст. №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2" descr="D:\Мои рисунки\школа\Shkolnik.jpg"/>
          <p:cNvPicPr/>
          <p:nvPr/>
        </p:nvPicPr>
        <p:blipFill>
          <a:blip r:embed="rId1"/>
          <a:stretch/>
        </p:blipFill>
        <p:spPr>
          <a:xfrm>
            <a:off x="6156360" y="260280"/>
            <a:ext cx="2516040" cy="26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D:\Мои рисунки\знання\1319637623_meeting.jpg"/>
          <p:cNvPicPr/>
          <p:nvPr/>
        </p:nvPicPr>
        <p:blipFill>
          <a:blip r:embed="rId2"/>
          <a:stretch/>
        </p:blipFill>
        <p:spPr>
          <a:xfrm>
            <a:off x="6516720" y="4724280"/>
            <a:ext cx="19922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3763"/>
                </a:solidFill>
                <a:latin typeface="Georgia"/>
              </a:rPr>
              <a:t>Під час проведення консиліуму учасники мають дати відповіді на такі питання:</a:t>
            </a:r>
            <a:br>
              <a:rPr sz="2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а допомога потрібна учн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у корекційно-розвивальну роботу бажано з ними здійснюват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і особливості повинні бути враховані у процесі навчання і спілкуванн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у роботу можуть узяти на себе учасники консиліуму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у діяльність необхідно здійснювати силами педагогічного колективу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Чим може допомогти сім'я, фахівців різного профілю поза школо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617b"/>
                </a:solidFill>
                <a:latin typeface="Georgia"/>
              </a:rPr>
              <a:t>Психологічне забезпечення і соціально-педагогічний супровід інклюзивної освіти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-19080" y="1566720"/>
            <a:ext cx="87296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Практичний психолог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дійснює психологічні дослідження за такими напрям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індивідуально-психологічні особливості учн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сфери психічного розвитку дитини, у яких виявлено порушення або відхилення від вікової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отенційні можливості дитин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собливості соціального оточення, спілкування, стосунків у клас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Georgia"/>
              </a:rPr>
              <a:t>Види робіт </a:t>
            </a:r>
            <a:r>
              <a:rPr b="0" lang="uk-UA" sz="3600" spc="-1" strike="noStrike">
                <a:solidFill>
                  <a:srgbClr val="04617b"/>
                </a:solidFill>
                <a:latin typeface="Georgia"/>
              </a:rPr>
              <a:t>практичного психолог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1341000"/>
            <a:ext cx="8640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Ознайомлення з особовою справою дитини, історією та особливістю протікання захворюванн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Бесіда з дитиною і батьками. Визначення можливостей дити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Оцінка освітнього середовища відповідно до потреб і можливостей дитини, організація відповідних змі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іагностика особистісних особливостей дити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ведення психолого-педагогічного консиліуму з метою розроблення індивідуальної прогр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ведення зустрічі з батьками і учнями класу (школи), педагогами з метою формування психологічної готовності до взаємодії з дитиною з особливими освітніми потреб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ведення психокорекційної роботи з метою розвитку потенційних можливостей дитини та відповідного формування особистості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оніторинг рівня адаптованості й інтегрованості дитини, корекція відповідних індивідуальних програм, плані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Учителі-предметн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характеризують поведінку учня за такими показник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труднощі та особливості, що проявляються під час усних та письмових відповідей, біля дошки, під час засвоєння нового навчального матеріалу або повторення, виконання творчих завдань тощ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пис типового для учня емоційного стану на уроці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пис ситуацій, що викликають в учнів негативні емоційні ста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Асистент вчител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89000"/>
            <a:ext cx="8229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безпечує особистісно орієнтоване спрямування навчально-виховного процес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Бере участь у розробленні та виконанні індивідуальних навчальних планів та прогр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Адаптує навчальні матеріали з урахуванням індивідуальних особливостей навчально-пізнавальної діяльності дітей з особливими освітніми потре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Медичний працівник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надає інформацію про стан здоров'я і фізичні особливості школярів за такими показник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Фізичний стан дитини на момент проведення консиліуму (відповідність фізичного розвитку віковим нормам; стан органів зору, слуху, кістково-м'язової системи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Фактори ризику (наявність у минулому захворювань і травм, які можуть позначатися на розвитку дитини, наявність хронічних захворювань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Класний керівн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одає психолого-педагогічну характеристику навчальної діяльності і поведінки учня (класу) за такими показник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ількісні та якісні характеристики навчальної діяльності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пис поведінки та спілкування учня з одноклас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умови сімейного вихованн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Georgia"/>
              </a:rPr>
              <a:t>Форми і методи роботи з батькам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5570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онсультування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- диференційований підхід до кожної сім'ї, що має «особливого» дитини. Головне, щоб батьки вірили у своїх дітей і були помічниками для нас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Дні відкритих дверей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батьки відвідують групу, разом з дитиною, спостерігають за роботою фахівців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емінари-практикум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- де батьки знайомляться з літературою, іграми, вчаться застосовувати отримані знання на практиці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Ділові ігр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роведення спільних свят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, де батько може бачити досягнення своєї дитини, брати участь спільно з дитиною (мама поруч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360" y="907920"/>
            <a:ext cx="6336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Georgia"/>
              </a:rPr>
              <a:t>Завершення навчанн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Учням з особливими освітніми  потребами, у тому числі з розумовою  відсталістю, які навчалися у класі з інклюзивним навчанням,  видається документ встановленого зразка для загальноосвітнього навчального закладу, учнями якого вони бу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У додатку до свідоцтва  про базову загальну середню освіту або до атестата про повну загальну середню освіту вказуються лише ті предмети, які вивчав учень в процесі  навчанн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Для осіб, звільнених від  державної підсумкової атестації, у додаток до свідоцтва про  відповідний рівень освіти виставляються  річні бали та робиться запис “звільнений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2" descr="D:\Мои рисунки\мои заставки\images.jpeg"/>
          <p:cNvPicPr/>
          <p:nvPr/>
        </p:nvPicPr>
        <p:blipFill>
          <a:blip r:embed="rId1"/>
          <a:stretch/>
        </p:blipFill>
        <p:spPr>
          <a:xfrm>
            <a:off x="1332000" y="83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Мои рисунки\народні смволи України\символи2.jpeg"/>
          <p:cNvPicPr/>
          <p:nvPr/>
        </p:nvPicPr>
        <p:blipFill>
          <a:blip r:embed="rId1"/>
          <a:stretch/>
        </p:blipFill>
        <p:spPr>
          <a:xfrm>
            <a:off x="324000" y="404640"/>
            <a:ext cx="2160360" cy="246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63280" y="981000"/>
            <a:ext cx="7131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uk-UA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uk-UA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uk-UA" sz="2100" spc="-1" strike="noStrike">
                <a:solidFill>
                  <a:srgbClr val="1f497d"/>
                </a:solidFill>
                <a:latin typeface="Georgia"/>
              </a:rPr>
              <a:t>Починаючи  з 2000 року в Україні активізувалася законотворча  діяльність стосовно надання освітніх, медичних, соціальних послуг особам з обмеженими можливостями здоров’я, зокрема дітям, що засвідчує прийняття таких 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Законів</a:t>
            </a:r>
            <a:r>
              <a:rPr b="0" lang="uk-UA" sz="2100" spc="-1" strike="noStrike">
                <a:solidFill>
                  <a:srgbClr val="1f497d"/>
                </a:solidFill>
                <a:latin typeface="Georgia"/>
              </a:rPr>
              <a:t>, я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державні соціальні стандарти та державні соціальні гарантії” (2000р.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охорону дитинства” (2001 р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соціальні послуги” (2003р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реабілітацію інвалідів в Україні” (2005р.)</a:t>
            </a:r>
            <a:r>
              <a:rPr b="1" lang="uk-UA" sz="25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"/>
          <p:cNvSpPr/>
          <p:nvPr/>
        </p:nvSpPr>
        <p:spPr>
          <a:xfrm>
            <a:off x="152280" y="1125360"/>
            <a:ext cx="8991720" cy="115128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ПРИЧИНИ НЕОБХІДНОСТІ ВПРОВАДЖЕНН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ІНКЛЮЗИВНОЇ ОСВІ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75"/>
              </a:spcBef>
              <a:buClr>
                <a:srgbClr val="e2d700"/>
              </a:buClr>
              <a:buSzPct val="70000"/>
              <a:buFont typeface="Wingdings" charset="2"/>
              <a:buChar char="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533520" y="137160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3716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28600" y="2637000"/>
            <a:ext cx="8015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168480">
              <a:lnSpc>
                <a:spcPct val="100000"/>
              </a:lnSpc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Georgia"/>
              </a:rPr>
              <a:t>всі діти мають право навчатися раз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Georgia"/>
              </a:rPr>
              <a:t>діти</a:t>
            </a:r>
            <a:r>
              <a:rPr b="0" lang="ru-RU" sz="2400" spc="-1" strike="noStrike">
                <a:solidFill>
                  <a:srgbClr val="04617b"/>
                </a:solidFill>
                <a:latin typeface="Georgia"/>
              </a:rPr>
              <a:t> не повинні зазнавати будь-яких видів дискримінації через свої проблеми розвитк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Georgia"/>
              </a:rPr>
              <a:t>багато дорослих інвалідів, які навчались в спеціальних навчальних закладах, вимагають зупинити сегрегацію в даній  сфері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spcBef>
                <a:spcPts val="1500"/>
              </a:spcBef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3"/>
          <p:cNvSpPr/>
          <p:nvPr/>
        </p:nvSpPr>
        <p:spPr>
          <a:xfrm>
            <a:off x="152280" y="152280"/>
            <a:ext cx="8991720" cy="126072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ПРИЧИНИ НЕОБХІДНОСТІ ВПРОВАДЖЕНН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ІНКЛЮЗИВНИХ ПРОГР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1981080"/>
            <a:ext cx="9144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33520" y="137160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9"/>
          <p:cNvSpPr/>
          <p:nvPr/>
        </p:nvSpPr>
        <p:spPr>
          <a:xfrm flipH="1" rot="5400000">
            <a:off x="-2302200" y="1690560"/>
            <a:ext cx="4643280" cy="507204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ЕФЕКТИВ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НІС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ІНКЛЮЗИВН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ПРОГ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2057400" y="1828800"/>
            <a:ext cx="70866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e6e6">
                  <a:alpha val="30196"/>
                </a:srgbClr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Діти розвиваються краще (як в освітньому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так і в соціальному аспектах), коли навч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разом зі своїми ровесник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1619280" y="2205000"/>
            <a:ext cx="504720" cy="503280"/>
            <a:chOff x="1619280" y="2205000"/>
            <a:chExt cx="504720" cy="503280"/>
          </a:xfrm>
        </p:grpSpPr>
        <p:sp>
          <p:nvSpPr>
            <p:cNvPr id="158" name="Oval 12"/>
            <p:cNvSpPr/>
            <p:nvPr/>
          </p:nvSpPr>
          <p:spPr>
            <a:xfrm>
              <a:off x="1619280" y="2205000"/>
              <a:ext cx="504720" cy="5032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1647720" y="2233080"/>
              <a:ext cx="447120" cy="445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1674360" y="2260440"/>
              <a:ext cx="39456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2d7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1" name="Oval 15"/>
            <p:cNvSpPr/>
            <p:nvPr/>
          </p:nvSpPr>
          <p:spPr>
            <a:xfrm>
              <a:off x="1674360" y="2259720"/>
              <a:ext cx="394560" cy="393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1700640" y="2286000"/>
              <a:ext cx="341640" cy="341640"/>
            </a:xfrm>
            <a:prstGeom prst="ellipse">
              <a:avLst/>
            </a:prstGeom>
            <a:gradFill rotWithShape="0">
              <a:gsLst>
                <a:gs pos="0">
                  <a:srgbClr val="7a7400"/>
                </a:gs>
                <a:gs pos="50000">
                  <a:srgbClr val="e2d700"/>
                </a:gs>
                <a:gs pos="100000">
                  <a:srgbClr val="7a7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1700280" y="2285640"/>
              <a:ext cx="342360" cy="342000"/>
            </a:xfrm>
            <a:prstGeom prst="ellipse">
              <a:avLst/>
            </a:prstGeom>
            <a:gradFill rotWithShape="0">
              <a:gsLst>
                <a:gs pos="0">
                  <a:srgbClr val="3868f0"/>
                </a:gs>
                <a:gs pos="100000">
                  <a:srgbClr val="1b32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4" name="AutoShape 18"/>
          <p:cNvSpPr/>
          <p:nvPr/>
        </p:nvSpPr>
        <p:spPr>
          <a:xfrm>
            <a:off x="2556000" y="3200400"/>
            <a:ext cx="6588000" cy="1523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e6e6">
                  <a:alpha val="30196"/>
                </a:srgbClr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Не існує таких методів навчання, які мож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було б використовувати тільки в спеціальни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закладах, і не можна було б використовува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в загальноосвітній систем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5" name="Group 19"/>
          <p:cNvGrpSpPr/>
          <p:nvPr/>
        </p:nvGrpSpPr>
        <p:grpSpPr>
          <a:xfrm>
            <a:off x="2195640" y="3645000"/>
            <a:ext cx="471240" cy="469800"/>
            <a:chOff x="2195640" y="3645000"/>
            <a:chExt cx="471240" cy="469800"/>
          </a:xfrm>
        </p:grpSpPr>
        <p:sp>
          <p:nvSpPr>
            <p:cNvPr id="166" name="Oval 20"/>
            <p:cNvSpPr/>
            <p:nvPr/>
          </p:nvSpPr>
          <p:spPr>
            <a:xfrm>
              <a:off x="2195640" y="3645000"/>
              <a:ext cx="471240" cy="46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7" name="Oval 21"/>
            <p:cNvSpPr/>
            <p:nvPr/>
          </p:nvSpPr>
          <p:spPr>
            <a:xfrm>
              <a:off x="2222280" y="3671280"/>
              <a:ext cx="417240" cy="416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247480" y="3696480"/>
              <a:ext cx="367560" cy="367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2d7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2246760" y="3696120"/>
              <a:ext cx="368280" cy="367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2271240" y="3720600"/>
              <a:ext cx="319680" cy="318960"/>
            </a:xfrm>
            <a:prstGeom prst="ellipse">
              <a:avLst/>
            </a:prstGeom>
            <a:gradFill rotWithShape="0">
              <a:gsLst>
                <a:gs pos="0">
                  <a:srgbClr val="7a7400"/>
                </a:gs>
                <a:gs pos="50000">
                  <a:srgbClr val="e2d700"/>
                </a:gs>
                <a:gs pos="100000">
                  <a:srgbClr val="7a7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2271240" y="3720240"/>
              <a:ext cx="319680" cy="319320"/>
            </a:xfrm>
            <a:prstGeom prst="ellipse">
              <a:avLst/>
            </a:prstGeom>
            <a:gradFill rotWithShape="0">
              <a:gsLst>
                <a:gs pos="0">
                  <a:srgbClr val="3868f0"/>
                </a:gs>
                <a:gs pos="100000">
                  <a:srgbClr val="1b32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72" name="AutoShape 26"/>
          <p:cNvSpPr/>
          <p:nvPr/>
        </p:nvSpPr>
        <p:spPr>
          <a:xfrm>
            <a:off x="2209680" y="4876920"/>
            <a:ext cx="6934320" cy="160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e6e6">
                  <a:alpha val="30196"/>
                </a:srgbClr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При умові відповідальності та кваліфікова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ності педагогів, при підтримці батьків т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вузьких спеціалістів, інклюзивні програм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є більш ефективни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4617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3" name="Group 27"/>
          <p:cNvGrpSpPr/>
          <p:nvPr/>
        </p:nvGrpSpPr>
        <p:grpSpPr>
          <a:xfrm>
            <a:off x="1828800" y="5410080"/>
            <a:ext cx="511200" cy="533520"/>
            <a:chOff x="1828800" y="5410080"/>
            <a:chExt cx="511200" cy="533520"/>
          </a:xfrm>
        </p:grpSpPr>
        <p:sp>
          <p:nvSpPr>
            <p:cNvPr id="174" name="Oval 28"/>
            <p:cNvSpPr/>
            <p:nvPr/>
          </p:nvSpPr>
          <p:spPr>
            <a:xfrm>
              <a:off x="1828800" y="5410080"/>
              <a:ext cx="511200" cy="533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5" name="Oval 29"/>
            <p:cNvSpPr/>
            <p:nvPr/>
          </p:nvSpPr>
          <p:spPr>
            <a:xfrm>
              <a:off x="1857600" y="5439960"/>
              <a:ext cx="452880" cy="472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6" name="Oval 30"/>
            <p:cNvSpPr/>
            <p:nvPr/>
          </p:nvSpPr>
          <p:spPr>
            <a:xfrm>
              <a:off x="1884600" y="5468760"/>
              <a:ext cx="399960" cy="41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2d7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7" name="Oval 31"/>
            <p:cNvSpPr/>
            <p:nvPr/>
          </p:nvSpPr>
          <p:spPr>
            <a:xfrm>
              <a:off x="1884600" y="5468040"/>
              <a:ext cx="399600" cy="417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8" name="Oval 32"/>
            <p:cNvSpPr/>
            <p:nvPr/>
          </p:nvSpPr>
          <p:spPr>
            <a:xfrm>
              <a:off x="1910520" y="5495760"/>
              <a:ext cx="346680" cy="362160"/>
            </a:xfrm>
            <a:prstGeom prst="ellipse">
              <a:avLst/>
            </a:prstGeom>
            <a:gradFill rotWithShape="0">
              <a:gsLst>
                <a:gs pos="0">
                  <a:srgbClr val="7a7400"/>
                </a:gs>
                <a:gs pos="50000">
                  <a:srgbClr val="e2d700"/>
                </a:gs>
                <a:gs pos="100000">
                  <a:srgbClr val="7a7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9" name="Oval 33"/>
            <p:cNvSpPr/>
            <p:nvPr/>
          </p:nvSpPr>
          <p:spPr>
            <a:xfrm>
              <a:off x="1910880" y="5495400"/>
              <a:ext cx="347040" cy="362880"/>
            </a:xfrm>
            <a:prstGeom prst="ellipse">
              <a:avLst/>
            </a:prstGeom>
            <a:gradFill rotWithShape="0">
              <a:gsLst>
                <a:gs pos="0">
                  <a:srgbClr val="3868f0"/>
                </a:gs>
                <a:gs pos="100000">
                  <a:srgbClr val="1b32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617b"/>
                </a:solidFill>
                <a:latin typeface="Georgia"/>
              </a:rPr>
              <a:t>Умови для організації інклюзивного навчанн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абезпечення безперешкодного доступу до будівель та приміщень такого заклад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абезпечення необхідними навчально-методичними і наочно-дидактичними посібниками та індивідуальними технічними засобами навчанн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блаштування кабінетів учителя-дефектолога, психологічного розвантаження, логопедичного для проведення корекційно-розвиткових заня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абезпечення відповідними педагогічними кадрами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2" name="Picture 1" descr="D:\Мои рисунки\мои заставки\1335362437_86655880.jpg"/>
          <p:cNvPicPr/>
          <p:nvPr/>
        </p:nvPicPr>
        <p:blipFill>
          <a:blip r:embed="rId1"/>
          <a:stretch/>
        </p:blipFill>
        <p:spPr>
          <a:xfrm>
            <a:off x="971640" y="836640"/>
            <a:ext cx="12538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0" y="0"/>
            <a:ext cx="9144000" cy="114300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4617b"/>
                </a:solidFill>
                <a:latin typeface="Georgia"/>
              </a:rPr>
              <a:t>ОРГАНІЗАЦІЯ ТА ЗМІСТ ОСВІТНЬОГО ПРОЦЕСУ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4617b"/>
                </a:solidFill>
                <a:latin typeface="Georgia"/>
              </a:rPr>
              <a:t>В УМОВАХ ІНКЛЮЗИВНОЇ ШКОЛ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8380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518000" y="1609560"/>
            <a:ext cx="2179800" cy="2909880"/>
          </a:xfrm>
          <a:custGeom>
            <a:avLst/>
            <a:gdLst>
              <a:gd name="textAreaLeft" fmla="*/ 111600 w 2179800"/>
              <a:gd name="textAreaRight" fmla="*/ 2068200 w 2179800"/>
              <a:gd name="textAreaTop" fmla="*/ 111600 h 2909880"/>
              <a:gd name="textAreaBottom" fmla="*/ 2798280 h 2909880"/>
            </a:gdLst>
            <a:ahLst/>
            <a:rect l="textAreaLeft" t="textAreaTop" r="textAreaRight" b="textAreaBottom"/>
            <a:pathLst>
              <a:path w="21600" h="28833">
                <a:moveTo>
                  <a:pt x="3782" y="0"/>
                </a:moveTo>
                <a:arcTo wR="3782" hR="3782" stAng="16200000" swAng="-5400000"/>
                <a:lnTo>
                  <a:pt x="0" y="25051"/>
                </a:lnTo>
                <a:arcTo wR="3782" hR="3782" stAng="10800000" swAng="-5400000"/>
                <a:lnTo>
                  <a:pt x="17818" y="2883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4552920" y="1617840"/>
            <a:ext cx="2112840" cy="2854080"/>
          </a:xfrm>
          <a:custGeom>
            <a:avLst/>
            <a:gdLst>
              <a:gd name="textAreaLeft" fmla="*/ 102960 w 2112840"/>
              <a:gd name="textAreaRight" fmla="*/ 2009880 w 2112840"/>
              <a:gd name="textAreaTop" fmla="*/ 102960 h 2854080"/>
              <a:gd name="textAreaBottom" fmla="*/ 2751120 h 2854080"/>
            </a:gdLst>
            <a:ahLst/>
            <a:rect l="textAreaLeft" t="textAreaTop" r="textAreaRight" b="textAreaBottom"/>
            <a:pathLst>
              <a:path w="21600" h="29177">
                <a:moveTo>
                  <a:pt x="3600" y="0"/>
                </a:moveTo>
                <a:arcTo wR="3600" hR="3600" stAng="16200000" swAng="-5400000"/>
                <a:lnTo>
                  <a:pt x="0" y="25577"/>
                </a:lnTo>
                <a:arcTo wR="3600" hR="3600" stAng="10800000" swAng="-5400000"/>
                <a:lnTo>
                  <a:pt x="18000" y="29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570560" y="3718080"/>
            <a:ext cx="2082600" cy="723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570560" y="1639800"/>
            <a:ext cx="20826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268960" y="1295280"/>
            <a:ext cx="647640" cy="654120"/>
            <a:chOff x="5268960" y="1295280"/>
            <a:chExt cx="647640" cy="654120"/>
          </a:xfrm>
        </p:grpSpPr>
        <p:sp>
          <p:nvSpPr>
            <p:cNvPr id="191" name="Oval 11"/>
            <p:cNvSpPr/>
            <p:nvPr/>
          </p:nvSpPr>
          <p:spPr>
            <a:xfrm>
              <a:off x="5268960" y="1295280"/>
              <a:ext cx="647640" cy="65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5275440" y="1300320"/>
              <a:ext cx="626400" cy="633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5283360" y="1303920"/>
              <a:ext cx="611640" cy="61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4" name="Oval 14"/>
            <p:cNvSpPr/>
            <p:nvPr/>
          </p:nvSpPr>
          <p:spPr>
            <a:xfrm>
              <a:off x="5290200" y="1310040"/>
              <a:ext cx="581760" cy="57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5" name="Oval 15"/>
            <p:cNvSpPr/>
            <p:nvPr/>
          </p:nvSpPr>
          <p:spPr>
            <a:xfrm>
              <a:off x="5324040" y="1325520"/>
              <a:ext cx="516600" cy="46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6" name="Text Box 16"/>
          <p:cNvSpPr/>
          <p:nvPr/>
        </p:nvSpPr>
        <p:spPr>
          <a:xfrm>
            <a:off x="541044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4595760" y="2071800"/>
            <a:ext cx="207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259000" y="1609560"/>
            <a:ext cx="2182680" cy="2908440"/>
          </a:xfrm>
          <a:custGeom>
            <a:avLst/>
            <a:gdLst>
              <a:gd name="textAreaLeft" fmla="*/ 111600 w 2182680"/>
              <a:gd name="textAreaRight" fmla="*/ 2071080 w 2182680"/>
              <a:gd name="textAreaTop" fmla="*/ 111600 h 2908440"/>
              <a:gd name="textAreaBottom" fmla="*/ 2796840 h 2908440"/>
            </a:gdLst>
            <a:ahLst/>
            <a:rect l="textAreaLeft" t="textAreaTop" r="textAreaRight" b="textAreaBottom"/>
            <a:pathLst>
              <a:path w="21600" h="28781">
                <a:moveTo>
                  <a:pt x="3782" y="0"/>
                </a:moveTo>
                <a:arcTo wR="3782" hR="3782" stAng="16200000" swAng="-5400000"/>
                <a:lnTo>
                  <a:pt x="0" y="24999"/>
                </a:lnTo>
                <a:arcTo wR="3782" hR="3782" stAng="10800000" swAng="-5400000"/>
                <a:lnTo>
                  <a:pt x="17818" y="28781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2292480" y="1616040"/>
            <a:ext cx="2116080" cy="2854440"/>
          </a:xfrm>
          <a:custGeom>
            <a:avLst/>
            <a:gdLst>
              <a:gd name="textAreaLeft" fmla="*/ 102960 w 2116080"/>
              <a:gd name="textAreaRight" fmla="*/ 2013120 w 2116080"/>
              <a:gd name="textAreaTop" fmla="*/ 102960 h 2854440"/>
              <a:gd name="textAreaBottom" fmla="*/ 2751480 h 2854440"/>
            </a:gdLst>
            <a:ahLst/>
            <a:rect l="textAreaLeft" t="textAreaTop" r="textAreaRight" b="textAreaBottom"/>
            <a:pathLst>
              <a:path w="21600" h="29136">
                <a:moveTo>
                  <a:pt x="3600" y="0"/>
                </a:moveTo>
                <a:arcTo wR="3600" hR="3600" stAng="16200000" swAng="-5400000"/>
                <a:lnTo>
                  <a:pt x="0" y="25536"/>
                </a:lnTo>
                <a:arcTo wR="3600" hR="3600" stAng="10800000" swAng="-5400000"/>
                <a:lnTo>
                  <a:pt x="18000" y="29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2311560" y="3718080"/>
            <a:ext cx="2085840" cy="722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2311560" y="1639800"/>
            <a:ext cx="20858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Oval 22"/>
          <p:cNvSpPr/>
          <p:nvPr/>
        </p:nvSpPr>
        <p:spPr>
          <a:xfrm>
            <a:off x="3009960" y="1295280"/>
            <a:ext cx="649080" cy="654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Oval 23"/>
          <p:cNvSpPr/>
          <p:nvPr/>
        </p:nvSpPr>
        <p:spPr>
          <a:xfrm>
            <a:off x="3016080" y="1300320"/>
            <a:ext cx="628920" cy="6332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Oval 24"/>
          <p:cNvSpPr/>
          <p:nvPr/>
        </p:nvSpPr>
        <p:spPr>
          <a:xfrm>
            <a:off x="3024360" y="1303200"/>
            <a:ext cx="614160" cy="6192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Oval 25"/>
          <p:cNvSpPr/>
          <p:nvPr/>
        </p:nvSpPr>
        <p:spPr>
          <a:xfrm>
            <a:off x="3030480" y="1309680"/>
            <a:ext cx="582840" cy="576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Oval 26"/>
          <p:cNvSpPr/>
          <p:nvPr/>
        </p:nvSpPr>
        <p:spPr>
          <a:xfrm>
            <a:off x="3065400" y="1325520"/>
            <a:ext cx="5176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315144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2362320" y="1905120"/>
            <a:ext cx="207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провадженням інклюзивних програм займа-ється весь персо-нал школи, який забезпечує все-бічний розвиток особистості кож-ної дити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29"/>
          <p:cNvSpPr/>
          <p:nvPr/>
        </p:nvSpPr>
        <p:spPr>
          <a:xfrm>
            <a:off x="6784920" y="1609560"/>
            <a:ext cx="2179800" cy="2908440"/>
          </a:xfrm>
          <a:custGeom>
            <a:avLst/>
            <a:gdLst>
              <a:gd name="textAreaLeft" fmla="*/ 111600 w 2179800"/>
              <a:gd name="textAreaRight" fmla="*/ 2068200 w 2179800"/>
              <a:gd name="textAreaTop" fmla="*/ 111600 h 2908440"/>
              <a:gd name="textAreaBottom" fmla="*/ 2796840 h 2908440"/>
            </a:gdLst>
            <a:ahLst/>
            <a:rect l="textAreaLeft" t="textAreaTop" r="textAreaRight" b="textAreaBottom"/>
            <a:pathLst>
              <a:path w="21600" h="28819">
                <a:moveTo>
                  <a:pt x="3782" y="0"/>
                </a:moveTo>
                <a:arcTo wR="3782" hR="3782" stAng="16200000" swAng="-5400000"/>
                <a:lnTo>
                  <a:pt x="0" y="25037"/>
                </a:lnTo>
                <a:arcTo wR="3782" hR="3782" stAng="10800000" swAng="-5400000"/>
                <a:lnTo>
                  <a:pt x="17818" y="28819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AutoShape 30"/>
          <p:cNvSpPr/>
          <p:nvPr/>
        </p:nvSpPr>
        <p:spPr>
          <a:xfrm>
            <a:off x="6819840" y="1616040"/>
            <a:ext cx="2113200" cy="2854440"/>
          </a:xfrm>
          <a:custGeom>
            <a:avLst/>
            <a:gdLst>
              <a:gd name="textAreaLeft" fmla="*/ 102960 w 2113200"/>
              <a:gd name="textAreaRight" fmla="*/ 2010240 w 2113200"/>
              <a:gd name="textAreaTop" fmla="*/ 102960 h 2854440"/>
              <a:gd name="textAreaBottom" fmla="*/ 2751480 h 2854440"/>
            </a:gdLst>
            <a:ahLst/>
            <a:rect l="textAreaLeft" t="textAreaTop" r="textAreaRight" b="textAreaBottom"/>
            <a:pathLst>
              <a:path w="21600" h="29175">
                <a:moveTo>
                  <a:pt x="3600" y="0"/>
                </a:moveTo>
                <a:arcTo wR="3600" hR="3600" stAng="16200000" swAng="-5400000"/>
                <a:lnTo>
                  <a:pt x="0" y="25575"/>
                </a:lnTo>
                <a:arcTo wR="3600" hR="3600" stAng="10800000" swAng="-5400000"/>
                <a:lnTo>
                  <a:pt x="18000" y="29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6837480" y="3718080"/>
            <a:ext cx="2084400" cy="722160"/>
          </a:xfrm>
          <a:prstGeom prst="roundRect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6837480" y="1639800"/>
            <a:ext cx="2084400" cy="720720"/>
          </a:xfrm>
          <a:prstGeom prst="roundRect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3" name="Group 33"/>
          <p:cNvGrpSpPr/>
          <p:nvPr/>
        </p:nvGrpSpPr>
        <p:grpSpPr>
          <a:xfrm>
            <a:off x="7535880" y="1295280"/>
            <a:ext cx="647640" cy="654120"/>
            <a:chOff x="7535880" y="1295280"/>
            <a:chExt cx="647640" cy="654120"/>
          </a:xfrm>
        </p:grpSpPr>
        <p:sp>
          <p:nvSpPr>
            <p:cNvPr id="214" name="Oval 34"/>
            <p:cNvSpPr/>
            <p:nvPr/>
          </p:nvSpPr>
          <p:spPr>
            <a:xfrm>
              <a:off x="7535880" y="1295280"/>
              <a:ext cx="647640" cy="65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5" name="Oval 35"/>
            <p:cNvSpPr/>
            <p:nvPr/>
          </p:nvSpPr>
          <p:spPr>
            <a:xfrm>
              <a:off x="7542360" y="1300320"/>
              <a:ext cx="626400" cy="633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6" name="Oval 36"/>
            <p:cNvSpPr/>
            <p:nvPr/>
          </p:nvSpPr>
          <p:spPr>
            <a:xfrm>
              <a:off x="7550280" y="1303920"/>
              <a:ext cx="611640" cy="61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Oval 37"/>
            <p:cNvSpPr/>
            <p:nvPr/>
          </p:nvSpPr>
          <p:spPr>
            <a:xfrm>
              <a:off x="7557120" y="1310040"/>
              <a:ext cx="581760" cy="57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8" name="Oval 38"/>
            <p:cNvSpPr/>
            <p:nvPr/>
          </p:nvSpPr>
          <p:spPr>
            <a:xfrm>
              <a:off x="7590960" y="1325520"/>
              <a:ext cx="516600" cy="46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9" name="Text Box 39"/>
          <p:cNvSpPr/>
          <p:nvPr/>
        </p:nvSpPr>
        <p:spPr>
          <a:xfrm>
            <a:off x="767592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6858000" y="2057400"/>
            <a:ext cx="2071800" cy="2288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лани роботи з дітьми розроб-ляються коман-дою фахівців, які співпрацюють один з одни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41"/>
          <p:cNvSpPr/>
          <p:nvPr/>
        </p:nvSpPr>
        <p:spPr>
          <a:xfrm>
            <a:off x="6824520" y="4543560"/>
            <a:ext cx="2084400" cy="7855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AutoShape 42"/>
          <p:cNvSpPr/>
          <p:nvPr/>
        </p:nvSpPr>
        <p:spPr>
          <a:xfrm>
            <a:off x="0" y="1609560"/>
            <a:ext cx="2179800" cy="2909880"/>
          </a:xfrm>
          <a:custGeom>
            <a:avLst/>
            <a:gdLst>
              <a:gd name="textAreaLeft" fmla="*/ 111600 w 2179800"/>
              <a:gd name="textAreaRight" fmla="*/ 2068200 w 2179800"/>
              <a:gd name="textAreaTop" fmla="*/ 111600 h 2909880"/>
              <a:gd name="textAreaBottom" fmla="*/ 2798280 h 2909880"/>
            </a:gdLst>
            <a:ahLst/>
            <a:rect l="textAreaLeft" t="textAreaTop" r="textAreaRight" b="textAreaBottom"/>
            <a:pathLst>
              <a:path w="21600" h="28833">
                <a:moveTo>
                  <a:pt x="3782" y="0"/>
                </a:moveTo>
                <a:arcTo wR="3782" hR="3782" stAng="16200000" swAng="-5400000"/>
                <a:lnTo>
                  <a:pt x="0" y="25051"/>
                </a:lnTo>
                <a:arcTo wR="3782" hR="3782" stAng="10800000" swAng="-5400000"/>
                <a:lnTo>
                  <a:pt x="17818" y="2883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AutoShape 43"/>
          <p:cNvSpPr/>
          <p:nvPr/>
        </p:nvSpPr>
        <p:spPr>
          <a:xfrm>
            <a:off x="33480" y="1617840"/>
            <a:ext cx="2112840" cy="2854080"/>
          </a:xfrm>
          <a:custGeom>
            <a:avLst/>
            <a:gdLst>
              <a:gd name="textAreaLeft" fmla="*/ 102960 w 2112840"/>
              <a:gd name="textAreaRight" fmla="*/ 2009880 w 2112840"/>
              <a:gd name="textAreaTop" fmla="*/ 102960 h 2854080"/>
              <a:gd name="textAreaBottom" fmla="*/ 2751120 h 2854080"/>
            </a:gdLst>
            <a:ahLst/>
            <a:rect l="textAreaLeft" t="textAreaTop" r="textAreaRight" b="textAreaBottom"/>
            <a:pathLst>
              <a:path w="21600" h="29177">
                <a:moveTo>
                  <a:pt x="3600" y="0"/>
                </a:moveTo>
                <a:arcTo wR="3600" hR="3600" stAng="16200000" swAng="-5400000"/>
                <a:lnTo>
                  <a:pt x="0" y="25577"/>
                </a:lnTo>
                <a:arcTo wR="3600" hR="3600" stAng="10800000" swAng="-5400000"/>
                <a:lnTo>
                  <a:pt x="18000" y="29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AutoShape 44"/>
          <p:cNvSpPr/>
          <p:nvPr/>
        </p:nvSpPr>
        <p:spPr>
          <a:xfrm>
            <a:off x="50760" y="3718080"/>
            <a:ext cx="2084400" cy="723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45"/>
          <p:cNvSpPr/>
          <p:nvPr/>
        </p:nvSpPr>
        <p:spPr>
          <a:xfrm>
            <a:off x="50760" y="1639800"/>
            <a:ext cx="20844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6" name="Group 46"/>
          <p:cNvGrpSpPr/>
          <p:nvPr/>
        </p:nvGrpSpPr>
        <p:grpSpPr>
          <a:xfrm>
            <a:off x="750960" y="1295280"/>
            <a:ext cx="647640" cy="654120"/>
            <a:chOff x="750960" y="1295280"/>
            <a:chExt cx="647640" cy="654120"/>
          </a:xfrm>
        </p:grpSpPr>
        <p:sp>
          <p:nvSpPr>
            <p:cNvPr id="227" name="Oval 47"/>
            <p:cNvSpPr/>
            <p:nvPr/>
          </p:nvSpPr>
          <p:spPr>
            <a:xfrm>
              <a:off x="750960" y="1295280"/>
              <a:ext cx="647640" cy="65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8" name="Oval 48"/>
            <p:cNvSpPr/>
            <p:nvPr/>
          </p:nvSpPr>
          <p:spPr>
            <a:xfrm>
              <a:off x="757440" y="1300320"/>
              <a:ext cx="626400" cy="633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Oval 49"/>
            <p:cNvSpPr/>
            <p:nvPr/>
          </p:nvSpPr>
          <p:spPr>
            <a:xfrm>
              <a:off x="765360" y="1303920"/>
              <a:ext cx="611640" cy="61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Oval 50"/>
            <p:cNvSpPr/>
            <p:nvPr/>
          </p:nvSpPr>
          <p:spPr>
            <a:xfrm>
              <a:off x="772200" y="1310040"/>
              <a:ext cx="581760" cy="57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1" name="Oval 51"/>
            <p:cNvSpPr/>
            <p:nvPr/>
          </p:nvSpPr>
          <p:spPr>
            <a:xfrm>
              <a:off x="806040" y="1325520"/>
              <a:ext cx="516600" cy="46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32" name="Text Box 52"/>
          <p:cNvSpPr/>
          <p:nvPr/>
        </p:nvSpPr>
        <p:spPr>
          <a:xfrm>
            <a:off x="88920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0" y="1916280"/>
            <a:ext cx="207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чанням дітей з особливими по-требами займа-ються вчителі за-гального профі-лю в звичайних клас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4572000" y="1905120"/>
            <a:ext cx="2041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атьки та інші члени родини активно залуча-ються до прий-няття рішень, що стосуються навчання та ви-ховання їхніх   ді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D:\Мои рисунки\мои заставки\img009.jpg"/>
          <p:cNvPicPr/>
          <p:nvPr/>
        </p:nvPicPr>
        <p:blipFill>
          <a:blip r:embed="rId1"/>
          <a:stretch/>
        </p:blipFill>
        <p:spPr>
          <a:xfrm>
            <a:off x="244440" y="5724360"/>
            <a:ext cx="8582040" cy="8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5565600" y="4408560"/>
            <a:ext cx="2017800" cy="633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990720" y="2587680"/>
            <a:ext cx="226224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5638680" y="2590920"/>
            <a:ext cx="201780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4110120" y="2313000"/>
            <a:ext cx="50148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3422520" y="4408560"/>
            <a:ext cx="202104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3422520" y="2587680"/>
            <a:ext cx="202104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79280" y="836640"/>
            <a:ext cx="8785440" cy="115236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7e9632"/>
                </a:solidFill>
                <a:latin typeface="Georgia"/>
              </a:rPr>
              <a:t>ОРГАНІЗАЦІЯ ТА ЗМІСТ ОСВІТНЬОГО ПРОЦЕСУ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7e9632"/>
                </a:solidFill>
                <a:latin typeface="Georgia"/>
              </a:rPr>
              <a:t>В УМОВАХ ІНКЛЮЗИВНОЇ ШКОЛ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838080"/>
            <a:ext cx="9144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595760" y="2071800"/>
            <a:ext cx="207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6824520" y="4543560"/>
            <a:ext cx="2084400" cy="7855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5516640" y="2560680"/>
            <a:ext cx="2109600" cy="2549520"/>
          </a:xfrm>
          <a:custGeom>
            <a:avLst/>
            <a:gdLst>
              <a:gd name="textAreaLeft" fmla="*/ 108000 w 2109600"/>
              <a:gd name="textAreaRight" fmla="*/ 2001600 w 2109600"/>
              <a:gd name="textAreaTop" fmla="*/ 108000 h 2549520"/>
              <a:gd name="textAreaBottom" fmla="*/ 2441520 h 2549520"/>
            </a:gdLst>
            <a:ahLst/>
            <a:rect l="textAreaLeft" t="textAreaTop" r="textAreaRight" b="textAreaBottom"/>
            <a:pathLst>
              <a:path w="21600" h="26104">
                <a:moveTo>
                  <a:pt x="3782" y="0"/>
                </a:moveTo>
                <a:arcTo wR="3782" hR="3782" stAng="16200000" swAng="-5400000"/>
                <a:lnTo>
                  <a:pt x="0" y="22322"/>
                </a:lnTo>
                <a:arcTo wR="3782" hR="3782" stAng="10800000" swAng="-5400000"/>
                <a:lnTo>
                  <a:pt x="17818" y="2610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5508720" y="2568600"/>
            <a:ext cx="2415960" cy="2917800"/>
          </a:xfrm>
          <a:custGeom>
            <a:avLst/>
            <a:gdLst>
              <a:gd name="textAreaLeft" fmla="*/ 117720 w 2415960"/>
              <a:gd name="textAreaRight" fmla="*/ 2298240 w 2415960"/>
              <a:gd name="textAreaTop" fmla="*/ 117720 h 2917800"/>
              <a:gd name="textAreaBottom" fmla="*/ 2800080 h 2917800"/>
            </a:gdLst>
            <a:ahLst/>
            <a:rect l="textAreaLeft" t="textAreaTop" r="textAreaRight" b="textAreaBottom"/>
            <a:pathLst>
              <a:path w="21600" h="26086">
                <a:moveTo>
                  <a:pt x="3600" y="0"/>
                </a:moveTo>
                <a:arcTo wR="3600" hR="3600" stAng="16200000" swAng="-5400000"/>
                <a:lnTo>
                  <a:pt x="0" y="22486"/>
                </a:lnTo>
                <a:arcTo wR="3600" hR="3600" stAng="10800000" swAng="-5400000"/>
                <a:lnTo>
                  <a:pt x="18000" y="26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Індивідуалізовані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вчальні план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зробля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 врахування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льних сторін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костей, інтересі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итини, а також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її потре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6"/>
          <p:cNvGrpSpPr/>
          <p:nvPr/>
        </p:nvGrpSpPr>
        <p:grpSpPr>
          <a:xfrm>
            <a:off x="6400800" y="2362320"/>
            <a:ext cx="625320" cy="573120"/>
            <a:chOff x="6400800" y="2362320"/>
            <a:chExt cx="625320" cy="573120"/>
          </a:xfrm>
        </p:grpSpPr>
        <p:sp>
          <p:nvSpPr>
            <p:cNvPr id="250" name="Oval 17"/>
            <p:cNvSpPr/>
            <p:nvPr/>
          </p:nvSpPr>
          <p:spPr>
            <a:xfrm>
              <a:off x="6400800" y="2362320"/>
              <a:ext cx="625320" cy="573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Oval 18"/>
            <p:cNvSpPr/>
            <p:nvPr/>
          </p:nvSpPr>
          <p:spPr>
            <a:xfrm>
              <a:off x="6407280" y="2366640"/>
              <a:ext cx="604800" cy="55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Oval 19"/>
            <p:cNvSpPr/>
            <p:nvPr/>
          </p:nvSpPr>
          <p:spPr>
            <a:xfrm>
              <a:off x="6414480" y="2369880"/>
              <a:ext cx="590760" cy="541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Oval 20"/>
            <p:cNvSpPr/>
            <p:nvPr/>
          </p:nvSpPr>
          <p:spPr>
            <a:xfrm>
              <a:off x="6421320" y="2375280"/>
              <a:ext cx="561600" cy="505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Oval 21"/>
            <p:cNvSpPr/>
            <p:nvPr/>
          </p:nvSpPr>
          <p:spPr>
            <a:xfrm>
              <a:off x="6454080" y="2388960"/>
              <a:ext cx="498960" cy="41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5" name="Text Box 22"/>
          <p:cNvSpPr/>
          <p:nvPr/>
        </p:nvSpPr>
        <p:spPr>
          <a:xfrm>
            <a:off x="5591160" y="2965320"/>
            <a:ext cx="2005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3330720" y="2560680"/>
            <a:ext cx="2111400" cy="2547720"/>
          </a:xfrm>
          <a:custGeom>
            <a:avLst/>
            <a:gdLst>
              <a:gd name="textAreaLeft" fmla="*/ 108000 w 2111400"/>
              <a:gd name="textAreaRight" fmla="*/ 2003400 w 2111400"/>
              <a:gd name="textAreaTop" fmla="*/ 108000 h 2547720"/>
              <a:gd name="textAreaBottom" fmla="*/ 2439720 h 2547720"/>
            </a:gdLst>
            <a:ahLst/>
            <a:rect l="textAreaLeft" t="textAreaTop" r="textAreaRight" b="textAreaBottom"/>
            <a:pathLst>
              <a:path w="21600" h="26063">
                <a:moveTo>
                  <a:pt x="3782" y="0"/>
                </a:moveTo>
                <a:arcTo wR="3782" hR="3782" stAng="16200000" swAng="-5400000"/>
                <a:lnTo>
                  <a:pt x="0" y="22281"/>
                </a:lnTo>
                <a:arcTo wR="3782" hR="3782" stAng="10800000" swAng="-5400000"/>
                <a:lnTo>
                  <a:pt x="17818" y="2606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AutoShape 24"/>
          <p:cNvSpPr/>
          <p:nvPr/>
        </p:nvSpPr>
        <p:spPr>
          <a:xfrm>
            <a:off x="3362400" y="2567160"/>
            <a:ext cx="2073240" cy="2919240"/>
          </a:xfrm>
          <a:custGeom>
            <a:avLst/>
            <a:gdLst>
              <a:gd name="textAreaLeft" fmla="*/ 101160 w 2073240"/>
              <a:gd name="textAreaRight" fmla="*/ 1972080 w 2073240"/>
              <a:gd name="textAreaTop" fmla="*/ 101160 h 2919240"/>
              <a:gd name="textAreaBottom" fmla="*/ 2818080 h 2919240"/>
            </a:gdLst>
            <a:ahLst/>
            <a:rect l="textAreaLeft" t="textAreaTop" r="textAreaRight" b="textAreaBottom"/>
            <a:pathLst>
              <a:path w="21600" h="30413">
                <a:moveTo>
                  <a:pt x="3600" y="0"/>
                </a:moveTo>
                <a:arcTo wR="3600" hR="3600" stAng="16200000" swAng="-5400000"/>
                <a:lnTo>
                  <a:pt x="0" y="26813"/>
                </a:lnTo>
                <a:arcTo wR="3600" hR="3600" stAng="10800000" swAng="-5400000"/>
                <a:lnTo>
                  <a:pt x="18000" y="30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фективніст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грам пос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ійно оціню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єть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Oval 25"/>
          <p:cNvSpPr/>
          <p:nvPr/>
        </p:nvSpPr>
        <p:spPr>
          <a:xfrm>
            <a:off x="4056120" y="2286000"/>
            <a:ext cx="628560" cy="573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Oval 26"/>
          <p:cNvSpPr/>
          <p:nvPr/>
        </p:nvSpPr>
        <p:spPr>
          <a:xfrm>
            <a:off x="4062240" y="2290680"/>
            <a:ext cx="608040" cy="5540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Oval 27"/>
          <p:cNvSpPr/>
          <p:nvPr/>
        </p:nvSpPr>
        <p:spPr>
          <a:xfrm>
            <a:off x="4070520" y="2292480"/>
            <a:ext cx="593640" cy="5428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Oval 28"/>
          <p:cNvSpPr/>
          <p:nvPr/>
        </p:nvSpPr>
        <p:spPr>
          <a:xfrm>
            <a:off x="4076640" y="2298600"/>
            <a:ext cx="563760" cy="505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AutoShape 29"/>
          <p:cNvSpPr/>
          <p:nvPr/>
        </p:nvSpPr>
        <p:spPr>
          <a:xfrm>
            <a:off x="7748640" y="5130720"/>
            <a:ext cx="2017800" cy="6890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AutoShape 30"/>
          <p:cNvSpPr/>
          <p:nvPr/>
        </p:nvSpPr>
        <p:spPr>
          <a:xfrm>
            <a:off x="1143000" y="2560680"/>
            <a:ext cx="2109960" cy="2549520"/>
          </a:xfrm>
          <a:custGeom>
            <a:avLst/>
            <a:gdLst>
              <a:gd name="textAreaLeft" fmla="*/ 108000 w 2109960"/>
              <a:gd name="textAreaRight" fmla="*/ 2001960 w 2109960"/>
              <a:gd name="textAreaTop" fmla="*/ 108000 h 2549520"/>
              <a:gd name="textAreaBottom" fmla="*/ 2441520 h 2549520"/>
            </a:gdLst>
            <a:ahLst/>
            <a:rect l="textAreaLeft" t="textAreaTop" r="textAreaRight" b="textAreaBottom"/>
            <a:pathLst>
              <a:path w="21600" h="26099">
                <a:moveTo>
                  <a:pt x="3782" y="0"/>
                </a:moveTo>
                <a:arcTo wR="3782" hR="3782" stAng="16200000" swAng="-5400000"/>
                <a:lnTo>
                  <a:pt x="0" y="22317"/>
                </a:lnTo>
                <a:arcTo wR="3782" hR="3782" stAng="10800000" swAng="-5400000"/>
                <a:lnTo>
                  <a:pt x="17818" y="26099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1999080" y="23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65552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41929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 Box 34"/>
          <p:cNvSpPr/>
          <p:nvPr/>
        </p:nvSpPr>
        <p:spPr>
          <a:xfrm>
            <a:off x="3429000" y="29718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AutoShape 35"/>
          <p:cNvSpPr/>
          <p:nvPr/>
        </p:nvSpPr>
        <p:spPr>
          <a:xfrm>
            <a:off x="826920" y="2565360"/>
            <a:ext cx="2502000" cy="2917800"/>
          </a:xfrm>
          <a:custGeom>
            <a:avLst/>
            <a:gdLst>
              <a:gd name="textAreaLeft" fmla="*/ 122040 w 2502000"/>
              <a:gd name="textAreaRight" fmla="*/ 2379960 w 2502000"/>
              <a:gd name="textAreaTop" fmla="*/ 122040 h 2917800"/>
              <a:gd name="textAreaBottom" fmla="*/ 2795760 h 2917800"/>
            </a:gdLst>
            <a:ahLst/>
            <a:rect l="textAreaLeft" t="textAreaTop" r="textAreaRight" b="textAreaBottom"/>
            <a:pathLst>
              <a:path w="21600" h="25189">
                <a:moveTo>
                  <a:pt x="3600" y="0"/>
                </a:moveTo>
                <a:arcTo wR="3600" hR="3600" stAng="16200000" swAng="-5400000"/>
                <a:lnTo>
                  <a:pt x="0" y="21589"/>
                </a:lnTo>
                <a:arcTo wR="3600" hR="3600" stAng="10800000" swAng="-5400000"/>
                <a:lnTo>
                  <a:pt x="18000" y="25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9" name="Group 36"/>
          <p:cNvGrpSpPr/>
          <p:nvPr/>
        </p:nvGrpSpPr>
        <p:grpSpPr>
          <a:xfrm>
            <a:off x="1752480" y="2286000"/>
            <a:ext cx="625680" cy="573120"/>
            <a:chOff x="1752480" y="2286000"/>
            <a:chExt cx="625680" cy="573120"/>
          </a:xfrm>
        </p:grpSpPr>
        <p:sp>
          <p:nvSpPr>
            <p:cNvPr id="270" name="Oval 37"/>
            <p:cNvSpPr/>
            <p:nvPr/>
          </p:nvSpPr>
          <p:spPr>
            <a:xfrm>
              <a:off x="1752480" y="2286000"/>
              <a:ext cx="625680" cy="573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Oval 38"/>
            <p:cNvSpPr/>
            <p:nvPr/>
          </p:nvSpPr>
          <p:spPr>
            <a:xfrm>
              <a:off x="1758960" y="2290320"/>
              <a:ext cx="605160" cy="55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Oval 39"/>
            <p:cNvSpPr/>
            <p:nvPr/>
          </p:nvSpPr>
          <p:spPr>
            <a:xfrm>
              <a:off x="1766160" y="2293560"/>
              <a:ext cx="591120" cy="541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Oval 40"/>
            <p:cNvSpPr/>
            <p:nvPr/>
          </p:nvSpPr>
          <p:spPr>
            <a:xfrm>
              <a:off x="1773000" y="2298960"/>
              <a:ext cx="561960" cy="505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1805760" y="2312640"/>
              <a:ext cx="499320" cy="41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5" name="Text Box 42"/>
          <p:cNvSpPr/>
          <p:nvPr/>
        </p:nvSpPr>
        <p:spPr>
          <a:xfrm>
            <a:off x="762120" y="2965320"/>
            <a:ext cx="250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лі та відпові-дальність всіх пра-цівників чітко виз-начен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43"/>
          <p:cNvSpPr/>
          <p:nvPr/>
        </p:nvSpPr>
        <p:spPr>
          <a:xfrm>
            <a:off x="5700600" y="2933640"/>
            <a:ext cx="19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19069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33520" y="137160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13716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3" name="Diagram 8"/>
          <p:cNvGrpSpPr/>
          <p:nvPr/>
        </p:nvGrpSpPr>
        <p:grpSpPr>
          <a:xfrm>
            <a:off x="10440" y="233280"/>
            <a:ext cx="9122040" cy="6157800"/>
            <a:chOff x="10440" y="233280"/>
            <a:chExt cx="9122040" cy="6157800"/>
          </a:xfrm>
        </p:grpSpPr>
        <p:sp>
          <p:nvSpPr>
            <p:cNvPr id="284" name="_s1028"/>
            <p:cNvSpPr/>
            <p:nvPr/>
          </p:nvSpPr>
          <p:spPr>
            <a:xfrm flipH="1" flipV="1">
              <a:off x="2960280" y="22240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_s1029"/>
            <p:cNvSpPr/>
            <p:nvPr/>
          </p:nvSpPr>
          <p:spPr>
            <a:xfrm>
              <a:off x="1012320" y="90972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БАТЬК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_s1030"/>
            <p:cNvSpPr/>
            <p:nvPr/>
          </p:nvSpPr>
          <p:spPr>
            <a:xfrm flipH="1">
              <a:off x="2292840" y="3312360"/>
              <a:ext cx="114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_s1031"/>
            <p:cNvSpPr/>
            <p:nvPr/>
          </p:nvSpPr>
          <p:spPr>
            <a:xfrm>
              <a:off x="10440" y="2541960"/>
              <a:ext cx="228240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МЕД-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ПРАЦІВНИК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_s1032"/>
            <p:cNvSpPr/>
            <p:nvPr/>
          </p:nvSpPr>
          <p:spPr>
            <a:xfrm flipH="1">
              <a:off x="2960280" y="38548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_s1033"/>
            <p:cNvSpPr/>
            <p:nvPr/>
          </p:nvSpPr>
          <p:spPr>
            <a:xfrm>
              <a:off x="1012320" y="417456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ЛОГОПЕД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_s1034"/>
            <p:cNvSpPr/>
            <p:nvPr/>
          </p:nvSpPr>
          <p:spPr>
            <a:xfrm>
              <a:off x="4571640" y="4080240"/>
              <a:ext cx="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_s1035"/>
            <p:cNvSpPr/>
            <p:nvPr/>
          </p:nvSpPr>
          <p:spPr>
            <a:xfrm>
              <a:off x="3430800" y="4850280"/>
              <a:ext cx="2281680" cy="15408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ПСИХОЛОГ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_s1036"/>
            <p:cNvSpPr/>
            <p:nvPr/>
          </p:nvSpPr>
          <p:spPr>
            <a:xfrm>
              <a:off x="5375520" y="38548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_s1037"/>
            <p:cNvSpPr/>
            <p:nvPr/>
          </p:nvSpPr>
          <p:spPr>
            <a:xfrm>
              <a:off x="5849280" y="417456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СОЦІАЛЬНИЙ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ПЕДАГОГ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_s1038"/>
            <p:cNvSpPr/>
            <p:nvPr/>
          </p:nvSpPr>
          <p:spPr>
            <a:xfrm>
              <a:off x="5709240" y="3312360"/>
              <a:ext cx="114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5" name="_s1039"/>
            <p:cNvSpPr/>
            <p:nvPr/>
          </p:nvSpPr>
          <p:spPr>
            <a:xfrm>
              <a:off x="6850080" y="2541960"/>
              <a:ext cx="228240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АДМІНІСТРАЦІЯ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_s1040"/>
            <p:cNvSpPr/>
            <p:nvPr/>
          </p:nvSpPr>
          <p:spPr>
            <a:xfrm flipV="1">
              <a:off x="5375520" y="22240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_s1041"/>
            <p:cNvSpPr/>
            <p:nvPr/>
          </p:nvSpPr>
          <p:spPr>
            <a:xfrm>
              <a:off x="5849280" y="90972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АСИСТЕНТ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ВЧИТЕЛЯ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_s1042"/>
            <p:cNvSpPr/>
            <p:nvPr/>
          </p:nvSpPr>
          <p:spPr>
            <a:xfrm flipV="1">
              <a:off x="4571640" y="1773720"/>
              <a:ext cx="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_s1043"/>
            <p:cNvSpPr/>
            <p:nvPr/>
          </p:nvSpPr>
          <p:spPr>
            <a:xfrm>
              <a:off x="3430800" y="233280"/>
              <a:ext cx="2281680" cy="15408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ВЧИТЕЛЬ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_s1044"/>
            <p:cNvSpPr/>
            <p:nvPr/>
          </p:nvSpPr>
          <p:spPr>
            <a:xfrm>
              <a:off x="3430800" y="2544120"/>
              <a:ext cx="2281680" cy="1540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ДИТИНА З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ОСОБЛИВИМ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 </a:t>
              </a: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ПОТРЕБАМ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AutoShape 27"/>
          <p:cNvSpPr/>
          <p:nvPr/>
        </p:nvSpPr>
        <p:spPr>
          <a:xfrm rot="1388400">
            <a:off x="5715000" y="228600"/>
            <a:ext cx="1062000" cy="685800"/>
          </a:xfrm>
          <a:custGeom>
            <a:avLst/>
            <a:gdLst>
              <a:gd name="textAreaLeft" fmla="*/ 185760 w 1062000"/>
              <a:gd name="textAreaRight" fmla="*/ 7700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40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AutoShape 28"/>
          <p:cNvSpPr/>
          <p:nvPr/>
        </p:nvSpPr>
        <p:spPr>
          <a:xfrm rot="14249400">
            <a:off x="-87120" y="4125600"/>
            <a:ext cx="1214280" cy="7351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5120"/>
              <a:gd name="textAreaBottom" fmla="*/ 636840 h 73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27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29"/>
          <p:cNvSpPr/>
          <p:nvPr/>
        </p:nvSpPr>
        <p:spPr>
          <a:xfrm rot="18379200">
            <a:off x="-37800" y="1485720"/>
            <a:ext cx="1201680" cy="820800"/>
          </a:xfrm>
          <a:custGeom>
            <a:avLst/>
            <a:gdLst>
              <a:gd name="textAreaLeft" fmla="*/ 210240 w 1201680"/>
              <a:gd name="textAreaRight" fmla="*/ 871200 w 120168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6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30"/>
          <p:cNvSpPr/>
          <p:nvPr/>
        </p:nvSpPr>
        <p:spPr>
          <a:xfrm rot="19294200">
            <a:off x="2421000" y="250560"/>
            <a:ext cx="1393920" cy="555480"/>
          </a:xfrm>
          <a:custGeom>
            <a:avLst/>
            <a:gdLst>
              <a:gd name="textAreaLeft" fmla="*/ 243720 w 1393920"/>
              <a:gd name="textAreaRight" fmla="*/ 1010520 w 1393920"/>
              <a:gd name="textAreaTop" fmla="*/ 74160 h 555480"/>
              <a:gd name="textAreaBottom" fmla="*/ 481320 h 55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713243"/>
                <a:lnTo>
                  <a:pt x="21471" y="17630"/>
                </a:lnTo>
                <a:lnTo>
                  <a:pt x="17280" y="21600"/>
                </a:lnTo>
                <a:lnTo>
                  <a:pt x="12831" y="17630"/>
                </a:lnTo>
                <a:lnTo>
                  <a:pt x="14991" y="17630"/>
                </a:lnTo>
                <a:arcTo wR="7560" hR="21600" stAng="-1686757" swAng="-3355808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77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AutoShape 31"/>
          <p:cNvSpPr/>
          <p:nvPr/>
        </p:nvSpPr>
        <p:spPr>
          <a:xfrm rot="6786000">
            <a:off x="7913160" y="4278240"/>
            <a:ext cx="1214640" cy="735120"/>
          </a:xfrm>
          <a:custGeom>
            <a:avLst/>
            <a:gdLst>
              <a:gd name="textAreaLeft" fmla="*/ 217080 w 1214640"/>
              <a:gd name="textAreaRight" fmla="*/ 857880 w 1214640"/>
              <a:gd name="textAreaTop" fmla="*/ 98280 h 735120"/>
              <a:gd name="textAreaBottom" fmla="*/ 636840 h 73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4" hR="21600" stAng="10800000" swAng="5400000"/>
                <a:lnTo>
                  <a:pt x="11390" y="0"/>
                </a:lnTo>
                <a:arcTo wR="7724" hR="21600" stAng="-5400000" swAng="2719414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5005" y="14400"/>
                </a:lnTo>
                <a:arcTo wR="7724" hR="21600" stAng="-2680586" swAng="-2419864"/>
                <a:lnTo>
                  <a:pt x="9557" y="617"/>
                </a:lnTo>
                <a:arcTo wR="7724" hR="21600" stAng="-5699551" swAng="-5100449"/>
                <a:close/>
              </a:path>
              <a:path fill="darkenLess" w="21600" h="21600">
                <a:moveTo>
                  <a:pt x="0" y="21600"/>
                </a:moveTo>
                <a:arcTo wR="7724" hR="21600" stAng="10800000" swAng="5400000"/>
                <a:lnTo>
                  <a:pt x="7724" y="0"/>
                </a:lnTo>
                <a:arcTo wR="7724" hR="21600" stAng="-5400000" swAng="299551"/>
                <a:lnTo>
                  <a:pt x="9557" y="617"/>
                </a:lnTo>
                <a:arcTo wR="7724" hR="21600" stAng="-5699551" swAng="-5100449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0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AutoShape 32"/>
          <p:cNvSpPr/>
          <p:nvPr/>
        </p:nvSpPr>
        <p:spPr>
          <a:xfrm rot="4645800">
            <a:off x="8065800" y="1687320"/>
            <a:ext cx="1214280" cy="73476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4760"/>
              <a:gd name="textAreaBottom" fmla="*/ 636480 h 73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7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AutoShape 33"/>
          <p:cNvSpPr/>
          <p:nvPr/>
        </p:nvSpPr>
        <p:spPr>
          <a:xfrm rot="12532200">
            <a:off x="2361960" y="5714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44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AutoShape 34"/>
          <p:cNvSpPr/>
          <p:nvPr/>
        </p:nvSpPr>
        <p:spPr>
          <a:xfrm rot="9286200">
            <a:off x="5506200" y="5784480"/>
            <a:ext cx="1143000" cy="6858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77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Georgia"/>
              </a:rPr>
              <a:t>Склад шкільного консиліуму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формується залежно від мети, але обов’язковими учасниками є 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практичний психолог, класний керівник, соціальний педагог, учителі-предметники, дефектолог, вчитель-логопед, медичний працівник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кладу. Оптимальний склад команди визначається тією кількістю фахівців, яка забезпечить реалізацію індивідуального навчального плану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7:14:40Z</dcterms:created>
  <dc:creator>UserXP</dc:creator>
  <dc:description/>
  <dc:language>en-US</dc:language>
  <cp:lastModifiedBy>Юлия</cp:lastModifiedBy>
  <dcterms:modified xsi:type="dcterms:W3CDTF">2015-03-25T11:33:00Z</dcterms:modified>
  <cp:revision>10</cp:revision>
  <dc:subject/>
  <dc:title>Слайд 1</dc:title>
</cp:coreProperties>
</file>