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6ED-2682-4E6B-8F2D-0DB420C3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9EA-D048-44B3-8B57-E13C726F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493-AF0A-4FD4-9A34-2A284A90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0183-AF4E-4AF4-8C03-8EC15338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5F6D-08F1-4EB4-BCF4-324E5EF5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9CD2-BFE3-47D7-90B0-E18C6961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110D-266B-4AF4-B365-E079340C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00C0-BD71-4636-A4A6-28D4410A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08EF-5220-4035-855D-1D133385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B064-59B8-4535-97D5-C908EEDE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2EFD-5C0A-4D83-ACF7-EFD5BCB5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C74-E040-4DF4-9522-8570DDCB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3A46-7169-44A1-9F07-7379CA4F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BB0E-344A-4243-8514-0F06B6BA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0502-1AF0-4DA2-8E6E-A1AD45A1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02D4-DCE1-499B-BB09-55320629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3C2E-B053-460B-AAAA-F04A5391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8F6-142E-4F43-88FE-2E4E9F4A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451-7542-4E04-ABE9-37E235F1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2EF7-99D5-4E42-952B-3F80849F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A92-DE14-4DA1-B61E-360C36A1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D83E-B93B-4BF2-AD24-B34DEC7C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FF2-50F4-40A3-A454-D9F4936B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3913-C497-4AA7-ABE3-0F1F7CE6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D4F3-85A3-4D6F-AA21-3AD8F07501B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D171-0528-4F6C-93BC-021CE2A399B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330033"/>
                </a:solidFill>
                <a:latin typeface="Times New Roman"/>
              </a:rPr>
              <a:t>Нормативне забезпеченн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0040" y="1052640"/>
            <a:ext cx="842976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онституція Украї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кон України 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вернення громадя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каз Президента України від 7 лютого 2008 року             № 109/2008 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ершочергові заходи щодо забезпечення реалізації та гарантування конституційного права на звернення до органів державної влади та органів місцевого самоврядуванн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станова Кабінету Міністрів України від 24 червня 2009 року № 630 «Про затвердження Методики оцінювання рівня організації роботи із зверненнями громадян в органах виконавчої влад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порядження ХОДА від 27 грудня 2010 року № 737 «Про вдосконалення роботи із зверненнями громадя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порядження ХОДА від 16 квітня 2015 року № 164 «Про підсумки роботи із зверненнями громадя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Зміни </a:t>
            </a:r>
            <a:br>
              <a:rPr sz="3800"/>
            </a:b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в нормативному забезпеченні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кон України “Про внесення змін до Закону України “Про звернення громадян” щодо електронного звернення та електронної петиції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9T09:35:07Z</dcterms:created>
  <dc:creator>багатька</dc:creator>
  <dc:description/>
  <dc:language>en-US</dc:language>
  <cp:lastModifiedBy>Секрктарь</cp:lastModifiedBy>
  <dcterms:modified xsi:type="dcterms:W3CDTF">2016-02-08T11:02:47Z</dcterms:modified>
  <cp:revision>52</cp:revision>
  <dc:subject/>
  <dc:title>Про стан роботи зі зверненнями громадян у ІІ кварталі 2014 року</dc:title>
</cp:coreProperties>
</file>