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5CF-A8F6-46C1-B806-CA3A50ED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446-36AD-491D-8C84-1ECB0E8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387-5F1D-4D4F-8ACF-F3F9DAA2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29D-F86E-438D-BD5E-7DAA84EB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3A21-00D8-4E85-9A90-B13C9776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C4BC-AA97-4286-8CD9-20962160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9ACB-6B35-46FC-9C1F-D1FD8374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A464-7994-4021-B7F0-85604394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BBF7-E5E3-428F-B483-94AD72E5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3514-F529-4867-A671-8FC819D7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812F-6188-40DA-B260-B7FF82C6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E8E-F737-414E-B0CD-955EC2D7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C74C-923A-4770-987B-9FDF09BC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69FA-728D-4DF4-A50F-C56685A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3504-BCDD-4A8A-B9E0-25E1BA4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46E2-1DA5-4C74-B3EF-7B4D6477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9F52-98B4-4C42-B7DA-5A03B04E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C8D-0F47-41E2-8800-E46F222C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EB3-FF9B-4274-9184-DD81DDB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734-78F5-4A06-8074-6C25CBB5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D3E-12D2-4052-8A26-DD95B4B3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2E4-84D1-4AB1-B69C-3F2747F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E2E-A0C8-40A2-8818-AA2954B2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0EF-1EDC-4EFD-A855-AF61FC7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3844-1AED-4BBA-B981-390EBC5274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4DE1-DC21-4CBD-9E5B-40E02BFD3F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Нормативне забезпечен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052640"/>
            <a:ext cx="84297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ституція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он України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вернення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каз Президента України від 7 лютого 2008 року             № 109/2008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шочергові заходи щодо забезпечення реалізації та гарантування конституційного права на звернення до органів державної влади та органів місцевого самоврядуван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24 червня 2009 року № 630 «Про затвердження Методики оцінювання рівня організації роботи із зверненнями громадян в органах виконавчої вла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27 грудня 2010 року № 737 «Про вдосконалення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16 квітня 2015 року № 164 «Про підсумки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міни 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в нормативному забезпеченн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кон України “Про внесення змін до Закону України “Про звернення громадян” щодо електронного звернення та електронної петиці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9:35:07Z</dcterms:created>
  <dc:creator>багатька</dc:creator>
  <dc:description/>
  <dc:language>en-US</dc:language>
  <cp:lastModifiedBy>Секрктарь</cp:lastModifiedBy>
  <dcterms:modified xsi:type="dcterms:W3CDTF">2016-02-08T11:02:47Z</dcterms:modified>
  <cp:revision>52</cp:revision>
  <dc:subject/>
  <dc:title>Про стан роботи зі зверненнями громадян у ІІ кварталі 2014 року</dc:title>
</cp:coreProperties>
</file>